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70B9D8EA-693B-4298-94E0-96F097E4187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97F49DDA-B1B9-4D8E-B6D9-DF901CF0987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../../../Handouts/Ex4 - Back-up.ppt" TargetMode="Externa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../../../Handouts/Ex4 - Back-up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4: Quality Management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ropos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918360" y="5022720"/>
            <a:ext cx="60199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Chris:  Project Manager for </a:t>
            </a:r>
            <a:r>
              <a:rPr b="1" i="1" lang="en-US" sz="2700" spc="-1" strike="noStrike">
                <a:solidFill>
                  <a:srgbClr val="39536b"/>
                </a:solidFill>
                <a:latin typeface="Arial"/>
              </a:rPr>
              <a:t>WebWiz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918720" y="5686560"/>
            <a:ext cx="592380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Pat:  Quality Assurance for WebInc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6" name="Group 5"/>
          <p:cNvGrpSpPr/>
          <p:nvPr/>
        </p:nvGrpSpPr>
        <p:grpSpPr>
          <a:xfrm>
            <a:off x="1062000" y="1771560"/>
            <a:ext cx="5994360" cy="2617920"/>
            <a:chOff x="1062000" y="1771560"/>
            <a:chExt cx="5994360" cy="2617920"/>
          </a:xfrm>
        </p:grpSpPr>
        <p:sp>
          <p:nvSpPr>
            <p:cNvPr id="117" name="Freeform 6"/>
            <p:cNvSpPr/>
            <p:nvPr/>
          </p:nvSpPr>
          <p:spPr>
            <a:xfrm>
              <a:off x="2682720" y="1814400"/>
              <a:ext cx="349560" cy="347760"/>
            </a:xfrm>
            <a:custGeom>
              <a:avLst/>
              <a:gdLst>
                <a:gd name="textAreaLeft" fmla="*/ 0 w 349560"/>
                <a:gd name="textAreaRight" fmla="*/ 349920 w 3495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220" h="219">
                  <a:moveTo>
                    <a:pt x="0" y="0"/>
                  </a:moveTo>
                  <a:lnTo>
                    <a:pt x="65" y="52"/>
                  </a:lnTo>
                  <a:lnTo>
                    <a:pt x="127" y="109"/>
                  </a:lnTo>
                  <a:lnTo>
                    <a:pt x="219" y="218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>
              <a:off x="4133880" y="4282920"/>
              <a:ext cx="5922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Freeform 8"/>
            <p:cNvSpPr/>
            <p:nvPr/>
          </p:nvSpPr>
          <p:spPr>
            <a:xfrm>
              <a:off x="2781360" y="1838160"/>
              <a:ext cx="366480" cy="324000"/>
            </a:xfrm>
            <a:custGeom>
              <a:avLst/>
              <a:gdLst>
                <a:gd name="textAreaLeft" fmla="*/ 0 w 366480"/>
                <a:gd name="textAreaRight" fmla="*/ 366840 w 36648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231" h="204">
                  <a:moveTo>
                    <a:pt x="0" y="0"/>
                  </a:moveTo>
                  <a:lnTo>
                    <a:pt x="65" y="44"/>
                  </a:lnTo>
                  <a:lnTo>
                    <a:pt x="124" y="94"/>
                  </a:lnTo>
                  <a:lnTo>
                    <a:pt x="230" y="20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Freeform 9"/>
            <p:cNvSpPr/>
            <p:nvPr/>
          </p:nvSpPr>
          <p:spPr>
            <a:xfrm>
              <a:off x="2954160" y="1901880"/>
              <a:ext cx="304920" cy="25560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92" h="161">
                  <a:moveTo>
                    <a:pt x="0" y="0"/>
                  </a:moveTo>
                  <a:lnTo>
                    <a:pt x="66" y="44"/>
                  </a:lnTo>
                  <a:lnTo>
                    <a:pt x="124" y="95"/>
                  </a:lnTo>
                  <a:lnTo>
                    <a:pt x="191" y="160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Freeform 10"/>
            <p:cNvSpPr/>
            <p:nvPr/>
          </p:nvSpPr>
          <p:spPr>
            <a:xfrm>
              <a:off x="5783400" y="1933560"/>
              <a:ext cx="569880" cy="355680"/>
            </a:xfrm>
            <a:custGeom>
              <a:avLst/>
              <a:gdLst>
                <a:gd name="textAreaLeft" fmla="*/ 0 w 569880"/>
                <a:gd name="textAreaRight" fmla="*/ 570240 w 56988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359" h="224">
                  <a:moveTo>
                    <a:pt x="0" y="0"/>
                  </a:moveTo>
                  <a:lnTo>
                    <a:pt x="117" y="62"/>
                  </a:lnTo>
                  <a:lnTo>
                    <a:pt x="237" y="138"/>
                  </a:lnTo>
                  <a:lnTo>
                    <a:pt x="358" y="22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3795840" y="2128680"/>
              <a:ext cx="25034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3795840" y="2255760"/>
              <a:ext cx="26938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3668760" y="2417760"/>
              <a:ext cx="28605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Freeform 14"/>
            <p:cNvSpPr/>
            <p:nvPr/>
          </p:nvSpPr>
          <p:spPr>
            <a:xfrm>
              <a:off x="3141720" y="2921040"/>
              <a:ext cx="280800" cy="14684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468440"/>
                <a:gd name="textAreaBottom" fmla="*/ 1468800 h 1468440"/>
              </a:gdLst>
              <a:ahLst/>
              <a:rect l="textAreaLeft" t="textAreaTop" r="textAreaRight" b="textAreaBottom"/>
              <a:pathLst>
                <a:path w="177" h="925">
                  <a:moveTo>
                    <a:pt x="176" y="0"/>
                  </a:moveTo>
                  <a:lnTo>
                    <a:pt x="176" y="91"/>
                  </a:lnTo>
                  <a:lnTo>
                    <a:pt x="168" y="194"/>
                  </a:lnTo>
                  <a:lnTo>
                    <a:pt x="150" y="293"/>
                  </a:lnTo>
                  <a:lnTo>
                    <a:pt x="132" y="408"/>
                  </a:lnTo>
                  <a:lnTo>
                    <a:pt x="114" y="504"/>
                  </a:lnTo>
                  <a:lnTo>
                    <a:pt x="95" y="612"/>
                  </a:lnTo>
                  <a:lnTo>
                    <a:pt x="77" y="704"/>
                  </a:lnTo>
                  <a:lnTo>
                    <a:pt x="51" y="788"/>
                  </a:lnTo>
                  <a:lnTo>
                    <a:pt x="29" y="850"/>
                  </a:lnTo>
                  <a:lnTo>
                    <a:pt x="0" y="924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3565440" y="2584440"/>
              <a:ext cx="31719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Line 16"/>
            <p:cNvSpPr/>
            <p:nvPr/>
          </p:nvSpPr>
          <p:spPr>
            <a:xfrm>
              <a:off x="3484440" y="2746440"/>
              <a:ext cx="34257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Line 17"/>
            <p:cNvSpPr/>
            <p:nvPr/>
          </p:nvSpPr>
          <p:spPr>
            <a:xfrm>
              <a:off x="1063440" y="3227400"/>
              <a:ext cx="5980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Freeform 18"/>
            <p:cNvSpPr/>
            <p:nvPr/>
          </p:nvSpPr>
          <p:spPr>
            <a:xfrm>
              <a:off x="1397160" y="1812960"/>
              <a:ext cx="780840" cy="254808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2548080"/>
                <a:gd name="textAreaBottom" fmla="*/ 2548440 h 2548080"/>
              </a:gdLst>
              <a:ahLst/>
              <a:rect l="textAreaLeft" t="textAreaTop" r="textAreaRight" b="textAreaBottom"/>
              <a:pathLst>
                <a:path w="492" h="1605">
                  <a:moveTo>
                    <a:pt x="491" y="0"/>
                  </a:moveTo>
                  <a:lnTo>
                    <a:pt x="444" y="26"/>
                  </a:lnTo>
                  <a:lnTo>
                    <a:pt x="349" y="99"/>
                  </a:lnTo>
                  <a:lnTo>
                    <a:pt x="261" y="189"/>
                  </a:lnTo>
                  <a:lnTo>
                    <a:pt x="199" y="280"/>
                  </a:lnTo>
                  <a:lnTo>
                    <a:pt x="141" y="385"/>
                  </a:lnTo>
                  <a:lnTo>
                    <a:pt x="83" y="492"/>
                  </a:lnTo>
                  <a:lnTo>
                    <a:pt x="44" y="589"/>
                  </a:lnTo>
                  <a:lnTo>
                    <a:pt x="7" y="698"/>
                  </a:lnTo>
                  <a:lnTo>
                    <a:pt x="0" y="790"/>
                  </a:lnTo>
                  <a:lnTo>
                    <a:pt x="0" y="892"/>
                  </a:lnTo>
                  <a:lnTo>
                    <a:pt x="0" y="990"/>
                  </a:lnTo>
                  <a:lnTo>
                    <a:pt x="3" y="1102"/>
                  </a:lnTo>
                  <a:lnTo>
                    <a:pt x="0" y="1208"/>
                  </a:lnTo>
                  <a:lnTo>
                    <a:pt x="0" y="1315"/>
                  </a:lnTo>
                  <a:lnTo>
                    <a:pt x="3" y="1547"/>
                  </a:lnTo>
                  <a:lnTo>
                    <a:pt x="7" y="1604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Freeform 19"/>
            <p:cNvSpPr/>
            <p:nvPr/>
          </p:nvSpPr>
          <p:spPr>
            <a:xfrm>
              <a:off x="1420920" y="1806480"/>
              <a:ext cx="793800" cy="2578320"/>
            </a:xfrm>
            <a:custGeom>
              <a:avLst/>
              <a:gdLst>
                <a:gd name="textAreaLeft" fmla="*/ 0 w 793800"/>
                <a:gd name="textAreaRight" fmla="*/ 794160 w 793800"/>
                <a:gd name="textAreaTop" fmla="*/ 0 h 2578320"/>
                <a:gd name="textAreaBottom" fmla="*/ 2578680 h 2578320"/>
              </a:gdLst>
              <a:ahLst/>
              <a:rect l="textAreaLeft" t="textAreaTop" r="textAreaRight" b="textAreaBottom"/>
              <a:pathLst>
                <a:path w="500" h="1624">
                  <a:moveTo>
                    <a:pt x="499" y="0"/>
                  </a:moveTo>
                  <a:lnTo>
                    <a:pt x="447" y="37"/>
                  </a:lnTo>
                  <a:lnTo>
                    <a:pt x="390" y="102"/>
                  </a:lnTo>
                  <a:lnTo>
                    <a:pt x="320" y="189"/>
                  </a:lnTo>
                  <a:lnTo>
                    <a:pt x="261" y="284"/>
                  </a:lnTo>
                  <a:lnTo>
                    <a:pt x="214" y="379"/>
                  </a:lnTo>
                  <a:lnTo>
                    <a:pt x="162" y="481"/>
                  </a:lnTo>
                  <a:lnTo>
                    <a:pt x="123" y="593"/>
                  </a:lnTo>
                  <a:lnTo>
                    <a:pt x="97" y="691"/>
                  </a:lnTo>
                  <a:lnTo>
                    <a:pt x="90" y="793"/>
                  </a:lnTo>
                  <a:lnTo>
                    <a:pt x="82" y="888"/>
                  </a:lnTo>
                  <a:lnTo>
                    <a:pt x="77" y="989"/>
                  </a:lnTo>
                  <a:lnTo>
                    <a:pt x="77" y="1092"/>
                  </a:lnTo>
                  <a:lnTo>
                    <a:pt x="69" y="1197"/>
                  </a:lnTo>
                  <a:lnTo>
                    <a:pt x="54" y="1319"/>
                  </a:lnTo>
                  <a:lnTo>
                    <a:pt x="47" y="1402"/>
                  </a:lnTo>
                  <a:lnTo>
                    <a:pt x="36" y="1491"/>
                  </a:lnTo>
                  <a:lnTo>
                    <a:pt x="0" y="162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Freeform 20"/>
            <p:cNvSpPr/>
            <p:nvPr/>
          </p:nvSpPr>
          <p:spPr>
            <a:xfrm>
              <a:off x="1449360" y="1797120"/>
              <a:ext cx="828720" cy="2571840"/>
            </a:xfrm>
            <a:custGeom>
              <a:avLst/>
              <a:gdLst>
                <a:gd name="textAreaLeft" fmla="*/ 0 w 828720"/>
                <a:gd name="textAreaRight" fmla="*/ 829080 w 82872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522" h="1620">
                  <a:moveTo>
                    <a:pt x="521" y="0"/>
                  </a:moveTo>
                  <a:lnTo>
                    <a:pt x="477" y="39"/>
                  </a:lnTo>
                  <a:lnTo>
                    <a:pt x="436" y="94"/>
                  </a:lnTo>
                  <a:lnTo>
                    <a:pt x="375" y="184"/>
                  </a:lnTo>
                  <a:lnTo>
                    <a:pt x="308" y="295"/>
                  </a:lnTo>
                  <a:lnTo>
                    <a:pt x="276" y="389"/>
                  </a:lnTo>
                  <a:lnTo>
                    <a:pt x="240" y="494"/>
                  </a:lnTo>
                  <a:lnTo>
                    <a:pt x="210" y="585"/>
                  </a:lnTo>
                  <a:lnTo>
                    <a:pt x="192" y="701"/>
                  </a:lnTo>
                  <a:lnTo>
                    <a:pt x="184" y="800"/>
                  </a:lnTo>
                  <a:lnTo>
                    <a:pt x="173" y="902"/>
                  </a:lnTo>
                  <a:lnTo>
                    <a:pt x="159" y="1003"/>
                  </a:lnTo>
                  <a:lnTo>
                    <a:pt x="141" y="1116"/>
                  </a:lnTo>
                  <a:lnTo>
                    <a:pt x="126" y="1215"/>
                  </a:lnTo>
                  <a:lnTo>
                    <a:pt x="108" y="1317"/>
                  </a:lnTo>
                  <a:lnTo>
                    <a:pt x="90" y="1413"/>
                  </a:lnTo>
                  <a:lnTo>
                    <a:pt x="72" y="1491"/>
                  </a:lnTo>
                  <a:lnTo>
                    <a:pt x="39" y="1560"/>
                  </a:lnTo>
                  <a:lnTo>
                    <a:pt x="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Freeform 21"/>
            <p:cNvSpPr/>
            <p:nvPr/>
          </p:nvSpPr>
          <p:spPr>
            <a:xfrm>
              <a:off x="1460520" y="1797120"/>
              <a:ext cx="861840" cy="2581200"/>
            </a:xfrm>
            <a:custGeom>
              <a:avLst/>
              <a:gdLst>
                <a:gd name="textAreaLeft" fmla="*/ 0 w 861840"/>
                <a:gd name="textAreaRight" fmla="*/ 862200 w 861840"/>
                <a:gd name="textAreaTop" fmla="*/ 0 h 2581200"/>
                <a:gd name="textAreaBottom" fmla="*/ 2581560 h 2581200"/>
              </a:gdLst>
              <a:ahLst/>
              <a:rect l="textAreaLeft" t="textAreaTop" r="textAreaRight" b="textAreaBottom"/>
              <a:pathLst>
                <a:path w="543" h="1626">
                  <a:moveTo>
                    <a:pt x="542" y="0"/>
                  </a:moveTo>
                  <a:lnTo>
                    <a:pt x="503" y="54"/>
                  </a:lnTo>
                  <a:lnTo>
                    <a:pt x="465" y="112"/>
                  </a:lnTo>
                  <a:lnTo>
                    <a:pt x="418" y="192"/>
                  </a:lnTo>
                  <a:lnTo>
                    <a:pt x="374" y="290"/>
                  </a:lnTo>
                  <a:lnTo>
                    <a:pt x="353" y="386"/>
                  </a:lnTo>
                  <a:lnTo>
                    <a:pt x="324" y="494"/>
                  </a:lnTo>
                  <a:lnTo>
                    <a:pt x="295" y="599"/>
                  </a:lnTo>
                  <a:lnTo>
                    <a:pt x="283" y="708"/>
                  </a:lnTo>
                  <a:lnTo>
                    <a:pt x="280" y="796"/>
                  </a:lnTo>
                  <a:lnTo>
                    <a:pt x="269" y="898"/>
                  </a:lnTo>
                  <a:lnTo>
                    <a:pt x="259" y="1003"/>
                  </a:lnTo>
                  <a:lnTo>
                    <a:pt x="236" y="1105"/>
                  </a:lnTo>
                  <a:lnTo>
                    <a:pt x="203" y="1214"/>
                  </a:lnTo>
                  <a:lnTo>
                    <a:pt x="181" y="1313"/>
                  </a:lnTo>
                  <a:lnTo>
                    <a:pt x="145" y="1408"/>
                  </a:lnTo>
                  <a:lnTo>
                    <a:pt x="109" y="1490"/>
                  </a:lnTo>
                  <a:lnTo>
                    <a:pt x="57" y="1563"/>
                  </a:lnTo>
                  <a:lnTo>
                    <a:pt x="0" y="1625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1500120" y="1790640"/>
              <a:ext cx="862200" cy="2584440"/>
            </a:xfrm>
            <a:custGeom>
              <a:avLst/>
              <a:gdLst>
                <a:gd name="textAreaLeft" fmla="*/ 0 w 862200"/>
                <a:gd name="textAreaRight" fmla="*/ 862560 w 862200"/>
                <a:gd name="textAreaTop" fmla="*/ 0 h 2584440"/>
                <a:gd name="textAreaBottom" fmla="*/ 2584440 h 2584440"/>
              </a:gdLst>
              <a:ahLst/>
              <a:rect l="textAreaLeft" t="textAreaTop" r="textAreaRight" b="textAreaBottom"/>
              <a:pathLst>
                <a:path w="543" h="1628">
                  <a:moveTo>
                    <a:pt x="542" y="0"/>
                  </a:moveTo>
                  <a:lnTo>
                    <a:pt x="509" y="52"/>
                  </a:lnTo>
                  <a:lnTo>
                    <a:pt x="477" y="124"/>
                  </a:lnTo>
                  <a:lnTo>
                    <a:pt x="447" y="207"/>
                  </a:lnTo>
                  <a:lnTo>
                    <a:pt x="429" y="295"/>
                  </a:lnTo>
                  <a:lnTo>
                    <a:pt x="407" y="387"/>
                  </a:lnTo>
                  <a:lnTo>
                    <a:pt x="392" y="498"/>
                  </a:lnTo>
                  <a:lnTo>
                    <a:pt x="371" y="604"/>
                  </a:lnTo>
                  <a:lnTo>
                    <a:pt x="366" y="705"/>
                  </a:lnTo>
                  <a:lnTo>
                    <a:pt x="360" y="804"/>
                  </a:lnTo>
                  <a:lnTo>
                    <a:pt x="345" y="899"/>
                  </a:lnTo>
                  <a:lnTo>
                    <a:pt x="319" y="1005"/>
                  </a:lnTo>
                  <a:lnTo>
                    <a:pt x="298" y="1099"/>
                  </a:lnTo>
                  <a:lnTo>
                    <a:pt x="261" y="1220"/>
                  </a:lnTo>
                  <a:lnTo>
                    <a:pt x="225" y="1325"/>
                  </a:lnTo>
                  <a:lnTo>
                    <a:pt x="174" y="1418"/>
                  </a:lnTo>
                  <a:lnTo>
                    <a:pt x="130" y="1492"/>
                  </a:lnTo>
                  <a:lnTo>
                    <a:pt x="61" y="1568"/>
                  </a:lnTo>
                  <a:lnTo>
                    <a:pt x="0" y="1627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Freeform 23"/>
            <p:cNvSpPr/>
            <p:nvPr/>
          </p:nvSpPr>
          <p:spPr>
            <a:xfrm>
              <a:off x="1574640" y="1797120"/>
              <a:ext cx="817560" cy="257184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515" h="1620">
                  <a:moveTo>
                    <a:pt x="514" y="0"/>
                  </a:moveTo>
                  <a:lnTo>
                    <a:pt x="504" y="47"/>
                  </a:lnTo>
                  <a:lnTo>
                    <a:pt x="489" y="119"/>
                  </a:lnTo>
                  <a:lnTo>
                    <a:pt x="467" y="210"/>
                  </a:lnTo>
                  <a:lnTo>
                    <a:pt x="452" y="290"/>
                  </a:lnTo>
                  <a:lnTo>
                    <a:pt x="437" y="371"/>
                  </a:lnTo>
                  <a:lnTo>
                    <a:pt x="431" y="497"/>
                  </a:lnTo>
                  <a:lnTo>
                    <a:pt x="423" y="596"/>
                  </a:lnTo>
                  <a:lnTo>
                    <a:pt x="419" y="694"/>
                  </a:lnTo>
                  <a:lnTo>
                    <a:pt x="408" y="800"/>
                  </a:lnTo>
                  <a:lnTo>
                    <a:pt x="394" y="894"/>
                  </a:lnTo>
                  <a:lnTo>
                    <a:pt x="379" y="1003"/>
                  </a:lnTo>
                  <a:lnTo>
                    <a:pt x="343" y="1116"/>
                  </a:lnTo>
                  <a:lnTo>
                    <a:pt x="299" y="1223"/>
                  </a:lnTo>
                  <a:lnTo>
                    <a:pt x="244" y="1332"/>
                  </a:lnTo>
                  <a:lnTo>
                    <a:pt x="193" y="1416"/>
                  </a:lnTo>
                  <a:lnTo>
                    <a:pt x="128" y="1491"/>
                  </a:lnTo>
                  <a:lnTo>
                    <a:pt x="76" y="1546"/>
                  </a:lnTo>
                  <a:lnTo>
                    <a:pt x="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V="1">
              <a:off x="2421000" y="1792080"/>
              <a:ext cx="0" cy="143820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1079640" y="2906640"/>
              <a:ext cx="59418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1063440" y="3063960"/>
              <a:ext cx="59929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1096920" y="3387600"/>
              <a:ext cx="12938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9" name="Line 28"/>
            <p:cNvSpPr/>
            <p:nvPr/>
          </p:nvSpPr>
          <p:spPr>
            <a:xfrm>
              <a:off x="2451240" y="3387600"/>
              <a:ext cx="12618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0" name="Line 29"/>
            <p:cNvSpPr/>
            <p:nvPr/>
          </p:nvSpPr>
          <p:spPr>
            <a:xfrm>
              <a:off x="1484280" y="2255760"/>
              <a:ext cx="16178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1" name="Line 30"/>
            <p:cNvSpPr/>
            <p:nvPr/>
          </p:nvSpPr>
          <p:spPr>
            <a:xfrm>
              <a:off x="1363680" y="2417760"/>
              <a:ext cx="18540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2" name="Line 31"/>
            <p:cNvSpPr/>
            <p:nvPr/>
          </p:nvSpPr>
          <p:spPr>
            <a:xfrm>
              <a:off x="1231920" y="2584440"/>
              <a:ext cx="20606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Line 32"/>
            <p:cNvSpPr/>
            <p:nvPr/>
          </p:nvSpPr>
          <p:spPr>
            <a:xfrm>
              <a:off x="1138320" y="2746440"/>
              <a:ext cx="22366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>
              <a:off x="1108080" y="3556080"/>
              <a:ext cx="120816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>
              <a:off x="1125360" y="3735360"/>
              <a:ext cx="11052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1154160" y="3894120"/>
              <a:ext cx="9824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2484360" y="3556080"/>
              <a:ext cx="12002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2536920" y="3735360"/>
              <a:ext cx="10666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>
              <a:off x="2589120" y="3894120"/>
              <a:ext cx="95904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1832040" y="1973160"/>
              <a:ext cx="12762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1635120" y="2128680"/>
              <a:ext cx="16462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2" name="Line 41"/>
            <p:cNvSpPr/>
            <p:nvPr/>
          </p:nvSpPr>
          <p:spPr>
            <a:xfrm>
              <a:off x="1998720" y="1866960"/>
              <a:ext cx="9000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3" name="Freeform 42"/>
            <p:cNvSpPr/>
            <p:nvPr/>
          </p:nvSpPr>
          <p:spPr>
            <a:xfrm>
              <a:off x="6030720" y="2014560"/>
              <a:ext cx="471600" cy="280800"/>
            </a:xfrm>
            <a:custGeom>
              <a:avLst/>
              <a:gdLst>
                <a:gd name="textAreaLeft" fmla="*/ 0 w 471600"/>
                <a:gd name="textAreaRight" fmla="*/ 471960 w 471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297" h="177">
                  <a:moveTo>
                    <a:pt x="0" y="0"/>
                  </a:moveTo>
                  <a:lnTo>
                    <a:pt x="135" y="77"/>
                  </a:lnTo>
                  <a:lnTo>
                    <a:pt x="296" y="17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4" name="Line 43"/>
            <p:cNvSpPr/>
            <p:nvPr/>
          </p:nvSpPr>
          <p:spPr>
            <a:xfrm>
              <a:off x="3952800" y="1973160"/>
              <a:ext cx="1957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5" name="Freeform 44"/>
            <p:cNvSpPr/>
            <p:nvPr/>
          </p:nvSpPr>
          <p:spPr>
            <a:xfrm>
              <a:off x="3870360" y="1839960"/>
              <a:ext cx="330120" cy="32364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208" h="204">
                  <a:moveTo>
                    <a:pt x="207" y="0"/>
                  </a:moveTo>
                  <a:lnTo>
                    <a:pt x="116" y="77"/>
                  </a:lnTo>
                  <a:lnTo>
                    <a:pt x="51" y="145"/>
                  </a:lnTo>
                  <a:lnTo>
                    <a:pt x="0" y="203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6" name="Freeform 45"/>
            <p:cNvSpPr/>
            <p:nvPr/>
          </p:nvSpPr>
          <p:spPr>
            <a:xfrm>
              <a:off x="5396040" y="1838160"/>
              <a:ext cx="1157040" cy="251964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2519640"/>
                <a:gd name="textAreaBottom" fmla="*/ 2520000 h 2519640"/>
              </a:gdLst>
              <a:ahLst/>
              <a:rect l="textAreaLeft" t="textAreaTop" r="textAreaRight" b="textAreaBottom"/>
              <a:pathLst>
                <a:path w="729" h="1587">
                  <a:moveTo>
                    <a:pt x="0" y="0"/>
                  </a:moveTo>
                  <a:lnTo>
                    <a:pt x="115" y="70"/>
                  </a:lnTo>
                  <a:lnTo>
                    <a:pt x="188" y="124"/>
                  </a:lnTo>
                  <a:lnTo>
                    <a:pt x="246" y="174"/>
                  </a:lnTo>
                  <a:lnTo>
                    <a:pt x="334" y="244"/>
                  </a:lnTo>
                  <a:lnTo>
                    <a:pt x="462" y="361"/>
                  </a:lnTo>
                  <a:lnTo>
                    <a:pt x="578" y="469"/>
                  </a:lnTo>
                  <a:lnTo>
                    <a:pt x="666" y="575"/>
                  </a:lnTo>
                  <a:lnTo>
                    <a:pt x="718" y="673"/>
                  </a:lnTo>
                  <a:lnTo>
                    <a:pt x="724" y="760"/>
                  </a:lnTo>
                  <a:lnTo>
                    <a:pt x="728" y="869"/>
                  </a:lnTo>
                  <a:lnTo>
                    <a:pt x="728" y="971"/>
                  </a:lnTo>
                  <a:lnTo>
                    <a:pt x="721" y="1084"/>
                  </a:lnTo>
                  <a:lnTo>
                    <a:pt x="710" y="1187"/>
                  </a:lnTo>
                  <a:lnTo>
                    <a:pt x="703" y="1296"/>
                  </a:lnTo>
                  <a:lnTo>
                    <a:pt x="692" y="1378"/>
                  </a:lnTo>
                  <a:lnTo>
                    <a:pt x="681" y="1494"/>
                  </a:lnTo>
                  <a:lnTo>
                    <a:pt x="655" y="158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7" name="Freeform 46"/>
            <p:cNvSpPr/>
            <p:nvPr/>
          </p:nvSpPr>
          <p:spPr>
            <a:xfrm>
              <a:off x="5513400" y="1860480"/>
              <a:ext cx="1208160" cy="2490840"/>
            </a:xfrm>
            <a:custGeom>
              <a:avLst/>
              <a:gdLst>
                <a:gd name="textAreaLeft" fmla="*/ 0 w 1208160"/>
                <a:gd name="textAreaRight" fmla="*/ 1208160 w 1208160"/>
                <a:gd name="textAreaTop" fmla="*/ 0 h 2490840"/>
                <a:gd name="textAreaBottom" fmla="*/ 2491200 h 2490840"/>
              </a:gdLst>
              <a:ahLst/>
              <a:rect l="textAreaLeft" t="textAreaTop" r="textAreaRight" b="textAreaBottom"/>
              <a:pathLst>
                <a:path w="761" h="1569">
                  <a:moveTo>
                    <a:pt x="0" y="0"/>
                  </a:moveTo>
                  <a:lnTo>
                    <a:pt x="108" y="63"/>
                  </a:lnTo>
                  <a:lnTo>
                    <a:pt x="181" y="120"/>
                  </a:lnTo>
                  <a:lnTo>
                    <a:pt x="247" y="171"/>
                  </a:lnTo>
                  <a:lnTo>
                    <a:pt x="338" y="244"/>
                  </a:lnTo>
                  <a:lnTo>
                    <a:pt x="462" y="343"/>
                  </a:lnTo>
                  <a:lnTo>
                    <a:pt x="587" y="448"/>
                  </a:lnTo>
                  <a:lnTo>
                    <a:pt x="691" y="557"/>
                  </a:lnTo>
                  <a:lnTo>
                    <a:pt x="745" y="666"/>
                  </a:lnTo>
                  <a:lnTo>
                    <a:pt x="756" y="767"/>
                  </a:lnTo>
                  <a:lnTo>
                    <a:pt x="760" y="863"/>
                  </a:lnTo>
                  <a:lnTo>
                    <a:pt x="756" y="967"/>
                  </a:lnTo>
                  <a:lnTo>
                    <a:pt x="735" y="1070"/>
                  </a:lnTo>
                  <a:lnTo>
                    <a:pt x="720" y="1169"/>
                  </a:lnTo>
                  <a:lnTo>
                    <a:pt x="698" y="1274"/>
                  </a:lnTo>
                  <a:lnTo>
                    <a:pt x="680" y="1374"/>
                  </a:lnTo>
                  <a:lnTo>
                    <a:pt x="655" y="1454"/>
                  </a:lnTo>
                  <a:lnTo>
                    <a:pt x="608" y="1568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8" name="Freeform 47"/>
            <p:cNvSpPr/>
            <p:nvPr/>
          </p:nvSpPr>
          <p:spPr>
            <a:xfrm>
              <a:off x="5654520" y="1895400"/>
              <a:ext cx="1239840" cy="2430360"/>
            </a:xfrm>
            <a:custGeom>
              <a:avLst/>
              <a:gdLst>
                <a:gd name="textAreaLeft" fmla="*/ 0 w 1239840"/>
                <a:gd name="textAreaRight" fmla="*/ 1240200 w 1239840"/>
                <a:gd name="textAreaTop" fmla="*/ 0 h 2430360"/>
                <a:gd name="textAreaBottom" fmla="*/ 2430720 h 2430360"/>
              </a:gdLst>
              <a:ahLst/>
              <a:rect l="textAreaLeft" t="textAreaTop" r="textAreaRight" b="textAreaBottom"/>
              <a:pathLst>
                <a:path w="781" h="1531">
                  <a:moveTo>
                    <a:pt x="0" y="0"/>
                  </a:moveTo>
                  <a:lnTo>
                    <a:pt x="98" y="61"/>
                  </a:lnTo>
                  <a:lnTo>
                    <a:pt x="215" y="141"/>
                  </a:lnTo>
                  <a:lnTo>
                    <a:pt x="321" y="218"/>
                  </a:lnTo>
                  <a:lnTo>
                    <a:pt x="456" y="324"/>
                  </a:lnTo>
                  <a:lnTo>
                    <a:pt x="586" y="432"/>
                  </a:lnTo>
                  <a:lnTo>
                    <a:pt x="692" y="531"/>
                  </a:lnTo>
                  <a:lnTo>
                    <a:pt x="761" y="639"/>
                  </a:lnTo>
                  <a:lnTo>
                    <a:pt x="769" y="735"/>
                  </a:lnTo>
                  <a:lnTo>
                    <a:pt x="780" y="840"/>
                  </a:lnTo>
                  <a:lnTo>
                    <a:pt x="765" y="938"/>
                  </a:lnTo>
                  <a:lnTo>
                    <a:pt x="736" y="1044"/>
                  </a:lnTo>
                  <a:lnTo>
                    <a:pt x="710" y="1153"/>
                  </a:lnTo>
                  <a:lnTo>
                    <a:pt x="681" y="1258"/>
                  </a:lnTo>
                  <a:lnTo>
                    <a:pt x="652" y="1358"/>
                  </a:lnTo>
                  <a:lnTo>
                    <a:pt x="608" y="1440"/>
                  </a:lnTo>
                  <a:lnTo>
                    <a:pt x="555" y="1530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9" name="Freeform 48"/>
            <p:cNvSpPr/>
            <p:nvPr/>
          </p:nvSpPr>
          <p:spPr>
            <a:xfrm>
              <a:off x="4438800" y="1792440"/>
              <a:ext cx="139680" cy="2571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88" h="1620">
                  <a:moveTo>
                    <a:pt x="73" y="0"/>
                  </a:moveTo>
                  <a:lnTo>
                    <a:pt x="78" y="48"/>
                  </a:lnTo>
                  <a:lnTo>
                    <a:pt x="80" y="124"/>
                  </a:lnTo>
                  <a:lnTo>
                    <a:pt x="80" y="215"/>
                  </a:lnTo>
                  <a:lnTo>
                    <a:pt x="83" y="303"/>
                  </a:lnTo>
                  <a:lnTo>
                    <a:pt x="87" y="394"/>
                  </a:lnTo>
                  <a:lnTo>
                    <a:pt x="87" y="488"/>
                  </a:lnTo>
                  <a:lnTo>
                    <a:pt x="87" y="604"/>
                  </a:lnTo>
                  <a:lnTo>
                    <a:pt x="87" y="717"/>
                  </a:lnTo>
                  <a:lnTo>
                    <a:pt x="83" y="798"/>
                  </a:lnTo>
                  <a:lnTo>
                    <a:pt x="80" y="903"/>
                  </a:lnTo>
                  <a:lnTo>
                    <a:pt x="67" y="1000"/>
                  </a:lnTo>
                  <a:lnTo>
                    <a:pt x="63" y="1110"/>
                  </a:lnTo>
                  <a:lnTo>
                    <a:pt x="52" y="1223"/>
                  </a:lnTo>
                  <a:lnTo>
                    <a:pt x="41" y="1322"/>
                  </a:lnTo>
                  <a:lnTo>
                    <a:pt x="37" y="1419"/>
                  </a:lnTo>
                  <a:lnTo>
                    <a:pt x="23" y="1527"/>
                  </a:lnTo>
                  <a:lnTo>
                    <a:pt x="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0" name="Freeform 49"/>
            <p:cNvSpPr/>
            <p:nvPr/>
          </p:nvSpPr>
          <p:spPr>
            <a:xfrm>
              <a:off x="4492440" y="1782720"/>
              <a:ext cx="265320" cy="2576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2576520"/>
                <a:gd name="textAreaBottom" fmla="*/ 2576880 h 2576520"/>
              </a:gdLst>
              <a:ahLst/>
              <a:rect l="textAreaLeft" t="textAreaTop" r="textAreaRight" b="textAreaBottom"/>
              <a:pathLst>
                <a:path w="167" h="1623">
                  <a:moveTo>
                    <a:pt x="57" y="0"/>
                  </a:moveTo>
                  <a:lnTo>
                    <a:pt x="72" y="44"/>
                  </a:lnTo>
                  <a:lnTo>
                    <a:pt x="90" y="120"/>
                  </a:lnTo>
                  <a:lnTo>
                    <a:pt x="111" y="210"/>
                  </a:lnTo>
                  <a:lnTo>
                    <a:pt x="122" y="291"/>
                  </a:lnTo>
                  <a:lnTo>
                    <a:pt x="137" y="389"/>
                  </a:lnTo>
                  <a:lnTo>
                    <a:pt x="151" y="490"/>
                  </a:lnTo>
                  <a:lnTo>
                    <a:pt x="163" y="607"/>
                  </a:lnTo>
                  <a:lnTo>
                    <a:pt x="166" y="709"/>
                  </a:lnTo>
                  <a:lnTo>
                    <a:pt x="163" y="814"/>
                  </a:lnTo>
                  <a:lnTo>
                    <a:pt x="148" y="917"/>
                  </a:lnTo>
                  <a:lnTo>
                    <a:pt x="137" y="1018"/>
                  </a:lnTo>
                  <a:lnTo>
                    <a:pt x="122" y="1120"/>
                  </a:lnTo>
                  <a:lnTo>
                    <a:pt x="100" y="1229"/>
                  </a:lnTo>
                  <a:lnTo>
                    <a:pt x="78" y="1332"/>
                  </a:lnTo>
                  <a:lnTo>
                    <a:pt x="57" y="1428"/>
                  </a:lnTo>
                  <a:lnTo>
                    <a:pt x="33" y="1530"/>
                  </a:lnTo>
                  <a:lnTo>
                    <a:pt x="0" y="1622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Freeform 50"/>
            <p:cNvSpPr/>
            <p:nvPr/>
          </p:nvSpPr>
          <p:spPr>
            <a:xfrm>
              <a:off x="4525920" y="1778040"/>
              <a:ext cx="371520" cy="25830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2583000"/>
                <a:gd name="textAreaBottom" fmla="*/ 2583360 h 2583000"/>
              </a:gdLst>
              <a:ahLst/>
              <a:rect l="textAreaLeft" t="textAreaTop" r="textAreaRight" b="textAreaBottom"/>
              <a:pathLst>
                <a:path w="234" h="1627">
                  <a:moveTo>
                    <a:pt x="57" y="0"/>
                  </a:moveTo>
                  <a:lnTo>
                    <a:pt x="83" y="55"/>
                  </a:lnTo>
                  <a:lnTo>
                    <a:pt x="116" y="120"/>
                  </a:lnTo>
                  <a:lnTo>
                    <a:pt x="152" y="210"/>
                  </a:lnTo>
                  <a:lnTo>
                    <a:pt x="181" y="306"/>
                  </a:lnTo>
                  <a:lnTo>
                    <a:pt x="199" y="401"/>
                  </a:lnTo>
                  <a:lnTo>
                    <a:pt x="214" y="494"/>
                  </a:lnTo>
                  <a:lnTo>
                    <a:pt x="228" y="615"/>
                  </a:lnTo>
                  <a:lnTo>
                    <a:pt x="233" y="716"/>
                  </a:lnTo>
                  <a:lnTo>
                    <a:pt x="233" y="823"/>
                  </a:lnTo>
                  <a:lnTo>
                    <a:pt x="225" y="917"/>
                  </a:lnTo>
                  <a:lnTo>
                    <a:pt x="210" y="1015"/>
                  </a:lnTo>
                  <a:lnTo>
                    <a:pt x="189" y="1117"/>
                  </a:lnTo>
                  <a:lnTo>
                    <a:pt x="160" y="1230"/>
                  </a:lnTo>
                  <a:lnTo>
                    <a:pt x="127" y="1337"/>
                  </a:lnTo>
                  <a:lnTo>
                    <a:pt x="98" y="1429"/>
                  </a:lnTo>
                  <a:lnTo>
                    <a:pt x="57" y="1527"/>
                  </a:lnTo>
                  <a:lnTo>
                    <a:pt x="0" y="162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2" name="Freeform 51"/>
            <p:cNvSpPr/>
            <p:nvPr/>
          </p:nvSpPr>
          <p:spPr>
            <a:xfrm>
              <a:off x="4606920" y="1771560"/>
              <a:ext cx="463680" cy="255924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2559240"/>
                <a:gd name="textAreaBottom" fmla="*/ 2559240 h 2559240"/>
              </a:gdLst>
              <a:ahLst/>
              <a:rect l="textAreaLeft" t="textAreaTop" r="textAreaRight" b="textAreaBottom"/>
              <a:pathLst>
                <a:path w="292" h="1612">
                  <a:moveTo>
                    <a:pt x="21" y="0"/>
                  </a:moveTo>
                  <a:lnTo>
                    <a:pt x="65" y="54"/>
                  </a:lnTo>
                  <a:lnTo>
                    <a:pt x="116" y="134"/>
                  </a:lnTo>
                  <a:lnTo>
                    <a:pt x="153" y="196"/>
                  </a:lnTo>
                  <a:lnTo>
                    <a:pt x="189" y="276"/>
                  </a:lnTo>
                  <a:lnTo>
                    <a:pt x="229" y="378"/>
                  </a:lnTo>
                  <a:lnTo>
                    <a:pt x="255" y="494"/>
                  </a:lnTo>
                  <a:lnTo>
                    <a:pt x="276" y="622"/>
                  </a:lnTo>
                  <a:lnTo>
                    <a:pt x="288" y="719"/>
                  </a:lnTo>
                  <a:lnTo>
                    <a:pt x="291" y="818"/>
                  </a:lnTo>
                  <a:lnTo>
                    <a:pt x="273" y="927"/>
                  </a:lnTo>
                  <a:lnTo>
                    <a:pt x="258" y="1021"/>
                  </a:lnTo>
                  <a:lnTo>
                    <a:pt x="229" y="1127"/>
                  </a:lnTo>
                  <a:lnTo>
                    <a:pt x="189" y="1230"/>
                  </a:lnTo>
                  <a:lnTo>
                    <a:pt x="148" y="1339"/>
                  </a:lnTo>
                  <a:lnTo>
                    <a:pt x="106" y="1432"/>
                  </a:lnTo>
                  <a:lnTo>
                    <a:pt x="54" y="1520"/>
                  </a:lnTo>
                  <a:lnTo>
                    <a:pt x="0" y="1611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3" name="Freeform 52"/>
            <p:cNvSpPr/>
            <p:nvPr/>
          </p:nvSpPr>
          <p:spPr>
            <a:xfrm>
              <a:off x="4664160" y="1773360"/>
              <a:ext cx="563400" cy="2535120"/>
            </a:xfrm>
            <a:custGeom>
              <a:avLst/>
              <a:gdLst>
                <a:gd name="textAreaLeft" fmla="*/ 0 w 563400"/>
                <a:gd name="textAreaRight" fmla="*/ 563760 w 563400"/>
                <a:gd name="textAreaTop" fmla="*/ 0 h 2535120"/>
                <a:gd name="textAreaBottom" fmla="*/ 2535480 h 2535120"/>
              </a:gdLst>
              <a:ahLst/>
              <a:rect l="textAreaLeft" t="textAreaTop" r="textAreaRight" b="textAreaBottom"/>
              <a:pathLst>
                <a:path w="355" h="1597">
                  <a:moveTo>
                    <a:pt x="7" y="0"/>
                  </a:moveTo>
                  <a:lnTo>
                    <a:pt x="58" y="54"/>
                  </a:lnTo>
                  <a:lnTo>
                    <a:pt x="117" y="127"/>
                  </a:lnTo>
                  <a:lnTo>
                    <a:pt x="164" y="207"/>
                  </a:lnTo>
                  <a:lnTo>
                    <a:pt x="208" y="280"/>
                  </a:lnTo>
                  <a:lnTo>
                    <a:pt x="258" y="382"/>
                  </a:lnTo>
                  <a:lnTo>
                    <a:pt x="299" y="490"/>
                  </a:lnTo>
                  <a:lnTo>
                    <a:pt x="339" y="622"/>
                  </a:lnTo>
                  <a:lnTo>
                    <a:pt x="349" y="719"/>
                  </a:lnTo>
                  <a:lnTo>
                    <a:pt x="354" y="814"/>
                  </a:lnTo>
                  <a:lnTo>
                    <a:pt x="339" y="917"/>
                  </a:lnTo>
                  <a:lnTo>
                    <a:pt x="313" y="1018"/>
                  </a:lnTo>
                  <a:lnTo>
                    <a:pt x="273" y="1135"/>
                  </a:lnTo>
                  <a:lnTo>
                    <a:pt x="219" y="1243"/>
                  </a:lnTo>
                  <a:lnTo>
                    <a:pt x="171" y="1343"/>
                  </a:lnTo>
                  <a:lnTo>
                    <a:pt x="112" y="1443"/>
                  </a:lnTo>
                  <a:lnTo>
                    <a:pt x="55" y="1530"/>
                  </a:lnTo>
                  <a:lnTo>
                    <a:pt x="0" y="159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Freeform 53"/>
            <p:cNvSpPr/>
            <p:nvPr/>
          </p:nvSpPr>
          <p:spPr>
            <a:xfrm>
              <a:off x="4714920" y="1773360"/>
              <a:ext cx="673200" cy="1542960"/>
            </a:xfrm>
            <a:custGeom>
              <a:avLst/>
              <a:gdLst>
                <a:gd name="textAreaLeft" fmla="*/ 0 w 673200"/>
                <a:gd name="textAreaRight" fmla="*/ 673560 w 673200"/>
                <a:gd name="textAreaTop" fmla="*/ 0 h 1542960"/>
                <a:gd name="textAreaBottom" fmla="*/ 1543320 h 1542960"/>
              </a:gdLst>
              <a:ahLst/>
              <a:rect l="textAreaLeft" t="textAreaTop" r="textAreaRight" b="textAreaBottom"/>
              <a:pathLst>
                <a:path w="424" h="972">
                  <a:moveTo>
                    <a:pt x="0" y="0"/>
                  </a:moveTo>
                  <a:lnTo>
                    <a:pt x="80" y="73"/>
                  </a:lnTo>
                  <a:lnTo>
                    <a:pt x="146" y="144"/>
                  </a:lnTo>
                  <a:lnTo>
                    <a:pt x="211" y="214"/>
                  </a:lnTo>
                  <a:lnTo>
                    <a:pt x="278" y="298"/>
                  </a:lnTo>
                  <a:lnTo>
                    <a:pt x="328" y="393"/>
                  </a:lnTo>
                  <a:lnTo>
                    <a:pt x="372" y="490"/>
                  </a:lnTo>
                  <a:lnTo>
                    <a:pt x="408" y="622"/>
                  </a:lnTo>
                  <a:lnTo>
                    <a:pt x="423" y="723"/>
                  </a:lnTo>
                  <a:lnTo>
                    <a:pt x="420" y="821"/>
                  </a:lnTo>
                  <a:lnTo>
                    <a:pt x="402" y="971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Freeform 54"/>
            <p:cNvSpPr/>
            <p:nvPr/>
          </p:nvSpPr>
          <p:spPr>
            <a:xfrm>
              <a:off x="4773600" y="1774800"/>
              <a:ext cx="1384200" cy="2559240"/>
            </a:xfrm>
            <a:custGeom>
              <a:avLst/>
              <a:gdLst/>
              <a:ahLst/>
              <a:rect l="l" t="t" r="r" b="b"/>
              <a:pathLst>
                <a:path w="872" h="1612">
                  <a:moveTo>
                    <a:pt x="0" y="0"/>
                  </a:moveTo>
                  <a:lnTo>
                    <a:pt x="80" y="54"/>
                  </a:lnTo>
                  <a:lnTo>
                    <a:pt x="150" y="112"/>
                  </a:lnTo>
                  <a:lnTo>
                    <a:pt x="248" y="214"/>
                  </a:lnTo>
                  <a:lnTo>
                    <a:pt x="317" y="305"/>
                  </a:lnTo>
                  <a:lnTo>
                    <a:pt x="383" y="404"/>
                  </a:lnTo>
                  <a:lnTo>
                    <a:pt x="430" y="508"/>
                  </a:lnTo>
                  <a:lnTo>
                    <a:pt x="467" y="614"/>
                  </a:lnTo>
                  <a:lnTo>
                    <a:pt x="488" y="720"/>
                  </a:lnTo>
                  <a:lnTo>
                    <a:pt x="492" y="811"/>
                  </a:lnTo>
                  <a:lnTo>
                    <a:pt x="500" y="913"/>
                  </a:lnTo>
                  <a:lnTo>
                    <a:pt x="520" y="1015"/>
                  </a:lnTo>
                  <a:lnTo>
                    <a:pt x="557" y="1124"/>
                  </a:lnTo>
                  <a:lnTo>
                    <a:pt x="611" y="1233"/>
                  </a:lnTo>
                  <a:lnTo>
                    <a:pt x="659" y="1332"/>
                  </a:lnTo>
                  <a:lnTo>
                    <a:pt x="717" y="1421"/>
                  </a:lnTo>
                  <a:lnTo>
                    <a:pt x="790" y="1522"/>
                  </a:lnTo>
                  <a:lnTo>
                    <a:pt x="871" y="1611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Freeform 55"/>
            <p:cNvSpPr/>
            <p:nvPr/>
          </p:nvSpPr>
          <p:spPr>
            <a:xfrm>
              <a:off x="4857840" y="1778040"/>
              <a:ext cx="1384200" cy="2566800"/>
            </a:xfrm>
            <a:custGeom>
              <a:avLst/>
              <a:gdLst/>
              <a:ahLst/>
              <a:rect l="l" t="t" r="r" b="b"/>
              <a:pathLst>
                <a:path w="872" h="1617">
                  <a:moveTo>
                    <a:pt x="0" y="0"/>
                  </a:moveTo>
                  <a:lnTo>
                    <a:pt x="114" y="70"/>
                  </a:lnTo>
                  <a:lnTo>
                    <a:pt x="197" y="141"/>
                  </a:lnTo>
                  <a:lnTo>
                    <a:pt x="296" y="240"/>
                  </a:lnTo>
                  <a:lnTo>
                    <a:pt x="365" y="324"/>
                  </a:lnTo>
                  <a:lnTo>
                    <a:pt x="434" y="425"/>
                  </a:lnTo>
                  <a:lnTo>
                    <a:pt x="480" y="528"/>
                  </a:lnTo>
                  <a:lnTo>
                    <a:pt x="518" y="634"/>
                  </a:lnTo>
                  <a:lnTo>
                    <a:pt x="539" y="738"/>
                  </a:lnTo>
                  <a:lnTo>
                    <a:pt x="542" y="829"/>
                  </a:lnTo>
                  <a:lnTo>
                    <a:pt x="550" y="932"/>
                  </a:lnTo>
                  <a:lnTo>
                    <a:pt x="572" y="1033"/>
                  </a:lnTo>
                  <a:lnTo>
                    <a:pt x="609" y="1142"/>
                  </a:lnTo>
                  <a:lnTo>
                    <a:pt x="641" y="1234"/>
                  </a:lnTo>
                  <a:lnTo>
                    <a:pt x="685" y="1332"/>
                  </a:lnTo>
                  <a:lnTo>
                    <a:pt x="725" y="1426"/>
                  </a:lnTo>
                  <a:lnTo>
                    <a:pt x="780" y="1509"/>
                  </a:lnTo>
                  <a:lnTo>
                    <a:pt x="871" y="161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3176640" y="1819440"/>
              <a:ext cx="1089000" cy="2554200"/>
            </a:xfrm>
            <a:custGeom>
              <a:avLst/>
              <a:gdLst>
                <a:gd name="textAreaLeft" fmla="*/ 0 w 1089000"/>
                <a:gd name="textAreaRight" fmla="*/ 1089000 w 108900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686" h="1609">
                  <a:moveTo>
                    <a:pt x="685" y="0"/>
                  </a:moveTo>
                  <a:lnTo>
                    <a:pt x="608" y="80"/>
                  </a:lnTo>
                  <a:lnTo>
                    <a:pt x="524" y="185"/>
                  </a:lnTo>
                  <a:lnTo>
                    <a:pt x="462" y="276"/>
                  </a:lnTo>
                  <a:lnTo>
                    <a:pt x="400" y="380"/>
                  </a:lnTo>
                  <a:lnTo>
                    <a:pt x="353" y="476"/>
                  </a:lnTo>
                  <a:lnTo>
                    <a:pt x="298" y="585"/>
                  </a:lnTo>
                  <a:lnTo>
                    <a:pt x="265" y="690"/>
                  </a:lnTo>
                  <a:lnTo>
                    <a:pt x="254" y="782"/>
                  </a:lnTo>
                  <a:lnTo>
                    <a:pt x="237" y="888"/>
                  </a:lnTo>
                  <a:lnTo>
                    <a:pt x="223" y="992"/>
                  </a:lnTo>
                  <a:lnTo>
                    <a:pt x="193" y="1102"/>
                  </a:lnTo>
                  <a:lnTo>
                    <a:pt x="169" y="1204"/>
                  </a:lnTo>
                  <a:lnTo>
                    <a:pt x="139" y="1309"/>
                  </a:lnTo>
                  <a:lnTo>
                    <a:pt x="114" y="1402"/>
                  </a:lnTo>
                  <a:lnTo>
                    <a:pt x="78" y="1476"/>
                  </a:lnTo>
                  <a:lnTo>
                    <a:pt x="40" y="1537"/>
                  </a:lnTo>
                  <a:lnTo>
                    <a:pt x="0" y="1608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8" name="Freeform 57"/>
            <p:cNvSpPr/>
            <p:nvPr/>
          </p:nvSpPr>
          <p:spPr>
            <a:xfrm>
              <a:off x="3738600" y="1785960"/>
              <a:ext cx="627120" cy="148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1487520"/>
                <a:gd name="textAreaBottom" fmla="*/ 1487880 h 1487520"/>
              </a:gdLst>
              <a:ahLst/>
              <a:rect l="textAreaLeft" t="textAreaTop" r="textAreaRight" b="textAreaBottom"/>
              <a:pathLst>
                <a:path w="395" h="937">
                  <a:moveTo>
                    <a:pt x="394" y="0"/>
                  </a:moveTo>
                  <a:lnTo>
                    <a:pt x="293" y="120"/>
                  </a:lnTo>
                  <a:lnTo>
                    <a:pt x="226" y="210"/>
                  </a:lnTo>
                  <a:lnTo>
                    <a:pt x="182" y="295"/>
                  </a:lnTo>
                  <a:lnTo>
                    <a:pt x="128" y="397"/>
                  </a:lnTo>
                  <a:lnTo>
                    <a:pt x="80" y="505"/>
                  </a:lnTo>
                  <a:lnTo>
                    <a:pt x="41" y="607"/>
                  </a:lnTo>
                  <a:lnTo>
                    <a:pt x="11" y="713"/>
                  </a:lnTo>
                  <a:lnTo>
                    <a:pt x="3" y="793"/>
                  </a:lnTo>
                  <a:lnTo>
                    <a:pt x="0" y="93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Freeform 58"/>
            <p:cNvSpPr/>
            <p:nvPr/>
          </p:nvSpPr>
          <p:spPr>
            <a:xfrm>
              <a:off x="3909960" y="1782720"/>
              <a:ext cx="512640" cy="2571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323" h="1620">
                  <a:moveTo>
                    <a:pt x="322" y="0"/>
                  </a:moveTo>
                  <a:lnTo>
                    <a:pt x="288" y="44"/>
                  </a:lnTo>
                  <a:lnTo>
                    <a:pt x="234" y="120"/>
                  </a:lnTo>
                  <a:lnTo>
                    <a:pt x="179" y="207"/>
                  </a:lnTo>
                  <a:lnTo>
                    <a:pt x="132" y="301"/>
                  </a:lnTo>
                  <a:lnTo>
                    <a:pt x="91" y="403"/>
                  </a:lnTo>
                  <a:lnTo>
                    <a:pt x="55" y="510"/>
                  </a:lnTo>
                  <a:lnTo>
                    <a:pt x="23" y="607"/>
                  </a:lnTo>
                  <a:lnTo>
                    <a:pt x="8" y="702"/>
                  </a:lnTo>
                  <a:lnTo>
                    <a:pt x="0" y="808"/>
                  </a:lnTo>
                  <a:lnTo>
                    <a:pt x="5" y="910"/>
                  </a:lnTo>
                  <a:lnTo>
                    <a:pt x="15" y="1007"/>
                  </a:lnTo>
                  <a:lnTo>
                    <a:pt x="41" y="1124"/>
                  </a:lnTo>
                  <a:lnTo>
                    <a:pt x="66" y="1226"/>
                  </a:lnTo>
                  <a:lnTo>
                    <a:pt x="91" y="1340"/>
                  </a:lnTo>
                  <a:lnTo>
                    <a:pt x="132" y="1432"/>
                  </a:lnTo>
                  <a:lnTo>
                    <a:pt x="161" y="1505"/>
                  </a:lnTo>
                  <a:lnTo>
                    <a:pt x="219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0" name="Freeform 59"/>
            <p:cNvSpPr/>
            <p:nvPr/>
          </p:nvSpPr>
          <p:spPr>
            <a:xfrm>
              <a:off x="4075200" y="1782720"/>
              <a:ext cx="406440" cy="2571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256" h="1620">
                  <a:moveTo>
                    <a:pt x="255" y="0"/>
                  </a:moveTo>
                  <a:lnTo>
                    <a:pt x="226" y="44"/>
                  </a:lnTo>
                  <a:lnTo>
                    <a:pt x="182" y="120"/>
                  </a:lnTo>
                  <a:lnTo>
                    <a:pt x="128" y="218"/>
                  </a:lnTo>
                  <a:lnTo>
                    <a:pt x="99" y="306"/>
                  </a:lnTo>
                  <a:lnTo>
                    <a:pt x="70" y="407"/>
                  </a:lnTo>
                  <a:lnTo>
                    <a:pt x="40" y="498"/>
                  </a:lnTo>
                  <a:lnTo>
                    <a:pt x="22" y="597"/>
                  </a:lnTo>
                  <a:lnTo>
                    <a:pt x="8" y="697"/>
                  </a:lnTo>
                  <a:lnTo>
                    <a:pt x="0" y="808"/>
                  </a:lnTo>
                  <a:lnTo>
                    <a:pt x="0" y="902"/>
                  </a:lnTo>
                  <a:lnTo>
                    <a:pt x="11" y="1011"/>
                  </a:lnTo>
                  <a:lnTo>
                    <a:pt x="29" y="1124"/>
                  </a:lnTo>
                  <a:lnTo>
                    <a:pt x="47" y="1226"/>
                  </a:lnTo>
                  <a:lnTo>
                    <a:pt x="58" y="1332"/>
                  </a:lnTo>
                  <a:lnTo>
                    <a:pt x="84" y="1422"/>
                  </a:lnTo>
                  <a:lnTo>
                    <a:pt x="109" y="1505"/>
                  </a:lnTo>
                  <a:lnTo>
                    <a:pt x="143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1" name="Freeform 60"/>
            <p:cNvSpPr/>
            <p:nvPr/>
          </p:nvSpPr>
          <p:spPr>
            <a:xfrm>
              <a:off x="4241880" y="1789200"/>
              <a:ext cx="268200" cy="25668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566800"/>
                <a:gd name="textAreaBottom" fmla="*/ 2566800 h 2566800"/>
              </a:gdLst>
              <a:ahLst/>
              <a:rect l="textAreaLeft" t="textAreaTop" r="textAreaRight" b="textAreaBottom"/>
              <a:pathLst>
                <a:path w="169" h="1617">
                  <a:moveTo>
                    <a:pt x="168" y="0"/>
                  </a:moveTo>
                  <a:lnTo>
                    <a:pt x="143" y="44"/>
                  </a:lnTo>
                  <a:lnTo>
                    <a:pt x="114" y="124"/>
                  </a:lnTo>
                  <a:lnTo>
                    <a:pt x="84" y="212"/>
                  </a:lnTo>
                  <a:lnTo>
                    <a:pt x="66" y="295"/>
                  </a:lnTo>
                  <a:lnTo>
                    <a:pt x="47" y="404"/>
                  </a:lnTo>
                  <a:lnTo>
                    <a:pt x="33" y="513"/>
                  </a:lnTo>
                  <a:lnTo>
                    <a:pt x="23" y="594"/>
                  </a:lnTo>
                  <a:lnTo>
                    <a:pt x="11" y="695"/>
                  </a:lnTo>
                  <a:lnTo>
                    <a:pt x="0" y="805"/>
                  </a:lnTo>
                  <a:lnTo>
                    <a:pt x="0" y="910"/>
                  </a:lnTo>
                  <a:lnTo>
                    <a:pt x="0" y="1005"/>
                  </a:lnTo>
                  <a:lnTo>
                    <a:pt x="8" y="1106"/>
                  </a:lnTo>
                  <a:lnTo>
                    <a:pt x="15" y="1220"/>
                  </a:lnTo>
                  <a:lnTo>
                    <a:pt x="26" y="1319"/>
                  </a:lnTo>
                  <a:lnTo>
                    <a:pt x="44" y="1426"/>
                  </a:lnTo>
                  <a:lnTo>
                    <a:pt x="52" y="1502"/>
                  </a:lnTo>
                  <a:lnTo>
                    <a:pt x="62" y="1616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2" name="Freeform 61"/>
            <p:cNvSpPr/>
            <p:nvPr/>
          </p:nvSpPr>
          <p:spPr>
            <a:xfrm>
              <a:off x="4386240" y="1787400"/>
              <a:ext cx="160200" cy="258444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2584440"/>
                <a:gd name="textAreaBottom" fmla="*/ 2584440 h 2584440"/>
              </a:gdLst>
              <a:ahLst/>
              <a:rect l="textAreaLeft" t="textAreaTop" r="textAreaRight" b="textAreaBottom"/>
              <a:pathLst>
                <a:path w="101" h="1628">
                  <a:moveTo>
                    <a:pt x="100" y="0"/>
                  </a:moveTo>
                  <a:lnTo>
                    <a:pt x="82" y="52"/>
                  </a:lnTo>
                  <a:lnTo>
                    <a:pt x="59" y="127"/>
                  </a:lnTo>
                  <a:lnTo>
                    <a:pt x="44" y="215"/>
                  </a:lnTo>
                  <a:lnTo>
                    <a:pt x="37" y="295"/>
                  </a:lnTo>
                  <a:lnTo>
                    <a:pt x="37" y="394"/>
                  </a:lnTo>
                  <a:lnTo>
                    <a:pt x="30" y="492"/>
                  </a:lnTo>
                  <a:lnTo>
                    <a:pt x="30" y="594"/>
                  </a:lnTo>
                  <a:lnTo>
                    <a:pt x="26" y="687"/>
                  </a:lnTo>
                  <a:lnTo>
                    <a:pt x="23" y="793"/>
                  </a:lnTo>
                  <a:lnTo>
                    <a:pt x="19" y="907"/>
                  </a:lnTo>
                  <a:lnTo>
                    <a:pt x="11" y="1008"/>
                  </a:lnTo>
                  <a:lnTo>
                    <a:pt x="11" y="1114"/>
                  </a:lnTo>
                  <a:lnTo>
                    <a:pt x="11" y="1223"/>
                  </a:lnTo>
                  <a:lnTo>
                    <a:pt x="8" y="1325"/>
                  </a:lnTo>
                  <a:lnTo>
                    <a:pt x="11" y="1419"/>
                  </a:lnTo>
                  <a:lnTo>
                    <a:pt x="8" y="1510"/>
                  </a:lnTo>
                  <a:lnTo>
                    <a:pt x="0" y="1627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3" name="Line 62"/>
            <p:cNvSpPr/>
            <p:nvPr/>
          </p:nvSpPr>
          <p:spPr>
            <a:xfrm>
              <a:off x="3970440" y="4046400"/>
              <a:ext cx="1003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Line 63"/>
            <p:cNvSpPr/>
            <p:nvPr/>
          </p:nvSpPr>
          <p:spPr>
            <a:xfrm>
              <a:off x="4056120" y="4173480"/>
              <a:ext cx="8017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Freeform 64"/>
            <p:cNvSpPr/>
            <p:nvPr/>
          </p:nvSpPr>
          <p:spPr>
            <a:xfrm>
              <a:off x="2436840" y="1790640"/>
              <a:ext cx="496800" cy="255600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556000"/>
                <a:gd name="textAreaBottom" fmla="*/ 2556360 h 2556000"/>
              </a:gdLst>
              <a:ahLst/>
              <a:rect l="textAreaLeft" t="textAreaTop" r="textAreaRight" b="textAreaBottom"/>
              <a:pathLst>
                <a:path w="313" h="1610">
                  <a:moveTo>
                    <a:pt x="0" y="0"/>
                  </a:moveTo>
                  <a:lnTo>
                    <a:pt x="11" y="41"/>
                  </a:lnTo>
                  <a:lnTo>
                    <a:pt x="26" y="124"/>
                  </a:lnTo>
                  <a:lnTo>
                    <a:pt x="37" y="212"/>
                  </a:lnTo>
                  <a:lnTo>
                    <a:pt x="59" y="329"/>
                  </a:lnTo>
                  <a:lnTo>
                    <a:pt x="70" y="495"/>
                  </a:lnTo>
                  <a:lnTo>
                    <a:pt x="75" y="597"/>
                  </a:lnTo>
                  <a:lnTo>
                    <a:pt x="80" y="695"/>
                  </a:lnTo>
                  <a:lnTo>
                    <a:pt x="83" y="793"/>
                  </a:lnTo>
                  <a:lnTo>
                    <a:pt x="90" y="899"/>
                  </a:lnTo>
                  <a:lnTo>
                    <a:pt x="102" y="1001"/>
                  </a:lnTo>
                  <a:lnTo>
                    <a:pt x="120" y="1108"/>
                  </a:lnTo>
                  <a:lnTo>
                    <a:pt x="150" y="1221"/>
                  </a:lnTo>
                  <a:lnTo>
                    <a:pt x="176" y="1330"/>
                  </a:lnTo>
                  <a:lnTo>
                    <a:pt x="205" y="1418"/>
                  </a:lnTo>
                  <a:lnTo>
                    <a:pt x="247" y="1501"/>
                  </a:lnTo>
                  <a:lnTo>
                    <a:pt x="312" y="160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Freeform 65"/>
            <p:cNvSpPr/>
            <p:nvPr/>
          </p:nvSpPr>
          <p:spPr>
            <a:xfrm>
              <a:off x="2459160" y="1792440"/>
              <a:ext cx="549000" cy="258444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2584440"/>
                <a:gd name="textAreaBottom" fmla="*/ 2584440 h 2584440"/>
              </a:gdLst>
              <a:ahLst/>
              <a:rect l="textAreaLeft" t="textAreaTop" r="textAreaRight" b="textAreaBottom"/>
              <a:pathLst>
                <a:path w="346" h="1628">
                  <a:moveTo>
                    <a:pt x="0" y="0"/>
                  </a:moveTo>
                  <a:lnTo>
                    <a:pt x="37" y="59"/>
                  </a:lnTo>
                  <a:lnTo>
                    <a:pt x="65" y="114"/>
                  </a:lnTo>
                  <a:lnTo>
                    <a:pt x="94" y="200"/>
                  </a:lnTo>
                  <a:lnTo>
                    <a:pt x="142" y="394"/>
                  </a:lnTo>
                  <a:lnTo>
                    <a:pt x="152" y="488"/>
                  </a:lnTo>
                  <a:lnTo>
                    <a:pt x="163" y="594"/>
                  </a:lnTo>
                  <a:lnTo>
                    <a:pt x="174" y="702"/>
                  </a:lnTo>
                  <a:lnTo>
                    <a:pt x="181" y="804"/>
                  </a:lnTo>
                  <a:lnTo>
                    <a:pt x="181" y="896"/>
                  </a:lnTo>
                  <a:lnTo>
                    <a:pt x="192" y="1002"/>
                  </a:lnTo>
                  <a:lnTo>
                    <a:pt x="203" y="1115"/>
                  </a:lnTo>
                  <a:lnTo>
                    <a:pt x="221" y="1221"/>
                  </a:lnTo>
                  <a:lnTo>
                    <a:pt x="236" y="1315"/>
                  </a:lnTo>
                  <a:lnTo>
                    <a:pt x="257" y="1421"/>
                  </a:lnTo>
                  <a:lnTo>
                    <a:pt x="286" y="1497"/>
                  </a:lnTo>
                  <a:lnTo>
                    <a:pt x="345" y="1627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Freeform 66"/>
            <p:cNvSpPr/>
            <p:nvPr/>
          </p:nvSpPr>
          <p:spPr>
            <a:xfrm>
              <a:off x="2511360" y="1800360"/>
              <a:ext cx="544680" cy="2571480"/>
            </a:xfrm>
            <a:custGeom>
              <a:avLst/>
              <a:gdLst>
                <a:gd name="textAreaLeft" fmla="*/ 0 w 544680"/>
                <a:gd name="textAreaRight" fmla="*/ 545040 w 544680"/>
                <a:gd name="textAreaTop" fmla="*/ 0 h 2571480"/>
                <a:gd name="textAreaBottom" fmla="*/ 2571840 h 2571480"/>
              </a:gdLst>
              <a:ahLst/>
              <a:rect l="textAreaLeft" t="textAreaTop" r="textAreaRight" b="textAreaBottom"/>
              <a:pathLst>
                <a:path w="343" h="1620">
                  <a:moveTo>
                    <a:pt x="0" y="0"/>
                  </a:moveTo>
                  <a:lnTo>
                    <a:pt x="43" y="65"/>
                  </a:lnTo>
                  <a:lnTo>
                    <a:pt x="87" y="134"/>
                  </a:lnTo>
                  <a:lnTo>
                    <a:pt x="124" y="214"/>
                  </a:lnTo>
                  <a:lnTo>
                    <a:pt x="156" y="287"/>
                  </a:lnTo>
                  <a:lnTo>
                    <a:pt x="182" y="378"/>
                  </a:lnTo>
                  <a:lnTo>
                    <a:pt x="211" y="505"/>
                  </a:lnTo>
                  <a:lnTo>
                    <a:pt x="229" y="607"/>
                  </a:lnTo>
                  <a:lnTo>
                    <a:pt x="244" y="683"/>
                  </a:lnTo>
                  <a:lnTo>
                    <a:pt x="259" y="800"/>
                  </a:lnTo>
                  <a:lnTo>
                    <a:pt x="259" y="895"/>
                  </a:lnTo>
                  <a:lnTo>
                    <a:pt x="254" y="1011"/>
                  </a:lnTo>
                  <a:lnTo>
                    <a:pt x="262" y="1110"/>
                  </a:lnTo>
                  <a:lnTo>
                    <a:pt x="262" y="1213"/>
                  </a:lnTo>
                  <a:lnTo>
                    <a:pt x="269" y="1314"/>
                  </a:lnTo>
                  <a:lnTo>
                    <a:pt x="280" y="1408"/>
                  </a:lnTo>
                  <a:lnTo>
                    <a:pt x="298" y="1493"/>
                  </a:lnTo>
                  <a:lnTo>
                    <a:pt x="317" y="1559"/>
                  </a:lnTo>
                  <a:lnTo>
                    <a:pt x="342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Freeform 67"/>
            <p:cNvSpPr/>
            <p:nvPr/>
          </p:nvSpPr>
          <p:spPr>
            <a:xfrm>
              <a:off x="2550960" y="1803240"/>
              <a:ext cx="536760" cy="2571840"/>
            </a:xfrm>
            <a:custGeom>
              <a:avLst/>
              <a:gdLst>
                <a:gd name="textAreaLeft" fmla="*/ 0 w 536760"/>
                <a:gd name="textAreaRight" fmla="*/ 537120 w 53676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338" h="1620">
                  <a:moveTo>
                    <a:pt x="0" y="0"/>
                  </a:moveTo>
                  <a:lnTo>
                    <a:pt x="52" y="51"/>
                  </a:lnTo>
                  <a:lnTo>
                    <a:pt x="96" y="106"/>
                  </a:lnTo>
                  <a:lnTo>
                    <a:pt x="153" y="192"/>
                  </a:lnTo>
                  <a:lnTo>
                    <a:pt x="194" y="283"/>
                  </a:lnTo>
                  <a:lnTo>
                    <a:pt x="238" y="386"/>
                  </a:lnTo>
                  <a:lnTo>
                    <a:pt x="274" y="487"/>
                  </a:lnTo>
                  <a:lnTo>
                    <a:pt x="300" y="596"/>
                  </a:lnTo>
                  <a:lnTo>
                    <a:pt x="318" y="694"/>
                  </a:lnTo>
                  <a:lnTo>
                    <a:pt x="326" y="793"/>
                  </a:lnTo>
                  <a:lnTo>
                    <a:pt x="326" y="888"/>
                  </a:lnTo>
                  <a:lnTo>
                    <a:pt x="326" y="1005"/>
                  </a:lnTo>
                  <a:lnTo>
                    <a:pt x="326" y="1104"/>
                  </a:lnTo>
                  <a:lnTo>
                    <a:pt x="322" y="1213"/>
                  </a:lnTo>
                  <a:lnTo>
                    <a:pt x="318" y="1317"/>
                  </a:lnTo>
                  <a:lnTo>
                    <a:pt x="322" y="1402"/>
                  </a:lnTo>
                  <a:lnTo>
                    <a:pt x="322" y="1486"/>
                  </a:lnTo>
                  <a:lnTo>
                    <a:pt x="326" y="1551"/>
                  </a:lnTo>
                  <a:lnTo>
                    <a:pt x="337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Freeform 68"/>
            <p:cNvSpPr/>
            <p:nvPr/>
          </p:nvSpPr>
          <p:spPr>
            <a:xfrm>
              <a:off x="2620800" y="1811160"/>
              <a:ext cx="619200" cy="257184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2571840"/>
                <a:gd name="textAreaBottom" fmla="*/ 2572200 h 2571840"/>
              </a:gdLst>
              <a:ahLst/>
              <a:rect l="textAreaLeft" t="textAreaTop" r="textAreaRight" b="textAreaBottom"/>
              <a:pathLst>
                <a:path w="390" h="1620">
                  <a:moveTo>
                    <a:pt x="0" y="0"/>
                  </a:moveTo>
                  <a:lnTo>
                    <a:pt x="54" y="47"/>
                  </a:lnTo>
                  <a:lnTo>
                    <a:pt x="93" y="96"/>
                  </a:lnTo>
                  <a:lnTo>
                    <a:pt x="173" y="200"/>
                  </a:lnTo>
                  <a:lnTo>
                    <a:pt x="220" y="273"/>
                  </a:lnTo>
                  <a:lnTo>
                    <a:pt x="273" y="379"/>
                  </a:lnTo>
                  <a:lnTo>
                    <a:pt x="320" y="487"/>
                  </a:lnTo>
                  <a:lnTo>
                    <a:pt x="361" y="597"/>
                  </a:lnTo>
                  <a:lnTo>
                    <a:pt x="383" y="699"/>
                  </a:lnTo>
                  <a:lnTo>
                    <a:pt x="389" y="786"/>
                  </a:lnTo>
                  <a:lnTo>
                    <a:pt x="389" y="889"/>
                  </a:lnTo>
                  <a:lnTo>
                    <a:pt x="387" y="983"/>
                  </a:lnTo>
                  <a:lnTo>
                    <a:pt x="372" y="1100"/>
                  </a:lnTo>
                  <a:lnTo>
                    <a:pt x="361" y="1195"/>
                  </a:lnTo>
                  <a:lnTo>
                    <a:pt x="350" y="1307"/>
                  </a:lnTo>
                  <a:lnTo>
                    <a:pt x="339" y="1406"/>
                  </a:lnTo>
                  <a:lnTo>
                    <a:pt x="332" y="1483"/>
                  </a:lnTo>
                  <a:lnTo>
                    <a:pt x="320" y="1556"/>
                  </a:lnTo>
                  <a:lnTo>
                    <a:pt x="310" y="1619"/>
                  </a:lnTo>
                </a:path>
              </a:pathLst>
            </a:custGeom>
            <a:noFill/>
            <a:ln cap="rnd" w="12600">
              <a:solidFill>
                <a:srgbClr val="44985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80" name="Group 69"/>
            <p:cNvGrpSpPr/>
            <p:nvPr/>
          </p:nvGrpSpPr>
          <p:grpSpPr>
            <a:xfrm>
              <a:off x="1062000" y="1774800"/>
              <a:ext cx="5994360" cy="2614680"/>
              <a:chOff x="1062000" y="1774800"/>
              <a:chExt cx="5994360" cy="2614680"/>
            </a:xfrm>
          </p:grpSpPr>
          <p:sp>
            <p:nvSpPr>
              <p:cNvPr id="181" name="Freeform 70"/>
              <p:cNvSpPr/>
              <p:nvPr/>
            </p:nvSpPr>
            <p:spPr>
              <a:xfrm>
                <a:off x="1062000" y="1774800"/>
                <a:ext cx="5994360" cy="2614680"/>
              </a:xfrm>
              <a:custGeom>
                <a:avLst/>
                <a:gdLst>
                  <a:gd name="textAreaLeft" fmla="*/ 0 w 5994360"/>
                  <a:gd name="textAreaRight" fmla="*/ 5994720 w 5994360"/>
                  <a:gd name="textAreaTop" fmla="*/ 0 h 2614680"/>
                  <a:gd name="textAreaBottom" fmla="*/ 2615040 h 2614680"/>
                </a:gdLst>
                <a:ahLst/>
                <a:rect l="textAreaLeft" t="textAreaTop" r="textAreaRight" b="textAreaBottom"/>
                <a:pathLst>
                  <a:path w="3776" h="1647">
                    <a:moveTo>
                      <a:pt x="1427" y="243"/>
                    </a:moveTo>
                    <a:lnTo>
                      <a:pt x="1358" y="174"/>
                    </a:lnTo>
                    <a:lnTo>
                      <a:pt x="1285" y="120"/>
                    </a:lnTo>
                    <a:lnTo>
                      <a:pt x="1190" y="73"/>
                    </a:lnTo>
                    <a:lnTo>
                      <a:pt x="1088" y="39"/>
                    </a:lnTo>
                    <a:lnTo>
                      <a:pt x="993" y="21"/>
                    </a:lnTo>
                    <a:lnTo>
                      <a:pt x="892" y="10"/>
                    </a:lnTo>
                    <a:lnTo>
                      <a:pt x="804" y="10"/>
                    </a:lnTo>
                    <a:lnTo>
                      <a:pt x="710" y="18"/>
                    </a:lnTo>
                    <a:lnTo>
                      <a:pt x="596" y="51"/>
                    </a:lnTo>
                    <a:lnTo>
                      <a:pt x="505" y="106"/>
                    </a:lnTo>
                    <a:lnTo>
                      <a:pt x="425" y="163"/>
                    </a:lnTo>
                    <a:lnTo>
                      <a:pt x="355" y="222"/>
                    </a:lnTo>
                    <a:lnTo>
                      <a:pt x="283" y="290"/>
                    </a:lnTo>
                    <a:lnTo>
                      <a:pt x="215" y="368"/>
                    </a:lnTo>
                    <a:lnTo>
                      <a:pt x="159" y="440"/>
                    </a:lnTo>
                    <a:lnTo>
                      <a:pt x="107" y="510"/>
                    </a:lnTo>
                    <a:lnTo>
                      <a:pt x="64" y="576"/>
                    </a:lnTo>
                    <a:lnTo>
                      <a:pt x="33" y="637"/>
                    </a:lnTo>
                    <a:lnTo>
                      <a:pt x="10" y="701"/>
                    </a:lnTo>
                    <a:lnTo>
                      <a:pt x="0" y="789"/>
                    </a:lnTo>
                    <a:lnTo>
                      <a:pt x="0" y="879"/>
                    </a:lnTo>
                    <a:lnTo>
                      <a:pt x="6" y="964"/>
                    </a:lnTo>
                    <a:lnTo>
                      <a:pt x="17" y="1044"/>
                    </a:lnTo>
                    <a:lnTo>
                      <a:pt x="28" y="1134"/>
                    </a:lnTo>
                    <a:lnTo>
                      <a:pt x="43" y="1240"/>
                    </a:lnTo>
                    <a:lnTo>
                      <a:pt x="63" y="1347"/>
                    </a:lnTo>
                    <a:lnTo>
                      <a:pt x="87" y="1442"/>
                    </a:lnTo>
                    <a:lnTo>
                      <a:pt x="112" y="1510"/>
                    </a:lnTo>
                    <a:lnTo>
                      <a:pt x="144" y="1560"/>
                    </a:lnTo>
                    <a:lnTo>
                      <a:pt x="181" y="1608"/>
                    </a:lnTo>
                    <a:lnTo>
                      <a:pt x="222" y="1638"/>
                    </a:lnTo>
                    <a:lnTo>
                      <a:pt x="258" y="1640"/>
                    </a:lnTo>
                    <a:lnTo>
                      <a:pt x="326" y="1629"/>
                    </a:lnTo>
                    <a:lnTo>
                      <a:pt x="402" y="1603"/>
                    </a:lnTo>
                    <a:lnTo>
                      <a:pt x="471" y="1570"/>
                    </a:lnTo>
                    <a:lnTo>
                      <a:pt x="522" y="1531"/>
                    </a:lnTo>
                    <a:lnTo>
                      <a:pt x="585" y="1473"/>
                    </a:lnTo>
                    <a:lnTo>
                      <a:pt x="641" y="1401"/>
                    </a:lnTo>
                    <a:lnTo>
                      <a:pt x="695" y="1304"/>
                    </a:lnTo>
                    <a:lnTo>
                      <a:pt x="750" y="1204"/>
                    </a:lnTo>
                    <a:lnTo>
                      <a:pt x="795" y="1111"/>
                    </a:lnTo>
                    <a:lnTo>
                      <a:pt x="827" y="1032"/>
                    </a:lnTo>
                    <a:lnTo>
                      <a:pt x="847" y="967"/>
                    </a:lnTo>
                    <a:lnTo>
                      <a:pt x="856" y="913"/>
                    </a:lnTo>
                    <a:lnTo>
                      <a:pt x="874" y="1053"/>
                    </a:lnTo>
                    <a:lnTo>
                      <a:pt x="921" y="1212"/>
                    </a:lnTo>
                    <a:lnTo>
                      <a:pt x="979" y="1386"/>
                    </a:lnTo>
                    <a:lnTo>
                      <a:pt x="1022" y="1468"/>
                    </a:lnTo>
                    <a:lnTo>
                      <a:pt x="1070" y="1538"/>
                    </a:lnTo>
                    <a:lnTo>
                      <a:pt x="1143" y="1604"/>
                    </a:lnTo>
                    <a:lnTo>
                      <a:pt x="1226" y="1640"/>
                    </a:lnTo>
                    <a:lnTo>
                      <a:pt x="1296" y="1646"/>
                    </a:lnTo>
                    <a:lnTo>
                      <a:pt x="1366" y="1633"/>
                    </a:lnTo>
                    <a:lnTo>
                      <a:pt x="1420" y="1596"/>
                    </a:lnTo>
                    <a:lnTo>
                      <a:pt x="1481" y="1523"/>
                    </a:lnTo>
                    <a:lnTo>
                      <a:pt x="1533" y="1422"/>
                    </a:lnTo>
                    <a:lnTo>
                      <a:pt x="1597" y="1258"/>
                    </a:lnTo>
                    <a:lnTo>
                      <a:pt x="1656" y="1098"/>
                    </a:lnTo>
                    <a:lnTo>
                      <a:pt x="1688" y="938"/>
                    </a:lnTo>
                    <a:lnTo>
                      <a:pt x="1706" y="1086"/>
                    </a:lnTo>
                    <a:lnTo>
                      <a:pt x="1750" y="1230"/>
                    </a:lnTo>
                    <a:lnTo>
                      <a:pt x="1791" y="1339"/>
                    </a:lnTo>
                    <a:lnTo>
                      <a:pt x="1835" y="1435"/>
                    </a:lnTo>
                    <a:lnTo>
                      <a:pt x="1890" y="1518"/>
                    </a:lnTo>
                    <a:lnTo>
                      <a:pt x="1937" y="1581"/>
                    </a:lnTo>
                    <a:lnTo>
                      <a:pt x="2006" y="1622"/>
                    </a:lnTo>
                    <a:lnTo>
                      <a:pt x="2097" y="1637"/>
                    </a:lnTo>
                    <a:lnTo>
                      <a:pt x="2189" y="1629"/>
                    </a:lnTo>
                    <a:lnTo>
                      <a:pt x="2268" y="1603"/>
                    </a:lnTo>
                    <a:lnTo>
                      <a:pt x="2336" y="1560"/>
                    </a:lnTo>
                    <a:lnTo>
                      <a:pt x="2406" y="1498"/>
                    </a:lnTo>
                    <a:lnTo>
                      <a:pt x="2476" y="1410"/>
                    </a:lnTo>
                    <a:lnTo>
                      <a:pt x="2541" y="1316"/>
                    </a:lnTo>
                    <a:lnTo>
                      <a:pt x="2596" y="1228"/>
                    </a:lnTo>
                    <a:lnTo>
                      <a:pt x="2643" y="1145"/>
                    </a:lnTo>
                    <a:lnTo>
                      <a:pt x="2676" y="1065"/>
                    </a:lnTo>
                    <a:lnTo>
                      <a:pt x="2705" y="963"/>
                    </a:lnTo>
                    <a:lnTo>
                      <a:pt x="2752" y="1069"/>
                    </a:lnTo>
                    <a:lnTo>
                      <a:pt x="2800" y="1178"/>
                    </a:lnTo>
                    <a:lnTo>
                      <a:pt x="2857" y="1280"/>
                    </a:lnTo>
                    <a:lnTo>
                      <a:pt x="2901" y="1359"/>
                    </a:lnTo>
                    <a:lnTo>
                      <a:pt x="2967" y="1444"/>
                    </a:lnTo>
                    <a:lnTo>
                      <a:pt x="3047" y="1522"/>
                    </a:lnTo>
                    <a:lnTo>
                      <a:pt x="3135" y="1585"/>
                    </a:lnTo>
                    <a:lnTo>
                      <a:pt x="3237" y="1621"/>
                    </a:lnTo>
                    <a:lnTo>
                      <a:pt x="3350" y="1640"/>
                    </a:lnTo>
                    <a:lnTo>
                      <a:pt x="3434" y="1614"/>
                    </a:lnTo>
                    <a:lnTo>
                      <a:pt x="3502" y="1567"/>
                    </a:lnTo>
                    <a:lnTo>
                      <a:pt x="3569" y="1476"/>
                    </a:lnTo>
                    <a:lnTo>
                      <a:pt x="3630" y="1378"/>
                    </a:lnTo>
                    <a:lnTo>
                      <a:pt x="3674" y="1269"/>
                    </a:lnTo>
                    <a:lnTo>
                      <a:pt x="3718" y="1142"/>
                    </a:lnTo>
                    <a:lnTo>
                      <a:pt x="3751" y="1027"/>
                    </a:lnTo>
                    <a:lnTo>
                      <a:pt x="3768" y="928"/>
                    </a:lnTo>
                    <a:lnTo>
                      <a:pt x="3775" y="811"/>
                    </a:lnTo>
                    <a:lnTo>
                      <a:pt x="3760" y="723"/>
                    </a:lnTo>
                    <a:lnTo>
                      <a:pt x="3684" y="611"/>
                    </a:lnTo>
                    <a:lnTo>
                      <a:pt x="3575" y="505"/>
                    </a:lnTo>
                    <a:lnTo>
                      <a:pt x="3434" y="400"/>
                    </a:lnTo>
                    <a:lnTo>
                      <a:pt x="3332" y="331"/>
                    </a:lnTo>
                    <a:lnTo>
                      <a:pt x="3441" y="331"/>
                    </a:lnTo>
                    <a:lnTo>
                      <a:pt x="3372" y="265"/>
                    </a:lnTo>
                    <a:lnTo>
                      <a:pt x="3262" y="202"/>
                    </a:lnTo>
                    <a:lnTo>
                      <a:pt x="3121" y="145"/>
                    </a:lnTo>
                    <a:lnTo>
                      <a:pt x="2977" y="98"/>
                    </a:lnTo>
                    <a:lnTo>
                      <a:pt x="2840" y="62"/>
                    </a:lnTo>
                    <a:lnTo>
                      <a:pt x="2698" y="33"/>
                    </a:lnTo>
                    <a:lnTo>
                      <a:pt x="2557" y="10"/>
                    </a:lnTo>
                    <a:lnTo>
                      <a:pt x="2380" y="0"/>
                    </a:lnTo>
                    <a:lnTo>
                      <a:pt x="2224" y="0"/>
                    </a:lnTo>
                    <a:lnTo>
                      <a:pt x="2082" y="7"/>
                    </a:lnTo>
                    <a:lnTo>
                      <a:pt x="1984" y="33"/>
                    </a:lnTo>
                    <a:lnTo>
                      <a:pt x="1896" y="73"/>
                    </a:lnTo>
                    <a:lnTo>
                      <a:pt x="1820" y="127"/>
                    </a:lnTo>
                    <a:lnTo>
                      <a:pt x="1743" y="192"/>
                    </a:lnTo>
                    <a:lnTo>
                      <a:pt x="1700" y="251"/>
                    </a:lnTo>
                    <a:lnTo>
                      <a:pt x="1765" y="251"/>
                    </a:lnTo>
                    <a:lnTo>
                      <a:pt x="1718" y="298"/>
                    </a:lnTo>
                    <a:lnTo>
                      <a:pt x="1670" y="360"/>
                    </a:lnTo>
                    <a:lnTo>
                      <a:pt x="1620" y="432"/>
                    </a:lnTo>
                    <a:lnTo>
                      <a:pt x="1569" y="512"/>
                    </a:lnTo>
                    <a:lnTo>
                      <a:pt x="1525" y="607"/>
                    </a:lnTo>
                    <a:lnTo>
                      <a:pt x="1489" y="730"/>
                    </a:lnTo>
                    <a:lnTo>
                      <a:pt x="1452" y="604"/>
                    </a:lnTo>
                    <a:lnTo>
                      <a:pt x="1413" y="512"/>
                    </a:lnTo>
                    <a:lnTo>
                      <a:pt x="1361" y="411"/>
                    </a:lnTo>
                    <a:lnTo>
                      <a:pt x="1310" y="327"/>
                    </a:lnTo>
                    <a:lnTo>
                      <a:pt x="1241" y="243"/>
                    </a:lnTo>
                    <a:lnTo>
                      <a:pt x="1427" y="243"/>
                    </a:lnTo>
                  </a:path>
                </a:pathLst>
              </a:custGeom>
              <a:noFill/>
              <a:ln cap="rnd" w="12600">
                <a:solidFill>
                  <a:srgbClr val="449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82" name="Line 71"/>
              <p:cNvSpPr/>
              <p:nvPr/>
            </p:nvSpPr>
            <p:spPr>
              <a:xfrm>
                <a:off x="1317600" y="4282920"/>
                <a:ext cx="465120" cy="0"/>
              </a:xfrm>
              <a:prstGeom prst="line">
                <a:avLst/>
              </a:prstGeom>
              <a:ln w="12600">
                <a:solidFill>
                  <a:srgbClr val="449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grpSp>
            <p:nvGrpSpPr>
              <p:cNvPr id="183" name="Group 72"/>
              <p:cNvGrpSpPr/>
              <p:nvPr/>
            </p:nvGrpSpPr>
            <p:grpSpPr>
              <a:xfrm>
                <a:off x="1190520" y="4046400"/>
                <a:ext cx="2300400" cy="127080"/>
                <a:chOff x="1190520" y="4046400"/>
                <a:chExt cx="2300400" cy="127080"/>
              </a:xfrm>
            </p:grpSpPr>
            <p:sp>
              <p:nvSpPr>
                <p:cNvPr id="184" name="Line 73"/>
                <p:cNvSpPr/>
                <p:nvPr/>
              </p:nvSpPr>
              <p:spPr>
                <a:xfrm>
                  <a:off x="1190520" y="4046400"/>
                  <a:ext cx="85896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85" name="Line 74"/>
                <p:cNvSpPr/>
                <p:nvPr/>
              </p:nvSpPr>
              <p:spPr>
                <a:xfrm>
                  <a:off x="1243080" y="4173480"/>
                  <a:ext cx="68580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86" name="Line 75"/>
                <p:cNvSpPr/>
                <p:nvPr/>
              </p:nvSpPr>
              <p:spPr>
                <a:xfrm>
                  <a:off x="2651040" y="4046400"/>
                  <a:ext cx="83988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87" name="Line 76"/>
                <p:cNvSpPr/>
                <p:nvPr/>
              </p:nvSpPr>
              <p:spPr>
                <a:xfrm>
                  <a:off x="2738520" y="4173480"/>
                  <a:ext cx="69372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8" name="Line 77"/>
            <p:cNvSpPr/>
            <p:nvPr/>
          </p:nvSpPr>
          <p:spPr>
            <a:xfrm>
              <a:off x="2832120" y="4282920"/>
              <a:ext cx="5065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9" name="Line 78"/>
            <p:cNvSpPr/>
            <p:nvPr/>
          </p:nvSpPr>
          <p:spPr>
            <a:xfrm>
              <a:off x="3776760" y="3389400"/>
              <a:ext cx="15523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0" name="Line 79"/>
            <p:cNvSpPr/>
            <p:nvPr/>
          </p:nvSpPr>
          <p:spPr>
            <a:xfrm>
              <a:off x="3792600" y="3557520"/>
              <a:ext cx="147312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1" name="Line 80"/>
            <p:cNvSpPr/>
            <p:nvPr/>
          </p:nvSpPr>
          <p:spPr>
            <a:xfrm>
              <a:off x="3855960" y="3740040"/>
              <a:ext cx="132408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92" name="Line 81"/>
            <p:cNvSpPr/>
            <p:nvPr/>
          </p:nvSpPr>
          <p:spPr>
            <a:xfrm>
              <a:off x="3927600" y="3900600"/>
              <a:ext cx="1155600" cy="0"/>
            </a:xfrm>
            <a:prstGeom prst="line">
              <a:avLst/>
            </a:prstGeom>
            <a:ln w="12600">
              <a:solidFill>
                <a:srgbClr val="44985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93" name="Group 82"/>
            <p:cNvGrpSpPr/>
            <p:nvPr/>
          </p:nvGrpSpPr>
          <p:grpSpPr>
            <a:xfrm>
              <a:off x="1235160" y="1781280"/>
              <a:ext cx="5790960" cy="2598480"/>
              <a:chOff x="1235160" y="1781280"/>
              <a:chExt cx="5790960" cy="2598480"/>
            </a:xfrm>
          </p:grpSpPr>
          <p:sp>
            <p:nvSpPr>
              <p:cNvPr id="194" name="Freeform 83"/>
              <p:cNvSpPr/>
              <p:nvPr/>
            </p:nvSpPr>
            <p:spPr>
              <a:xfrm>
                <a:off x="1235160" y="1806480"/>
                <a:ext cx="927000" cy="2533680"/>
              </a:xfrm>
              <a:custGeom>
                <a:avLst/>
                <a:gdLst>
                  <a:gd name="textAreaLeft" fmla="*/ 0 w 927000"/>
                  <a:gd name="textAreaRight" fmla="*/ 927360 w 927000"/>
                  <a:gd name="textAreaTop" fmla="*/ 0 h 2533680"/>
                  <a:gd name="textAreaBottom" fmla="*/ 2534040 h 2533680"/>
                </a:gdLst>
                <a:ahLst/>
                <a:rect l="textAreaLeft" t="textAreaTop" r="textAreaRight" b="textAreaBottom"/>
                <a:pathLst>
                  <a:path w="584" h="1596">
                    <a:moveTo>
                      <a:pt x="583" y="0"/>
                    </a:moveTo>
                    <a:lnTo>
                      <a:pt x="510" y="40"/>
                    </a:lnTo>
                    <a:lnTo>
                      <a:pt x="404" y="109"/>
                    </a:lnTo>
                    <a:lnTo>
                      <a:pt x="316" y="185"/>
                    </a:lnTo>
                    <a:lnTo>
                      <a:pt x="243" y="273"/>
                    </a:lnTo>
                    <a:lnTo>
                      <a:pt x="174" y="374"/>
                    </a:lnTo>
                    <a:lnTo>
                      <a:pt x="102" y="483"/>
                    </a:lnTo>
                    <a:lnTo>
                      <a:pt x="54" y="582"/>
                    </a:lnTo>
                    <a:lnTo>
                      <a:pt x="11" y="687"/>
                    </a:lnTo>
                    <a:lnTo>
                      <a:pt x="0" y="781"/>
                    </a:lnTo>
                    <a:lnTo>
                      <a:pt x="0" y="887"/>
                    </a:lnTo>
                    <a:lnTo>
                      <a:pt x="3" y="985"/>
                    </a:lnTo>
                    <a:lnTo>
                      <a:pt x="11" y="1098"/>
                    </a:lnTo>
                    <a:lnTo>
                      <a:pt x="21" y="1214"/>
                    </a:lnTo>
                    <a:lnTo>
                      <a:pt x="33" y="1316"/>
                    </a:lnTo>
                    <a:lnTo>
                      <a:pt x="39" y="1406"/>
                    </a:lnTo>
                    <a:lnTo>
                      <a:pt x="54" y="1482"/>
                    </a:lnTo>
                    <a:lnTo>
                      <a:pt x="91" y="1595"/>
                    </a:lnTo>
                  </a:path>
                </a:pathLst>
              </a:custGeom>
              <a:noFill/>
              <a:ln cap="rnd" w="12600">
                <a:solidFill>
                  <a:srgbClr val="449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5" name="Freeform 84"/>
              <p:cNvSpPr/>
              <p:nvPr/>
            </p:nvSpPr>
            <p:spPr>
              <a:xfrm>
                <a:off x="5145120" y="1797120"/>
                <a:ext cx="1252440" cy="2570040"/>
              </a:xfrm>
              <a:custGeom>
                <a:avLst/>
                <a:gdLst>
                  <a:gd name="textAreaLeft" fmla="*/ 0 w 1252440"/>
                  <a:gd name="textAreaRight" fmla="*/ 1252800 w 1252440"/>
                  <a:gd name="textAreaTop" fmla="*/ 0 h 2570040"/>
                  <a:gd name="textAreaBottom" fmla="*/ 2570400 h 2570040"/>
                </a:gdLst>
                <a:ahLst/>
                <a:rect l="textAreaLeft" t="textAreaTop" r="textAreaRight" b="textAreaBottom"/>
                <a:pathLst>
                  <a:path w="789" h="1619">
                    <a:moveTo>
                      <a:pt x="0" y="0"/>
                    </a:moveTo>
                    <a:lnTo>
                      <a:pt x="128" y="69"/>
                    </a:lnTo>
                    <a:lnTo>
                      <a:pt x="216" y="134"/>
                    </a:lnTo>
                    <a:lnTo>
                      <a:pt x="295" y="199"/>
                    </a:lnTo>
                    <a:lnTo>
                      <a:pt x="365" y="283"/>
                    </a:lnTo>
                    <a:lnTo>
                      <a:pt x="451" y="378"/>
                    </a:lnTo>
                    <a:lnTo>
                      <a:pt x="550" y="494"/>
                    </a:lnTo>
                    <a:lnTo>
                      <a:pt x="627" y="604"/>
                    </a:lnTo>
                    <a:lnTo>
                      <a:pt x="667" y="700"/>
                    </a:lnTo>
                    <a:lnTo>
                      <a:pt x="678" y="796"/>
                    </a:lnTo>
                    <a:lnTo>
                      <a:pt x="674" y="898"/>
                    </a:lnTo>
                    <a:lnTo>
                      <a:pt x="682" y="1010"/>
                    </a:lnTo>
                    <a:lnTo>
                      <a:pt x="692" y="1115"/>
                    </a:lnTo>
                    <a:lnTo>
                      <a:pt x="700" y="1211"/>
                    </a:lnTo>
                    <a:lnTo>
                      <a:pt x="715" y="1324"/>
                    </a:lnTo>
                    <a:lnTo>
                      <a:pt x="726" y="1423"/>
                    </a:lnTo>
                    <a:lnTo>
                      <a:pt x="751" y="1528"/>
                    </a:lnTo>
                    <a:lnTo>
                      <a:pt x="788" y="1618"/>
                    </a:lnTo>
                  </a:path>
                </a:pathLst>
              </a:custGeom>
              <a:noFill/>
              <a:ln cap="rnd" w="12600">
                <a:solidFill>
                  <a:srgbClr val="44985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6" name="Line 85"/>
              <p:cNvSpPr/>
              <p:nvPr/>
            </p:nvSpPr>
            <p:spPr>
              <a:xfrm>
                <a:off x="4121280" y="1866960"/>
                <a:ext cx="1299960" cy="0"/>
              </a:xfrm>
              <a:prstGeom prst="line">
                <a:avLst/>
              </a:prstGeom>
              <a:ln w="12600">
                <a:solidFill>
                  <a:srgbClr val="44985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grpSp>
            <p:nvGrpSpPr>
              <p:cNvPr id="197" name="Group 86"/>
              <p:cNvGrpSpPr/>
              <p:nvPr/>
            </p:nvGrpSpPr>
            <p:grpSpPr>
              <a:xfrm>
                <a:off x="4952880" y="1781280"/>
                <a:ext cx="2073240" cy="2598480"/>
                <a:chOff x="4952880" y="1781280"/>
                <a:chExt cx="2073240" cy="2598480"/>
              </a:xfrm>
            </p:grpSpPr>
            <p:sp>
              <p:nvSpPr>
                <p:cNvPr id="198" name="Freeform 87"/>
                <p:cNvSpPr/>
                <p:nvPr/>
              </p:nvSpPr>
              <p:spPr>
                <a:xfrm>
                  <a:off x="4952880" y="1781280"/>
                  <a:ext cx="1401840" cy="2598480"/>
                </a:xfrm>
                <a:custGeom>
                  <a:avLst/>
                  <a:gdLst>
                    <a:gd name="textAreaLeft" fmla="*/ 0 w 1401840"/>
                    <a:gd name="textAreaRight" fmla="*/ 1402200 w 1401840"/>
                    <a:gd name="textAreaTop" fmla="*/ 0 h 2598480"/>
                    <a:gd name="textAreaBottom" fmla="*/ 2598840 h 2598480"/>
                  </a:gdLst>
                  <a:ahLst/>
                  <a:rect l="textAreaLeft" t="textAreaTop" r="textAreaRight" b="textAreaBottom"/>
                  <a:pathLst>
                    <a:path w="883" h="1637">
                      <a:moveTo>
                        <a:pt x="0" y="0"/>
                      </a:moveTo>
                      <a:lnTo>
                        <a:pt x="109" y="70"/>
                      </a:lnTo>
                      <a:lnTo>
                        <a:pt x="208" y="145"/>
                      </a:lnTo>
                      <a:lnTo>
                        <a:pt x="285" y="210"/>
                      </a:lnTo>
                      <a:lnTo>
                        <a:pt x="364" y="301"/>
                      </a:lnTo>
                      <a:lnTo>
                        <a:pt x="436" y="400"/>
                      </a:lnTo>
                      <a:lnTo>
                        <a:pt x="503" y="498"/>
                      </a:lnTo>
                      <a:lnTo>
                        <a:pt x="550" y="607"/>
                      </a:lnTo>
                      <a:lnTo>
                        <a:pt x="579" y="708"/>
                      </a:lnTo>
                      <a:lnTo>
                        <a:pt x="589" y="804"/>
                      </a:lnTo>
                      <a:lnTo>
                        <a:pt x="594" y="910"/>
                      </a:lnTo>
                      <a:lnTo>
                        <a:pt x="612" y="1014"/>
                      </a:lnTo>
                      <a:lnTo>
                        <a:pt x="630" y="1116"/>
                      </a:lnTo>
                      <a:lnTo>
                        <a:pt x="656" y="1219"/>
                      </a:lnTo>
                      <a:lnTo>
                        <a:pt x="688" y="1336"/>
                      </a:lnTo>
                      <a:lnTo>
                        <a:pt x="729" y="1425"/>
                      </a:lnTo>
                      <a:lnTo>
                        <a:pt x="794" y="1526"/>
                      </a:lnTo>
                      <a:lnTo>
                        <a:pt x="882" y="1636"/>
                      </a:lnTo>
                    </a:path>
                  </a:pathLst>
                </a:custGeom>
                <a:noFill/>
                <a:ln cap="rnd" w="12600">
                  <a:solidFill>
                    <a:srgbClr val="449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88"/>
                <p:cNvSpPr/>
                <p:nvPr/>
              </p:nvSpPr>
              <p:spPr>
                <a:xfrm>
                  <a:off x="5051520" y="1797120"/>
                  <a:ext cx="1336680" cy="258120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2581200"/>
                    <a:gd name="textAreaBottom" fmla="*/ 2581560 h 2581200"/>
                  </a:gdLst>
                  <a:ahLst/>
                  <a:rect l="textAreaLeft" t="textAreaTop" r="textAreaRight" b="textAreaBottom"/>
                  <a:pathLst>
                    <a:path w="842" h="1626">
                      <a:moveTo>
                        <a:pt x="0" y="0"/>
                      </a:moveTo>
                      <a:lnTo>
                        <a:pt x="128" y="76"/>
                      </a:lnTo>
                      <a:lnTo>
                        <a:pt x="226" y="144"/>
                      </a:lnTo>
                      <a:lnTo>
                        <a:pt x="299" y="210"/>
                      </a:lnTo>
                      <a:lnTo>
                        <a:pt x="364" y="287"/>
                      </a:lnTo>
                      <a:lnTo>
                        <a:pt x="436" y="378"/>
                      </a:lnTo>
                      <a:lnTo>
                        <a:pt x="524" y="494"/>
                      </a:lnTo>
                      <a:lnTo>
                        <a:pt x="586" y="599"/>
                      </a:lnTo>
                      <a:lnTo>
                        <a:pt x="626" y="708"/>
                      </a:lnTo>
                      <a:lnTo>
                        <a:pt x="630" y="806"/>
                      </a:lnTo>
                      <a:lnTo>
                        <a:pt x="634" y="898"/>
                      </a:lnTo>
                      <a:lnTo>
                        <a:pt x="644" y="988"/>
                      </a:lnTo>
                      <a:lnTo>
                        <a:pt x="655" y="1094"/>
                      </a:lnTo>
                      <a:lnTo>
                        <a:pt x="677" y="1214"/>
                      </a:lnTo>
                      <a:lnTo>
                        <a:pt x="699" y="1317"/>
                      </a:lnTo>
                      <a:lnTo>
                        <a:pt x="721" y="1406"/>
                      </a:lnTo>
                      <a:lnTo>
                        <a:pt x="758" y="1497"/>
                      </a:lnTo>
                      <a:lnTo>
                        <a:pt x="841" y="1625"/>
                      </a:lnTo>
                    </a:path>
                  </a:pathLst>
                </a:custGeom>
                <a:noFill/>
                <a:ln cap="rnd" w="12600">
                  <a:solidFill>
                    <a:srgbClr val="449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89"/>
                <p:cNvSpPr/>
                <p:nvPr/>
              </p:nvSpPr>
              <p:spPr>
                <a:xfrm>
                  <a:off x="5257800" y="1811160"/>
                  <a:ext cx="1152360" cy="2559240"/>
                </a:xfrm>
                <a:custGeom>
                  <a:avLst/>
                  <a:gdLst>
                    <a:gd name="textAreaLeft" fmla="*/ 0 w 1152360"/>
                    <a:gd name="textAreaRight" fmla="*/ 1152720 w 1152360"/>
                    <a:gd name="textAreaTop" fmla="*/ 0 h 2559240"/>
                    <a:gd name="textAreaBottom" fmla="*/ 2559240 h 2559240"/>
                  </a:gdLst>
                  <a:ahLst/>
                  <a:rect l="textAreaLeft" t="textAreaTop" r="textAreaRight" b="textAreaBottom"/>
                  <a:pathLst>
                    <a:path w="726" h="1612">
                      <a:moveTo>
                        <a:pt x="0" y="0"/>
                      </a:moveTo>
                      <a:lnTo>
                        <a:pt x="102" y="55"/>
                      </a:lnTo>
                      <a:lnTo>
                        <a:pt x="179" y="106"/>
                      </a:lnTo>
                      <a:lnTo>
                        <a:pt x="258" y="174"/>
                      </a:lnTo>
                      <a:lnTo>
                        <a:pt x="352" y="262"/>
                      </a:lnTo>
                      <a:lnTo>
                        <a:pt x="463" y="375"/>
                      </a:lnTo>
                      <a:lnTo>
                        <a:pt x="568" y="480"/>
                      </a:lnTo>
                      <a:lnTo>
                        <a:pt x="648" y="586"/>
                      </a:lnTo>
                      <a:lnTo>
                        <a:pt x="700" y="694"/>
                      </a:lnTo>
                      <a:lnTo>
                        <a:pt x="707" y="789"/>
                      </a:lnTo>
                      <a:lnTo>
                        <a:pt x="715" y="891"/>
                      </a:lnTo>
                      <a:lnTo>
                        <a:pt x="715" y="988"/>
                      </a:lnTo>
                      <a:lnTo>
                        <a:pt x="715" y="1102"/>
                      </a:lnTo>
                      <a:lnTo>
                        <a:pt x="715" y="1207"/>
                      </a:lnTo>
                      <a:lnTo>
                        <a:pt x="710" y="1313"/>
                      </a:lnTo>
                      <a:lnTo>
                        <a:pt x="710" y="1406"/>
                      </a:lnTo>
                      <a:lnTo>
                        <a:pt x="721" y="1518"/>
                      </a:lnTo>
                      <a:lnTo>
                        <a:pt x="725" y="1611"/>
                      </a:lnTo>
                    </a:path>
                  </a:pathLst>
                </a:custGeom>
                <a:noFill/>
                <a:ln cap="rnd" w="12600">
                  <a:solidFill>
                    <a:srgbClr val="44985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1" name="Line 90"/>
                <p:cNvSpPr/>
                <p:nvPr/>
              </p:nvSpPr>
              <p:spPr>
                <a:xfrm>
                  <a:off x="5410080" y="3387600"/>
                  <a:ext cx="161604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2" name="Line 91"/>
                <p:cNvSpPr/>
                <p:nvPr/>
              </p:nvSpPr>
              <p:spPr>
                <a:xfrm>
                  <a:off x="5468760" y="3556080"/>
                  <a:ext cx="150048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3" name="Line 92"/>
                <p:cNvSpPr/>
                <p:nvPr/>
              </p:nvSpPr>
              <p:spPr>
                <a:xfrm>
                  <a:off x="5560920" y="3735360"/>
                  <a:ext cx="133848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4" name="Line 93"/>
                <p:cNvSpPr/>
                <p:nvPr/>
              </p:nvSpPr>
              <p:spPr>
                <a:xfrm>
                  <a:off x="5651640" y="3894120"/>
                  <a:ext cx="119052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5" name="Line 94"/>
                <p:cNvSpPr/>
                <p:nvPr/>
              </p:nvSpPr>
              <p:spPr>
                <a:xfrm>
                  <a:off x="5765760" y="4049640"/>
                  <a:ext cx="100476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6" name="Line 95"/>
                <p:cNvSpPr/>
                <p:nvPr/>
              </p:nvSpPr>
              <p:spPr>
                <a:xfrm>
                  <a:off x="5884920" y="4176720"/>
                  <a:ext cx="80172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07" name="Line 96"/>
                <p:cNvSpPr/>
                <p:nvPr/>
              </p:nvSpPr>
              <p:spPr>
                <a:xfrm>
                  <a:off x="6037200" y="4284720"/>
                  <a:ext cx="550800" cy="0"/>
                </a:xfrm>
                <a:prstGeom prst="line">
                  <a:avLst/>
                </a:prstGeom>
                <a:ln w="12600">
                  <a:solidFill>
                    <a:srgbClr val="44985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8" name="Group 97"/>
          <p:cNvGrpSpPr/>
          <p:nvPr/>
        </p:nvGrpSpPr>
        <p:grpSpPr>
          <a:xfrm>
            <a:off x="1349280" y="1859040"/>
            <a:ext cx="5528160" cy="2527200"/>
            <a:chOff x="1349280" y="1859040"/>
            <a:chExt cx="5528160" cy="2527200"/>
          </a:xfrm>
        </p:grpSpPr>
        <p:sp>
          <p:nvSpPr>
            <p:cNvPr id="209" name="Freeform 98"/>
            <p:cNvSpPr/>
            <p:nvPr/>
          </p:nvSpPr>
          <p:spPr>
            <a:xfrm>
              <a:off x="4337640" y="2454120"/>
              <a:ext cx="30240" cy="302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0240"/>
                <a:gd name="textAreaBottom" fmla="*/ 30600 h 30240"/>
              </a:gdLst>
              <a:ahLst/>
              <a:rect l="textAreaLeft" t="textAreaTop" r="textAreaRight" b="textAreaBottom"/>
              <a:pathLst>
                <a:path w="19" h="19">
                  <a:moveTo>
                    <a:pt x="18" y="1"/>
                  </a:moveTo>
                  <a:lnTo>
                    <a:pt x="18" y="16"/>
                  </a:lnTo>
                  <a:lnTo>
                    <a:pt x="11" y="18"/>
                  </a:lnTo>
                  <a:lnTo>
                    <a:pt x="0" y="3"/>
                  </a:lnTo>
                  <a:lnTo>
                    <a:pt x="7" y="0"/>
                  </a:lnTo>
                  <a:lnTo>
                    <a:pt x="18" y="1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Freeform 99"/>
            <p:cNvSpPr/>
            <p:nvPr/>
          </p:nvSpPr>
          <p:spPr>
            <a:xfrm>
              <a:off x="4288320" y="2411280"/>
              <a:ext cx="30240" cy="367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9" h="23">
                  <a:moveTo>
                    <a:pt x="18" y="0"/>
                  </a:moveTo>
                  <a:lnTo>
                    <a:pt x="0" y="4"/>
                  </a:lnTo>
                  <a:lnTo>
                    <a:pt x="2" y="22"/>
                  </a:lnTo>
                  <a:lnTo>
                    <a:pt x="15" y="20"/>
                  </a:lnTo>
                  <a:lnTo>
                    <a:pt x="1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11" name="Group 100"/>
            <p:cNvGrpSpPr/>
            <p:nvPr/>
          </p:nvGrpSpPr>
          <p:grpSpPr>
            <a:xfrm>
              <a:off x="1349280" y="1859040"/>
              <a:ext cx="5528160" cy="2527200"/>
              <a:chOff x="1349280" y="1859040"/>
              <a:chExt cx="5528160" cy="2527200"/>
            </a:xfrm>
          </p:grpSpPr>
          <p:grpSp>
            <p:nvGrpSpPr>
              <p:cNvPr id="212" name="Group 101"/>
              <p:cNvGrpSpPr/>
              <p:nvPr/>
            </p:nvGrpSpPr>
            <p:grpSpPr>
              <a:xfrm>
                <a:off x="3803760" y="1862280"/>
                <a:ext cx="3073680" cy="2514600"/>
                <a:chOff x="3803760" y="1862280"/>
                <a:chExt cx="3073680" cy="2514600"/>
              </a:xfrm>
            </p:grpSpPr>
            <p:grpSp>
              <p:nvGrpSpPr>
                <p:cNvPr id="213" name="Group 102"/>
                <p:cNvGrpSpPr/>
                <p:nvPr/>
              </p:nvGrpSpPr>
              <p:grpSpPr>
                <a:xfrm>
                  <a:off x="5916960" y="3116160"/>
                  <a:ext cx="960480" cy="1260720"/>
                  <a:chOff x="5916960" y="3116160"/>
                  <a:chExt cx="960480" cy="1260720"/>
                </a:xfrm>
              </p:grpSpPr>
              <p:sp>
                <p:nvSpPr>
                  <p:cNvPr id="214" name="Freeform 103"/>
                  <p:cNvSpPr/>
                  <p:nvPr/>
                </p:nvSpPr>
                <p:spPr>
                  <a:xfrm>
                    <a:off x="5916960" y="4137120"/>
                    <a:ext cx="684360" cy="239760"/>
                  </a:xfrm>
                  <a:custGeom>
                    <a:avLst/>
                    <a:gdLst>
                      <a:gd name="textAreaLeft" fmla="*/ 0 w 684360"/>
                      <a:gd name="textAreaRight" fmla="*/ 684720 w 684360"/>
                      <a:gd name="textAreaTop" fmla="*/ 0 h 239760"/>
                      <a:gd name="textAreaBottom" fmla="*/ 240120 h 239760"/>
                    </a:gdLst>
                    <a:ahLst/>
                    <a:rect l="textAreaLeft" t="textAreaTop" r="textAreaRight" b="textAreaBottom"/>
                    <a:pathLst>
                      <a:path w="431" h="151">
                        <a:moveTo>
                          <a:pt x="41" y="6"/>
                        </a:moveTo>
                        <a:lnTo>
                          <a:pt x="84" y="6"/>
                        </a:lnTo>
                        <a:lnTo>
                          <a:pt x="99" y="7"/>
                        </a:lnTo>
                        <a:lnTo>
                          <a:pt x="116" y="9"/>
                        </a:lnTo>
                        <a:lnTo>
                          <a:pt x="123" y="12"/>
                        </a:lnTo>
                        <a:lnTo>
                          <a:pt x="129" y="8"/>
                        </a:lnTo>
                        <a:lnTo>
                          <a:pt x="138" y="5"/>
                        </a:lnTo>
                        <a:lnTo>
                          <a:pt x="145" y="2"/>
                        </a:lnTo>
                        <a:lnTo>
                          <a:pt x="155" y="1"/>
                        </a:lnTo>
                        <a:lnTo>
                          <a:pt x="161" y="1"/>
                        </a:lnTo>
                        <a:lnTo>
                          <a:pt x="165" y="1"/>
                        </a:lnTo>
                        <a:lnTo>
                          <a:pt x="171" y="0"/>
                        </a:lnTo>
                        <a:lnTo>
                          <a:pt x="181" y="8"/>
                        </a:lnTo>
                        <a:lnTo>
                          <a:pt x="185" y="8"/>
                        </a:lnTo>
                        <a:lnTo>
                          <a:pt x="188" y="12"/>
                        </a:lnTo>
                        <a:lnTo>
                          <a:pt x="190" y="14"/>
                        </a:lnTo>
                        <a:lnTo>
                          <a:pt x="199" y="12"/>
                        </a:lnTo>
                        <a:lnTo>
                          <a:pt x="206" y="12"/>
                        </a:lnTo>
                        <a:lnTo>
                          <a:pt x="214" y="12"/>
                        </a:lnTo>
                        <a:lnTo>
                          <a:pt x="218" y="12"/>
                        </a:lnTo>
                        <a:lnTo>
                          <a:pt x="225" y="12"/>
                        </a:lnTo>
                        <a:lnTo>
                          <a:pt x="230" y="8"/>
                        </a:lnTo>
                        <a:lnTo>
                          <a:pt x="234" y="6"/>
                        </a:lnTo>
                        <a:lnTo>
                          <a:pt x="241" y="5"/>
                        </a:lnTo>
                        <a:lnTo>
                          <a:pt x="243" y="5"/>
                        </a:lnTo>
                        <a:lnTo>
                          <a:pt x="249" y="3"/>
                        </a:lnTo>
                        <a:lnTo>
                          <a:pt x="258" y="6"/>
                        </a:lnTo>
                        <a:lnTo>
                          <a:pt x="266" y="7"/>
                        </a:lnTo>
                        <a:lnTo>
                          <a:pt x="275" y="8"/>
                        </a:lnTo>
                        <a:lnTo>
                          <a:pt x="290" y="10"/>
                        </a:lnTo>
                        <a:lnTo>
                          <a:pt x="309" y="16"/>
                        </a:lnTo>
                        <a:lnTo>
                          <a:pt x="316" y="17"/>
                        </a:lnTo>
                        <a:lnTo>
                          <a:pt x="325" y="19"/>
                        </a:lnTo>
                        <a:lnTo>
                          <a:pt x="334" y="20"/>
                        </a:lnTo>
                        <a:lnTo>
                          <a:pt x="341" y="24"/>
                        </a:lnTo>
                        <a:lnTo>
                          <a:pt x="345" y="25"/>
                        </a:lnTo>
                        <a:lnTo>
                          <a:pt x="356" y="23"/>
                        </a:lnTo>
                        <a:lnTo>
                          <a:pt x="360" y="19"/>
                        </a:lnTo>
                        <a:lnTo>
                          <a:pt x="368" y="19"/>
                        </a:lnTo>
                        <a:lnTo>
                          <a:pt x="377" y="23"/>
                        </a:lnTo>
                        <a:lnTo>
                          <a:pt x="380" y="24"/>
                        </a:lnTo>
                        <a:lnTo>
                          <a:pt x="389" y="25"/>
                        </a:lnTo>
                        <a:lnTo>
                          <a:pt x="393" y="27"/>
                        </a:lnTo>
                        <a:lnTo>
                          <a:pt x="398" y="29"/>
                        </a:lnTo>
                        <a:lnTo>
                          <a:pt x="406" y="33"/>
                        </a:lnTo>
                        <a:lnTo>
                          <a:pt x="412" y="34"/>
                        </a:lnTo>
                        <a:lnTo>
                          <a:pt x="415" y="37"/>
                        </a:lnTo>
                        <a:lnTo>
                          <a:pt x="421" y="41"/>
                        </a:lnTo>
                        <a:lnTo>
                          <a:pt x="424" y="43"/>
                        </a:lnTo>
                        <a:lnTo>
                          <a:pt x="428" y="47"/>
                        </a:lnTo>
                        <a:lnTo>
                          <a:pt x="428" y="51"/>
                        </a:lnTo>
                        <a:lnTo>
                          <a:pt x="430" y="54"/>
                        </a:lnTo>
                        <a:lnTo>
                          <a:pt x="424" y="59"/>
                        </a:lnTo>
                        <a:lnTo>
                          <a:pt x="416" y="61"/>
                        </a:lnTo>
                        <a:lnTo>
                          <a:pt x="410" y="68"/>
                        </a:lnTo>
                        <a:lnTo>
                          <a:pt x="399" y="69"/>
                        </a:lnTo>
                        <a:lnTo>
                          <a:pt x="393" y="74"/>
                        </a:lnTo>
                        <a:lnTo>
                          <a:pt x="389" y="79"/>
                        </a:lnTo>
                        <a:lnTo>
                          <a:pt x="386" y="82"/>
                        </a:lnTo>
                        <a:lnTo>
                          <a:pt x="393" y="86"/>
                        </a:lnTo>
                        <a:lnTo>
                          <a:pt x="393" y="89"/>
                        </a:lnTo>
                        <a:lnTo>
                          <a:pt x="385" y="94"/>
                        </a:lnTo>
                        <a:lnTo>
                          <a:pt x="379" y="98"/>
                        </a:lnTo>
                        <a:lnTo>
                          <a:pt x="375" y="103"/>
                        </a:lnTo>
                        <a:lnTo>
                          <a:pt x="370" y="104"/>
                        </a:lnTo>
                        <a:lnTo>
                          <a:pt x="367" y="104"/>
                        </a:lnTo>
                        <a:lnTo>
                          <a:pt x="358" y="106"/>
                        </a:lnTo>
                        <a:lnTo>
                          <a:pt x="354" y="113"/>
                        </a:lnTo>
                        <a:lnTo>
                          <a:pt x="349" y="117"/>
                        </a:lnTo>
                        <a:lnTo>
                          <a:pt x="378" y="122"/>
                        </a:lnTo>
                        <a:lnTo>
                          <a:pt x="375" y="126"/>
                        </a:lnTo>
                        <a:lnTo>
                          <a:pt x="361" y="130"/>
                        </a:lnTo>
                        <a:lnTo>
                          <a:pt x="342" y="127"/>
                        </a:lnTo>
                        <a:lnTo>
                          <a:pt x="326" y="130"/>
                        </a:lnTo>
                        <a:lnTo>
                          <a:pt x="312" y="134"/>
                        </a:lnTo>
                        <a:lnTo>
                          <a:pt x="305" y="140"/>
                        </a:lnTo>
                        <a:lnTo>
                          <a:pt x="303" y="149"/>
                        </a:lnTo>
                        <a:lnTo>
                          <a:pt x="288" y="150"/>
                        </a:lnTo>
                        <a:lnTo>
                          <a:pt x="273" y="148"/>
                        </a:lnTo>
                        <a:lnTo>
                          <a:pt x="251" y="145"/>
                        </a:lnTo>
                        <a:lnTo>
                          <a:pt x="241" y="142"/>
                        </a:lnTo>
                        <a:lnTo>
                          <a:pt x="224" y="139"/>
                        </a:lnTo>
                        <a:lnTo>
                          <a:pt x="212" y="136"/>
                        </a:lnTo>
                        <a:lnTo>
                          <a:pt x="198" y="134"/>
                        </a:lnTo>
                        <a:lnTo>
                          <a:pt x="181" y="132"/>
                        </a:lnTo>
                        <a:lnTo>
                          <a:pt x="170" y="126"/>
                        </a:lnTo>
                        <a:lnTo>
                          <a:pt x="160" y="124"/>
                        </a:lnTo>
                        <a:lnTo>
                          <a:pt x="156" y="123"/>
                        </a:lnTo>
                        <a:lnTo>
                          <a:pt x="138" y="118"/>
                        </a:lnTo>
                        <a:lnTo>
                          <a:pt x="120" y="110"/>
                        </a:lnTo>
                        <a:lnTo>
                          <a:pt x="105" y="105"/>
                        </a:lnTo>
                        <a:lnTo>
                          <a:pt x="97" y="100"/>
                        </a:lnTo>
                        <a:lnTo>
                          <a:pt x="86" y="96"/>
                        </a:lnTo>
                        <a:lnTo>
                          <a:pt x="77" y="91"/>
                        </a:lnTo>
                        <a:lnTo>
                          <a:pt x="66" y="87"/>
                        </a:lnTo>
                        <a:lnTo>
                          <a:pt x="57" y="81"/>
                        </a:lnTo>
                        <a:lnTo>
                          <a:pt x="50" y="74"/>
                        </a:lnTo>
                        <a:lnTo>
                          <a:pt x="41" y="68"/>
                        </a:lnTo>
                        <a:lnTo>
                          <a:pt x="32" y="62"/>
                        </a:lnTo>
                        <a:lnTo>
                          <a:pt x="20" y="53"/>
                        </a:lnTo>
                        <a:lnTo>
                          <a:pt x="11" y="47"/>
                        </a:lnTo>
                        <a:lnTo>
                          <a:pt x="3" y="42"/>
                        </a:lnTo>
                        <a:lnTo>
                          <a:pt x="0" y="36"/>
                        </a:lnTo>
                        <a:lnTo>
                          <a:pt x="12" y="33"/>
                        </a:lnTo>
                        <a:lnTo>
                          <a:pt x="6" y="21"/>
                        </a:lnTo>
                        <a:lnTo>
                          <a:pt x="23" y="17"/>
                        </a:lnTo>
                        <a:lnTo>
                          <a:pt x="16" y="12"/>
                        </a:lnTo>
                        <a:lnTo>
                          <a:pt x="34" y="10"/>
                        </a:lnTo>
                        <a:lnTo>
                          <a:pt x="41" y="6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5" name="Group 104"/>
                  <p:cNvGrpSpPr/>
                  <p:nvPr/>
                </p:nvGrpSpPr>
                <p:grpSpPr>
                  <a:xfrm>
                    <a:off x="6425280" y="3621240"/>
                    <a:ext cx="452160" cy="214200"/>
                    <a:chOff x="6425280" y="3621240"/>
                    <a:chExt cx="452160" cy="214200"/>
                  </a:xfrm>
                </p:grpSpPr>
                <p:sp>
                  <p:nvSpPr>
                    <p:cNvPr id="216" name="Freeform 105"/>
                    <p:cNvSpPr/>
                    <p:nvPr/>
                  </p:nvSpPr>
                  <p:spPr>
                    <a:xfrm>
                      <a:off x="6804360" y="3621240"/>
                      <a:ext cx="73080" cy="129960"/>
                    </a:xfrm>
                    <a:custGeom>
                      <a:avLst/>
                      <a:gdLst>
                        <a:gd name="textAreaLeft" fmla="*/ 0 w 73080"/>
                        <a:gd name="textAreaRight" fmla="*/ 73440 w 73080"/>
                        <a:gd name="textAreaTop" fmla="*/ 0 h 129960"/>
                        <a:gd name="textAreaBottom" fmla="*/ 130320 h 129960"/>
                      </a:gdLst>
                      <a:ahLst/>
                      <a:rect l="textAreaLeft" t="textAreaTop" r="textAreaRight" b="textAreaBottom"/>
                      <a:pathLst>
                        <a:path w="46" h="82">
                          <a:moveTo>
                            <a:pt x="15" y="1"/>
                          </a:moveTo>
                          <a:lnTo>
                            <a:pt x="19" y="0"/>
                          </a:lnTo>
                          <a:lnTo>
                            <a:pt x="27" y="9"/>
                          </a:lnTo>
                          <a:lnTo>
                            <a:pt x="26" y="35"/>
                          </a:lnTo>
                          <a:lnTo>
                            <a:pt x="31" y="35"/>
                          </a:lnTo>
                          <a:lnTo>
                            <a:pt x="33" y="38"/>
                          </a:lnTo>
                          <a:lnTo>
                            <a:pt x="35" y="44"/>
                          </a:lnTo>
                          <a:lnTo>
                            <a:pt x="36" y="47"/>
                          </a:lnTo>
                          <a:lnTo>
                            <a:pt x="40" y="46"/>
                          </a:lnTo>
                          <a:lnTo>
                            <a:pt x="44" y="40"/>
                          </a:lnTo>
                          <a:lnTo>
                            <a:pt x="45" y="44"/>
                          </a:lnTo>
                          <a:lnTo>
                            <a:pt x="43" y="48"/>
                          </a:lnTo>
                          <a:lnTo>
                            <a:pt x="40" y="52"/>
                          </a:lnTo>
                          <a:lnTo>
                            <a:pt x="39" y="58"/>
                          </a:lnTo>
                          <a:lnTo>
                            <a:pt x="34" y="62"/>
                          </a:lnTo>
                          <a:lnTo>
                            <a:pt x="30" y="63"/>
                          </a:lnTo>
                          <a:lnTo>
                            <a:pt x="26" y="66"/>
                          </a:lnTo>
                          <a:lnTo>
                            <a:pt x="25" y="70"/>
                          </a:lnTo>
                          <a:lnTo>
                            <a:pt x="26" y="73"/>
                          </a:lnTo>
                          <a:lnTo>
                            <a:pt x="27" y="76"/>
                          </a:lnTo>
                          <a:lnTo>
                            <a:pt x="21" y="79"/>
                          </a:lnTo>
                          <a:lnTo>
                            <a:pt x="18" y="80"/>
                          </a:lnTo>
                          <a:lnTo>
                            <a:pt x="15" y="81"/>
                          </a:lnTo>
                          <a:lnTo>
                            <a:pt x="12" y="80"/>
                          </a:lnTo>
                          <a:lnTo>
                            <a:pt x="7" y="79"/>
                          </a:lnTo>
                          <a:lnTo>
                            <a:pt x="4" y="76"/>
                          </a:lnTo>
                          <a:lnTo>
                            <a:pt x="7" y="74"/>
                          </a:lnTo>
                          <a:lnTo>
                            <a:pt x="11" y="73"/>
                          </a:lnTo>
                          <a:lnTo>
                            <a:pt x="15" y="67"/>
                          </a:lnTo>
                          <a:lnTo>
                            <a:pt x="15" y="65"/>
                          </a:lnTo>
                          <a:lnTo>
                            <a:pt x="11" y="63"/>
                          </a:lnTo>
                          <a:lnTo>
                            <a:pt x="7" y="60"/>
                          </a:lnTo>
                          <a:lnTo>
                            <a:pt x="3" y="60"/>
                          </a:lnTo>
                          <a:lnTo>
                            <a:pt x="1" y="58"/>
                          </a:lnTo>
                          <a:lnTo>
                            <a:pt x="0" y="55"/>
                          </a:lnTo>
                          <a:lnTo>
                            <a:pt x="1" y="53"/>
                          </a:lnTo>
                          <a:lnTo>
                            <a:pt x="3" y="53"/>
                          </a:lnTo>
                          <a:lnTo>
                            <a:pt x="7" y="52"/>
                          </a:lnTo>
                          <a:lnTo>
                            <a:pt x="11" y="48"/>
                          </a:lnTo>
                          <a:lnTo>
                            <a:pt x="13" y="47"/>
                          </a:lnTo>
                          <a:lnTo>
                            <a:pt x="16" y="35"/>
                          </a:lnTo>
                          <a:lnTo>
                            <a:pt x="13" y="31"/>
                          </a:lnTo>
                          <a:lnTo>
                            <a:pt x="10" y="29"/>
                          </a:lnTo>
                          <a:lnTo>
                            <a:pt x="9" y="22"/>
                          </a:lnTo>
                          <a:lnTo>
                            <a:pt x="10" y="16"/>
                          </a:lnTo>
                          <a:lnTo>
                            <a:pt x="11" y="11"/>
                          </a:lnTo>
                          <a:lnTo>
                            <a:pt x="15" y="1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Freeform 106"/>
                    <p:cNvSpPr/>
                    <p:nvPr/>
                  </p:nvSpPr>
                  <p:spPr>
                    <a:xfrm>
                      <a:off x="6666480" y="3724200"/>
                      <a:ext cx="135000" cy="111240"/>
                    </a:xfrm>
                    <a:custGeom>
                      <a:avLst/>
                      <a:gdLst>
                        <a:gd name="textAreaLeft" fmla="*/ 0 w 135000"/>
                        <a:gd name="textAreaRight" fmla="*/ 135360 w 135000"/>
                        <a:gd name="textAreaTop" fmla="*/ 0 h 111240"/>
                        <a:gd name="textAreaBottom" fmla="*/ 111600 h 111240"/>
                      </a:gdLst>
                      <a:ahLst/>
                      <a:rect l="textAreaLeft" t="textAreaTop" r="textAreaRight" b="textAreaBottom"/>
                      <a:pathLst>
                        <a:path w="85" h="70">
                          <a:moveTo>
                            <a:pt x="59" y="0"/>
                          </a:moveTo>
                          <a:lnTo>
                            <a:pt x="69" y="0"/>
                          </a:lnTo>
                          <a:lnTo>
                            <a:pt x="84" y="18"/>
                          </a:lnTo>
                          <a:lnTo>
                            <a:pt x="68" y="34"/>
                          </a:lnTo>
                          <a:lnTo>
                            <a:pt x="68" y="41"/>
                          </a:lnTo>
                          <a:lnTo>
                            <a:pt x="65" y="43"/>
                          </a:lnTo>
                          <a:lnTo>
                            <a:pt x="56" y="43"/>
                          </a:lnTo>
                          <a:lnTo>
                            <a:pt x="44" y="52"/>
                          </a:lnTo>
                          <a:lnTo>
                            <a:pt x="34" y="61"/>
                          </a:lnTo>
                          <a:lnTo>
                            <a:pt x="27" y="69"/>
                          </a:lnTo>
                          <a:lnTo>
                            <a:pt x="27" y="62"/>
                          </a:lnTo>
                          <a:lnTo>
                            <a:pt x="15" y="63"/>
                          </a:lnTo>
                          <a:lnTo>
                            <a:pt x="9" y="63"/>
                          </a:lnTo>
                          <a:lnTo>
                            <a:pt x="0" y="63"/>
                          </a:lnTo>
                          <a:lnTo>
                            <a:pt x="12" y="52"/>
                          </a:lnTo>
                          <a:lnTo>
                            <a:pt x="17" y="46"/>
                          </a:lnTo>
                          <a:lnTo>
                            <a:pt x="22" y="46"/>
                          </a:lnTo>
                          <a:lnTo>
                            <a:pt x="31" y="37"/>
                          </a:lnTo>
                          <a:lnTo>
                            <a:pt x="34" y="37"/>
                          </a:lnTo>
                          <a:lnTo>
                            <a:pt x="34" y="36"/>
                          </a:lnTo>
                          <a:lnTo>
                            <a:pt x="39" y="33"/>
                          </a:lnTo>
                          <a:lnTo>
                            <a:pt x="44" y="33"/>
                          </a:lnTo>
                          <a:lnTo>
                            <a:pt x="42" y="23"/>
                          </a:lnTo>
                          <a:lnTo>
                            <a:pt x="43" y="23"/>
                          </a:lnTo>
                          <a:lnTo>
                            <a:pt x="49" y="17"/>
                          </a:lnTo>
                          <a:lnTo>
                            <a:pt x="51" y="21"/>
                          </a:lnTo>
                          <a:lnTo>
                            <a:pt x="60" y="14"/>
                          </a:lnTo>
                          <a:lnTo>
                            <a:pt x="59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Freeform 107"/>
                    <p:cNvSpPr/>
                    <p:nvPr/>
                  </p:nvSpPr>
                  <p:spPr>
                    <a:xfrm>
                      <a:off x="6425280" y="3732120"/>
                      <a:ext cx="52200" cy="58680"/>
                    </a:xfrm>
                    <a:custGeom>
                      <a:avLst/>
                      <a:gdLst>
                        <a:gd name="textAreaLeft" fmla="*/ 0 w 52200"/>
                        <a:gd name="textAreaRight" fmla="*/ 52560 w 52200"/>
                        <a:gd name="textAreaTop" fmla="*/ 0 h 58680"/>
                        <a:gd name="textAreaBottom" fmla="*/ 59040 h 58680"/>
                      </a:gdLst>
                      <a:ahLst/>
                      <a:rect l="textAreaLeft" t="textAreaTop" r="textAreaRight" b="textAreaBottom"/>
                      <a:pathLst>
                        <a:path w="33" h="37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15" y="4"/>
                          </a:lnTo>
                          <a:lnTo>
                            <a:pt x="32" y="4"/>
                          </a:lnTo>
                          <a:lnTo>
                            <a:pt x="30" y="10"/>
                          </a:lnTo>
                          <a:lnTo>
                            <a:pt x="32" y="17"/>
                          </a:lnTo>
                          <a:lnTo>
                            <a:pt x="26" y="17"/>
                          </a:lnTo>
                          <a:lnTo>
                            <a:pt x="25" y="18"/>
                          </a:lnTo>
                          <a:lnTo>
                            <a:pt x="22" y="19"/>
                          </a:lnTo>
                          <a:lnTo>
                            <a:pt x="25" y="36"/>
                          </a:lnTo>
                          <a:lnTo>
                            <a:pt x="15" y="35"/>
                          </a:lnTo>
                          <a:lnTo>
                            <a:pt x="6" y="29"/>
                          </a:lnTo>
                          <a:lnTo>
                            <a:pt x="6" y="18"/>
                          </a:lnTo>
                          <a:lnTo>
                            <a:pt x="6" y="13"/>
                          </a:lnTo>
                          <a:lnTo>
                            <a:pt x="0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240" bIns="1224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9" name="Freeform 108"/>
                  <p:cNvSpPr/>
                  <p:nvPr/>
                </p:nvSpPr>
                <p:spPr>
                  <a:xfrm>
                    <a:off x="6517080" y="3116160"/>
                    <a:ext cx="82800" cy="63720"/>
                  </a:xfrm>
                  <a:custGeom>
                    <a:avLst/>
                    <a:gdLst>
                      <a:gd name="textAreaLeft" fmla="*/ 0 w 82800"/>
                      <a:gd name="textAreaRight" fmla="*/ 83160 w 82800"/>
                      <a:gd name="textAreaTop" fmla="*/ 0 h 63720"/>
                      <a:gd name="textAreaBottom" fmla="*/ 64080 h 63720"/>
                    </a:gdLst>
                    <a:ahLst/>
                    <a:rect l="textAreaLeft" t="textAreaTop" r="textAreaRight" b="textAreaBottom"/>
                    <a:pathLst>
                      <a:path w="52" h="40">
                        <a:moveTo>
                          <a:pt x="9" y="14"/>
                        </a:moveTo>
                        <a:lnTo>
                          <a:pt x="0" y="31"/>
                        </a:lnTo>
                        <a:lnTo>
                          <a:pt x="3" y="38"/>
                        </a:lnTo>
                        <a:lnTo>
                          <a:pt x="18" y="39"/>
                        </a:lnTo>
                        <a:lnTo>
                          <a:pt x="31" y="39"/>
                        </a:lnTo>
                        <a:lnTo>
                          <a:pt x="35" y="32"/>
                        </a:lnTo>
                        <a:lnTo>
                          <a:pt x="37" y="26"/>
                        </a:lnTo>
                        <a:lnTo>
                          <a:pt x="51" y="26"/>
                        </a:lnTo>
                        <a:lnTo>
                          <a:pt x="49" y="16"/>
                        </a:lnTo>
                        <a:lnTo>
                          <a:pt x="49" y="6"/>
                        </a:lnTo>
                        <a:lnTo>
                          <a:pt x="35" y="0"/>
                        </a:lnTo>
                        <a:lnTo>
                          <a:pt x="34" y="11"/>
                        </a:lnTo>
                        <a:lnTo>
                          <a:pt x="42" y="18"/>
                        </a:lnTo>
                        <a:lnTo>
                          <a:pt x="29" y="18"/>
                        </a:lnTo>
                        <a:lnTo>
                          <a:pt x="25" y="22"/>
                        </a:lnTo>
                        <a:lnTo>
                          <a:pt x="9" y="14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109"/>
                <p:cNvGrpSpPr/>
                <p:nvPr/>
              </p:nvGrpSpPr>
              <p:grpSpPr>
                <a:xfrm>
                  <a:off x="5621760" y="2173320"/>
                  <a:ext cx="955800" cy="1533600"/>
                  <a:chOff x="5621760" y="2173320"/>
                  <a:chExt cx="955800" cy="1533600"/>
                </a:xfrm>
              </p:grpSpPr>
              <p:grpSp>
                <p:nvGrpSpPr>
                  <p:cNvPr id="221" name="Group 110"/>
                  <p:cNvGrpSpPr/>
                  <p:nvPr/>
                </p:nvGrpSpPr>
                <p:grpSpPr>
                  <a:xfrm>
                    <a:off x="5775840" y="2330280"/>
                    <a:ext cx="214200" cy="460440"/>
                    <a:chOff x="5775840" y="2330280"/>
                    <a:chExt cx="214200" cy="460440"/>
                  </a:xfrm>
                </p:grpSpPr>
                <p:sp>
                  <p:nvSpPr>
                    <p:cNvPr id="222" name="Freeform 111"/>
                    <p:cNvSpPr/>
                    <p:nvPr/>
                  </p:nvSpPr>
                  <p:spPr>
                    <a:xfrm>
                      <a:off x="5775840" y="2743200"/>
                      <a:ext cx="52200" cy="47520"/>
                    </a:xfrm>
                    <a:custGeom>
                      <a:avLst/>
                      <a:gdLst>
                        <a:gd name="textAreaLeft" fmla="*/ 0 w 52200"/>
                        <a:gd name="textAreaRight" fmla="*/ 52560 w 52200"/>
                        <a:gd name="textAreaTop" fmla="*/ 0 h 47520"/>
                        <a:gd name="textAreaBottom" fmla="*/ 47880 h 47520"/>
                      </a:gdLst>
                      <a:ahLst/>
                      <a:rect l="textAreaLeft" t="textAreaTop" r="textAreaRight" b="textAreaBottom"/>
                      <a:pathLst>
                        <a:path w="33" h="30">
                          <a:moveTo>
                            <a:pt x="0" y="22"/>
                          </a:moveTo>
                          <a:lnTo>
                            <a:pt x="6" y="28"/>
                          </a:lnTo>
                          <a:lnTo>
                            <a:pt x="13" y="27"/>
                          </a:lnTo>
                          <a:lnTo>
                            <a:pt x="23" y="29"/>
                          </a:lnTo>
                          <a:lnTo>
                            <a:pt x="31" y="29"/>
                          </a:lnTo>
                          <a:lnTo>
                            <a:pt x="32" y="19"/>
                          </a:lnTo>
                          <a:lnTo>
                            <a:pt x="30" y="12"/>
                          </a:lnTo>
                          <a:lnTo>
                            <a:pt x="24" y="4"/>
                          </a:lnTo>
                          <a:lnTo>
                            <a:pt x="18" y="4"/>
                          </a:ln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8" y="9"/>
                          </a:lnTo>
                          <a:lnTo>
                            <a:pt x="0" y="22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112"/>
                    <p:cNvSpPr/>
                    <p:nvPr/>
                  </p:nvSpPr>
                  <p:spPr>
                    <a:xfrm>
                      <a:off x="5912280" y="2660760"/>
                      <a:ext cx="49320" cy="60120"/>
                    </a:xfrm>
                    <a:custGeom>
                      <a:avLst/>
                      <a:gdLst>
                        <a:gd name="textAreaLeft" fmla="*/ 0 w 49320"/>
                        <a:gd name="textAreaRight" fmla="*/ 49680 w 49320"/>
                        <a:gd name="textAreaTop" fmla="*/ 0 h 60120"/>
                        <a:gd name="textAreaBottom" fmla="*/ 60480 h 60120"/>
                      </a:gdLst>
                      <a:ahLst/>
                      <a:rect l="textAreaLeft" t="textAreaTop" r="textAreaRight" b="textAreaBottom"/>
                      <a:pathLst>
                        <a:path w="31" h="38">
                          <a:moveTo>
                            <a:pt x="7" y="0"/>
                          </a:moveTo>
                          <a:lnTo>
                            <a:pt x="20" y="1"/>
                          </a:lnTo>
                          <a:lnTo>
                            <a:pt x="24" y="11"/>
                          </a:lnTo>
                          <a:lnTo>
                            <a:pt x="30" y="17"/>
                          </a:lnTo>
                          <a:lnTo>
                            <a:pt x="25" y="21"/>
                          </a:lnTo>
                          <a:lnTo>
                            <a:pt x="30" y="27"/>
                          </a:lnTo>
                          <a:lnTo>
                            <a:pt x="28" y="34"/>
                          </a:lnTo>
                          <a:lnTo>
                            <a:pt x="23" y="37"/>
                          </a:lnTo>
                          <a:lnTo>
                            <a:pt x="14" y="36"/>
                          </a:lnTo>
                          <a:lnTo>
                            <a:pt x="9" y="36"/>
                          </a:lnTo>
                          <a:lnTo>
                            <a:pt x="6" y="31"/>
                          </a:lnTo>
                          <a:lnTo>
                            <a:pt x="2" y="26"/>
                          </a:lnTo>
                          <a:lnTo>
                            <a:pt x="2" y="20"/>
                          </a:lnTo>
                          <a:lnTo>
                            <a:pt x="0" y="12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113"/>
                    <p:cNvSpPr/>
                    <p:nvPr/>
                  </p:nvSpPr>
                  <p:spPr>
                    <a:xfrm>
                      <a:off x="5902920" y="2330280"/>
                      <a:ext cx="87120" cy="57240"/>
                    </a:xfrm>
                    <a:custGeom>
                      <a:avLst/>
                      <a:gdLst>
                        <a:gd name="textAreaLeft" fmla="*/ 0 w 87120"/>
                        <a:gd name="textAreaRight" fmla="*/ 87480 w 87120"/>
                        <a:gd name="textAreaTop" fmla="*/ 0 h 57240"/>
                        <a:gd name="textAreaBottom" fmla="*/ 57600 h 57240"/>
                      </a:gdLst>
                      <a:ahLst/>
                      <a:rect l="textAreaLeft" t="textAreaTop" r="textAreaRight" b="textAreaBottom"/>
                      <a:pathLst>
                        <a:path w="55" h="36">
                          <a:moveTo>
                            <a:pt x="8" y="0"/>
                          </a:moveTo>
                          <a:lnTo>
                            <a:pt x="15" y="6"/>
                          </a:lnTo>
                          <a:lnTo>
                            <a:pt x="21" y="4"/>
                          </a:lnTo>
                          <a:lnTo>
                            <a:pt x="31" y="6"/>
                          </a:lnTo>
                          <a:lnTo>
                            <a:pt x="40" y="6"/>
                          </a:lnTo>
                          <a:lnTo>
                            <a:pt x="45" y="9"/>
                          </a:lnTo>
                          <a:lnTo>
                            <a:pt x="51" y="17"/>
                          </a:lnTo>
                          <a:lnTo>
                            <a:pt x="54" y="20"/>
                          </a:lnTo>
                          <a:lnTo>
                            <a:pt x="42" y="22"/>
                          </a:lnTo>
                          <a:lnTo>
                            <a:pt x="38" y="25"/>
                          </a:lnTo>
                          <a:lnTo>
                            <a:pt x="42" y="29"/>
                          </a:lnTo>
                          <a:lnTo>
                            <a:pt x="42" y="34"/>
                          </a:lnTo>
                          <a:lnTo>
                            <a:pt x="29" y="29"/>
                          </a:lnTo>
                          <a:lnTo>
                            <a:pt x="19" y="26"/>
                          </a:lnTo>
                          <a:lnTo>
                            <a:pt x="15" y="27"/>
                          </a:lnTo>
                          <a:lnTo>
                            <a:pt x="15" y="34"/>
                          </a:lnTo>
                          <a:lnTo>
                            <a:pt x="8" y="35"/>
                          </a:lnTo>
                          <a:lnTo>
                            <a:pt x="4" y="29"/>
                          </a:lnTo>
                          <a:lnTo>
                            <a:pt x="3" y="22"/>
                          </a:lnTo>
                          <a:lnTo>
                            <a:pt x="0" y="21"/>
                          </a:lnTo>
                          <a:lnTo>
                            <a:pt x="3" y="15"/>
                          </a:lnTo>
                          <a:lnTo>
                            <a:pt x="9" y="12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5" name="Freeform 114"/>
                  <p:cNvSpPr/>
                  <p:nvPr/>
                </p:nvSpPr>
                <p:spPr>
                  <a:xfrm>
                    <a:off x="5976000" y="3260880"/>
                    <a:ext cx="601560" cy="446040"/>
                  </a:xfrm>
                  <a:custGeom>
                    <a:avLst/>
                    <a:gdLst>
                      <a:gd name="textAreaLeft" fmla="*/ 0 w 601560"/>
                      <a:gd name="textAreaRight" fmla="*/ 601920 w 601560"/>
                      <a:gd name="textAreaTop" fmla="*/ 0 h 446040"/>
                      <a:gd name="textAreaBottom" fmla="*/ 446400 h 446040"/>
                    </a:gdLst>
                    <a:ahLst/>
                    <a:rect l="textAreaLeft" t="textAreaTop" r="textAreaRight" b="textAreaBottom"/>
                    <a:pathLst>
                      <a:path w="379" h="281">
                        <a:moveTo>
                          <a:pt x="272" y="0"/>
                        </a:moveTo>
                        <a:lnTo>
                          <a:pt x="292" y="0"/>
                        </a:lnTo>
                        <a:lnTo>
                          <a:pt x="292" y="22"/>
                        </a:lnTo>
                        <a:lnTo>
                          <a:pt x="300" y="28"/>
                        </a:lnTo>
                        <a:lnTo>
                          <a:pt x="303" y="31"/>
                        </a:lnTo>
                        <a:lnTo>
                          <a:pt x="307" y="31"/>
                        </a:lnTo>
                        <a:lnTo>
                          <a:pt x="309" y="36"/>
                        </a:lnTo>
                        <a:lnTo>
                          <a:pt x="312" y="58"/>
                        </a:lnTo>
                        <a:lnTo>
                          <a:pt x="323" y="73"/>
                        </a:lnTo>
                        <a:lnTo>
                          <a:pt x="340" y="94"/>
                        </a:lnTo>
                        <a:lnTo>
                          <a:pt x="340" y="98"/>
                        </a:lnTo>
                        <a:lnTo>
                          <a:pt x="358" y="116"/>
                        </a:lnTo>
                        <a:lnTo>
                          <a:pt x="358" y="119"/>
                        </a:lnTo>
                        <a:lnTo>
                          <a:pt x="376" y="134"/>
                        </a:lnTo>
                        <a:lnTo>
                          <a:pt x="378" y="160"/>
                        </a:lnTo>
                        <a:lnTo>
                          <a:pt x="376" y="183"/>
                        </a:lnTo>
                        <a:lnTo>
                          <a:pt x="370" y="194"/>
                        </a:lnTo>
                        <a:lnTo>
                          <a:pt x="363" y="200"/>
                        </a:lnTo>
                        <a:lnTo>
                          <a:pt x="361" y="211"/>
                        </a:lnTo>
                        <a:lnTo>
                          <a:pt x="354" y="221"/>
                        </a:lnTo>
                        <a:lnTo>
                          <a:pt x="349" y="226"/>
                        </a:lnTo>
                        <a:lnTo>
                          <a:pt x="350" y="229"/>
                        </a:lnTo>
                        <a:lnTo>
                          <a:pt x="343" y="236"/>
                        </a:lnTo>
                        <a:lnTo>
                          <a:pt x="340" y="251"/>
                        </a:lnTo>
                        <a:lnTo>
                          <a:pt x="339" y="259"/>
                        </a:lnTo>
                        <a:lnTo>
                          <a:pt x="332" y="262"/>
                        </a:lnTo>
                        <a:lnTo>
                          <a:pt x="331" y="265"/>
                        </a:lnTo>
                        <a:lnTo>
                          <a:pt x="326" y="272"/>
                        </a:lnTo>
                        <a:lnTo>
                          <a:pt x="318" y="273"/>
                        </a:lnTo>
                        <a:lnTo>
                          <a:pt x="313" y="275"/>
                        </a:lnTo>
                        <a:lnTo>
                          <a:pt x="305" y="280"/>
                        </a:lnTo>
                        <a:lnTo>
                          <a:pt x="295" y="271"/>
                        </a:lnTo>
                        <a:lnTo>
                          <a:pt x="283" y="272"/>
                        </a:lnTo>
                        <a:lnTo>
                          <a:pt x="280" y="272"/>
                        </a:lnTo>
                        <a:lnTo>
                          <a:pt x="264" y="274"/>
                        </a:lnTo>
                        <a:lnTo>
                          <a:pt x="254" y="265"/>
                        </a:lnTo>
                        <a:lnTo>
                          <a:pt x="247" y="256"/>
                        </a:lnTo>
                        <a:lnTo>
                          <a:pt x="243" y="257"/>
                        </a:lnTo>
                        <a:lnTo>
                          <a:pt x="238" y="250"/>
                        </a:lnTo>
                        <a:lnTo>
                          <a:pt x="236" y="243"/>
                        </a:lnTo>
                        <a:lnTo>
                          <a:pt x="234" y="241"/>
                        </a:lnTo>
                        <a:lnTo>
                          <a:pt x="234" y="229"/>
                        </a:lnTo>
                        <a:lnTo>
                          <a:pt x="235" y="223"/>
                        </a:lnTo>
                        <a:lnTo>
                          <a:pt x="233" y="218"/>
                        </a:lnTo>
                        <a:lnTo>
                          <a:pt x="224" y="220"/>
                        </a:lnTo>
                        <a:lnTo>
                          <a:pt x="219" y="221"/>
                        </a:lnTo>
                        <a:lnTo>
                          <a:pt x="211" y="221"/>
                        </a:lnTo>
                        <a:lnTo>
                          <a:pt x="208" y="221"/>
                        </a:lnTo>
                        <a:lnTo>
                          <a:pt x="205" y="221"/>
                        </a:lnTo>
                        <a:lnTo>
                          <a:pt x="199" y="215"/>
                        </a:lnTo>
                        <a:lnTo>
                          <a:pt x="193" y="206"/>
                        </a:lnTo>
                        <a:lnTo>
                          <a:pt x="192" y="207"/>
                        </a:lnTo>
                        <a:lnTo>
                          <a:pt x="182" y="207"/>
                        </a:lnTo>
                        <a:lnTo>
                          <a:pt x="181" y="203"/>
                        </a:lnTo>
                        <a:lnTo>
                          <a:pt x="175" y="207"/>
                        </a:lnTo>
                        <a:lnTo>
                          <a:pt x="170" y="206"/>
                        </a:lnTo>
                        <a:lnTo>
                          <a:pt x="161" y="206"/>
                        </a:lnTo>
                        <a:lnTo>
                          <a:pt x="155" y="203"/>
                        </a:lnTo>
                        <a:lnTo>
                          <a:pt x="153" y="207"/>
                        </a:lnTo>
                        <a:lnTo>
                          <a:pt x="144" y="208"/>
                        </a:lnTo>
                        <a:lnTo>
                          <a:pt x="142" y="206"/>
                        </a:lnTo>
                        <a:lnTo>
                          <a:pt x="136" y="211"/>
                        </a:lnTo>
                        <a:lnTo>
                          <a:pt x="129" y="217"/>
                        </a:lnTo>
                        <a:lnTo>
                          <a:pt x="125" y="217"/>
                        </a:lnTo>
                        <a:lnTo>
                          <a:pt x="118" y="224"/>
                        </a:lnTo>
                        <a:lnTo>
                          <a:pt x="108" y="224"/>
                        </a:lnTo>
                        <a:lnTo>
                          <a:pt x="100" y="226"/>
                        </a:lnTo>
                        <a:lnTo>
                          <a:pt x="91" y="229"/>
                        </a:lnTo>
                        <a:lnTo>
                          <a:pt x="87" y="234"/>
                        </a:lnTo>
                        <a:lnTo>
                          <a:pt x="83" y="233"/>
                        </a:lnTo>
                        <a:lnTo>
                          <a:pt x="80" y="237"/>
                        </a:lnTo>
                        <a:lnTo>
                          <a:pt x="75" y="238"/>
                        </a:lnTo>
                        <a:lnTo>
                          <a:pt x="70" y="244"/>
                        </a:lnTo>
                        <a:lnTo>
                          <a:pt x="52" y="244"/>
                        </a:lnTo>
                        <a:lnTo>
                          <a:pt x="44" y="236"/>
                        </a:lnTo>
                        <a:lnTo>
                          <a:pt x="43" y="233"/>
                        </a:lnTo>
                        <a:lnTo>
                          <a:pt x="40" y="236"/>
                        </a:lnTo>
                        <a:lnTo>
                          <a:pt x="37" y="230"/>
                        </a:lnTo>
                        <a:lnTo>
                          <a:pt x="38" y="216"/>
                        </a:lnTo>
                        <a:lnTo>
                          <a:pt x="40" y="207"/>
                        </a:lnTo>
                        <a:lnTo>
                          <a:pt x="37" y="200"/>
                        </a:lnTo>
                        <a:lnTo>
                          <a:pt x="34" y="193"/>
                        </a:lnTo>
                        <a:lnTo>
                          <a:pt x="33" y="185"/>
                        </a:lnTo>
                        <a:lnTo>
                          <a:pt x="27" y="182"/>
                        </a:lnTo>
                        <a:lnTo>
                          <a:pt x="26" y="181"/>
                        </a:lnTo>
                        <a:lnTo>
                          <a:pt x="25" y="178"/>
                        </a:lnTo>
                        <a:lnTo>
                          <a:pt x="17" y="167"/>
                        </a:lnTo>
                        <a:lnTo>
                          <a:pt x="7" y="143"/>
                        </a:lnTo>
                        <a:lnTo>
                          <a:pt x="3" y="126"/>
                        </a:lnTo>
                        <a:lnTo>
                          <a:pt x="3" y="116"/>
                        </a:lnTo>
                        <a:lnTo>
                          <a:pt x="0" y="112"/>
                        </a:lnTo>
                        <a:lnTo>
                          <a:pt x="1" y="103"/>
                        </a:lnTo>
                        <a:lnTo>
                          <a:pt x="4" y="99"/>
                        </a:lnTo>
                        <a:lnTo>
                          <a:pt x="17" y="87"/>
                        </a:lnTo>
                        <a:lnTo>
                          <a:pt x="29" y="88"/>
                        </a:lnTo>
                        <a:lnTo>
                          <a:pt x="31" y="90"/>
                        </a:lnTo>
                        <a:lnTo>
                          <a:pt x="47" y="90"/>
                        </a:lnTo>
                        <a:lnTo>
                          <a:pt x="48" y="87"/>
                        </a:lnTo>
                        <a:lnTo>
                          <a:pt x="52" y="88"/>
                        </a:lnTo>
                        <a:lnTo>
                          <a:pt x="56" y="84"/>
                        </a:lnTo>
                        <a:lnTo>
                          <a:pt x="60" y="85"/>
                        </a:lnTo>
                        <a:lnTo>
                          <a:pt x="63" y="83"/>
                        </a:lnTo>
                        <a:lnTo>
                          <a:pt x="62" y="80"/>
                        </a:lnTo>
                        <a:lnTo>
                          <a:pt x="65" y="72"/>
                        </a:lnTo>
                        <a:lnTo>
                          <a:pt x="70" y="69"/>
                        </a:lnTo>
                        <a:lnTo>
                          <a:pt x="67" y="66"/>
                        </a:lnTo>
                        <a:lnTo>
                          <a:pt x="70" y="64"/>
                        </a:lnTo>
                        <a:lnTo>
                          <a:pt x="67" y="61"/>
                        </a:lnTo>
                        <a:lnTo>
                          <a:pt x="74" y="55"/>
                        </a:lnTo>
                        <a:lnTo>
                          <a:pt x="84" y="54"/>
                        </a:lnTo>
                        <a:lnTo>
                          <a:pt x="94" y="40"/>
                        </a:lnTo>
                        <a:lnTo>
                          <a:pt x="107" y="29"/>
                        </a:lnTo>
                        <a:lnTo>
                          <a:pt x="112" y="28"/>
                        </a:lnTo>
                        <a:lnTo>
                          <a:pt x="116" y="26"/>
                        </a:lnTo>
                        <a:lnTo>
                          <a:pt x="121" y="26"/>
                        </a:lnTo>
                        <a:lnTo>
                          <a:pt x="132" y="35"/>
                        </a:lnTo>
                        <a:lnTo>
                          <a:pt x="135" y="36"/>
                        </a:lnTo>
                        <a:lnTo>
                          <a:pt x="138" y="31"/>
                        </a:lnTo>
                        <a:lnTo>
                          <a:pt x="145" y="26"/>
                        </a:lnTo>
                        <a:lnTo>
                          <a:pt x="150" y="25"/>
                        </a:lnTo>
                        <a:lnTo>
                          <a:pt x="154" y="16"/>
                        </a:lnTo>
                        <a:lnTo>
                          <a:pt x="159" y="15"/>
                        </a:lnTo>
                        <a:lnTo>
                          <a:pt x="164" y="11"/>
                        </a:lnTo>
                        <a:lnTo>
                          <a:pt x="170" y="8"/>
                        </a:lnTo>
                        <a:lnTo>
                          <a:pt x="175" y="8"/>
                        </a:lnTo>
                        <a:lnTo>
                          <a:pt x="180" y="3"/>
                        </a:lnTo>
                        <a:lnTo>
                          <a:pt x="187" y="3"/>
                        </a:lnTo>
                        <a:lnTo>
                          <a:pt x="195" y="3"/>
                        </a:lnTo>
                        <a:lnTo>
                          <a:pt x="205" y="6"/>
                        </a:lnTo>
                        <a:lnTo>
                          <a:pt x="211" y="10"/>
                        </a:lnTo>
                        <a:lnTo>
                          <a:pt x="213" y="13"/>
                        </a:lnTo>
                        <a:lnTo>
                          <a:pt x="214" y="16"/>
                        </a:lnTo>
                        <a:lnTo>
                          <a:pt x="215" y="21"/>
                        </a:lnTo>
                        <a:lnTo>
                          <a:pt x="214" y="24"/>
                        </a:lnTo>
                        <a:lnTo>
                          <a:pt x="214" y="28"/>
                        </a:lnTo>
                        <a:lnTo>
                          <a:pt x="213" y="31"/>
                        </a:lnTo>
                        <a:lnTo>
                          <a:pt x="229" y="44"/>
                        </a:lnTo>
                        <a:lnTo>
                          <a:pt x="235" y="51"/>
                        </a:lnTo>
                        <a:lnTo>
                          <a:pt x="242" y="53"/>
                        </a:lnTo>
                        <a:lnTo>
                          <a:pt x="249" y="56"/>
                        </a:lnTo>
                        <a:lnTo>
                          <a:pt x="253" y="57"/>
                        </a:lnTo>
                        <a:lnTo>
                          <a:pt x="260" y="54"/>
                        </a:lnTo>
                        <a:lnTo>
                          <a:pt x="265" y="44"/>
                        </a:lnTo>
                        <a:lnTo>
                          <a:pt x="268" y="36"/>
                        </a:lnTo>
                        <a:lnTo>
                          <a:pt x="270" y="21"/>
                        </a:lnTo>
                        <a:lnTo>
                          <a:pt x="272" y="15"/>
                        </a:lnTo>
                        <a:lnTo>
                          <a:pt x="272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15"/>
                  <p:cNvSpPr/>
                  <p:nvPr/>
                </p:nvSpPr>
                <p:spPr>
                  <a:xfrm>
                    <a:off x="5834520" y="3165480"/>
                    <a:ext cx="333360" cy="63360"/>
                  </a:xfrm>
                  <a:custGeom>
                    <a:avLst/>
                    <a:gdLst>
                      <a:gd name="textAreaLeft" fmla="*/ 0 w 333360"/>
                      <a:gd name="textAreaRight" fmla="*/ 333720 w 33336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210" h="40">
                        <a:moveTo>
                          <a:pt x="0" y="0"/>
                        </a:moveTo>
                        <a:lnTo>
                          <a:pt x="16" y="6"/>
                        </a:lnTo>
                        <a:lnTo>
                          <a:pt x="29" y="6"/>
                        </a:lnTo>
                        <a:lnTo>
                          <a:pt x="42" y="6"/>
                        </a:lnTo>
                        <a:lnTo>
                          <a:pt x="51" y="6"/>
                        </a:lnTo>
                        <a:lnTo>
                          <a:pt x="57" y="7"/>
                        </a:lnTo>
                        <a:lnTo>
                          <a:pt x="66" y="10"/>
                        </a:lnTo>
                        <a:lnTo>
                          <a:pt x="71" y="18"/>
                        </a:lnTo>
                        <a:lnTo>
                          <a:pt x="75" y="22"/>
                        </a:lnTo>
                        <a:lnTo>
                          <a:pt x="83" y="21"/>
                        </a:lnTo>
                        <a:lnTo>
                          <a:pt x="92" y="21"/>
                        </a:lnTo>
                        <a:lnTo>
                          <a:pt x="102" y="25"/>
                        </a:lnTo>
                        <a:lnTo>
                          <a:pt x="109" y="27"/>
                        </a:lnTo>
                        <a:lnTo>
                          <a:pt x="113" y="27"/>
                        </a:lnTo>
                        <a:lnTo>
                          <a:pt x="115" y="22"/>
                        </a:lnTo>
                        <a:lnTo>
                          <a:pt x="118" y="18"/>
                        </a:lnTo>
                        <a:lnTo>
                          <a:pt x="131" y="21"/>
                        </a:lnTo>
                        <a:lnTo>
                          <a:pt x="143" y="21"/>
                        </a:lnTo>
                        <a:lnTo>
                          <a:pt x="153" y="21"/>
                        </a:lnTo>
                        <a:lnTo>
                          <a:pt x="161" y="24"/>
                        </a:lnTo>
                        <a:lnTo>
                          <a:pt x="165" y="26"/>
                        </a:lnTo>
                        <a:lnTo>
                          <a:pt x="173" y="25"/>
                        </a:lnTo>
                        <a:lnTo>
                          <a:pt x="179" y="23"/>
                        </a:lnTo>
                        <a:lnTo>
                          <a:pt x="182" y="21"/>
                        </a:lnTo>
                        <a:lnTo>
                          <a:pt x="191" y="21"/>
                        </a:lnTo>
                        <a:lnTo>
                          <a:pt x="197" y="18"/>
                        </a:lnTo>
                        <a:lnTo>
                          <a:pt x="204" y="16"/>
                        </a:lnTo>
                        <a:lnTo>
                          <a:pt x="209" y="16"/>
                        </a:lnTo>
                        <a:lnTo>
                          <a:pt x="208" y="24"/>
                        </a:lnTo>
                        <a:lnTo>
                          <a:pt x="206" y="27"/>
                        </a:lnTo>
                        <a:lnTo>
                          <a:pt x="201" y="31"/>
                        </a:lnTo>
                        <a:lnTo>
                          <a:pt x="197" y="31"/>
                        </a:lnTo>
                        <a:lnTo>
                          <a:pt x="195" y="31"/>
                        </a:lnTo>
                        <a:lnTo>
                          <a:pt x="190" y="32"/>
                        </a:lnTo>
                        <a:lnTo>
                          <a:pt x="185" y="37"/>
                        </a:lnTo>
                        <a:lnTo>
                          <a:pt x="181" y="35"/>
                        </a:lnTo>
                        <a:lnTo>
                          <a:pt x="176" y="33"/>
                        </a:lnTo>
                        <a:lnTo>
                          <a:pt x="172" y="35"/>
                        </a:lnTo>
                        <a:lnTo>
                          <a:pt x="167" y="37"/>
                        </a:lnTo>
                        <a:lnTo>
                          <a:pt x="164" y="37"/>
                        </a:lnTo>
                        <a:lnTo>
                          <a:pt x="161" y="39"/>
                        </a:lnTo>
                        <a:lnTo>
                          <a:pt x="152" y="39"/>
                        </a:lnTo>
                        <a:lnTo>
                          <a:pt x="148" y="35"/>
                        </a:lnTo>
                        <a:lnTo>
                          <a:pt x="144" y="31"/>
                        </a:lnTo>
                        <a:lnTo>
                          <a:pt x="138" y="35"/>
                        </a:lnTo>
                        <a:lnTo>
                          <a:pt x="135" y="39"/>
                        </a:lnTo>
                        <a:lnTo>
                          <a:pt x="130" y="39"/>
                        </a:lnTo>
                        <a:lnTo>
                          <a:pt x="122" y="31"/>
                        </a:lnTo>
                        <a:lnTo>
                          <a:pt x="120" y="32"/>
                        </a:lnTo>
                        <a:lnTo>
                          <a:pt x="116" y="32"/>
                        </a:lnTo>
                        <a:lnTo>
                          <a:pt x="112" y="37"/>
                        </a:lnTo>
                        <a:lnTo>
                          <a:pt x="106" y="35"/>
                        </a:lnTo>
                        <a:lnTo>
                          <a:pt x="99" y="35"/>
                        </a:lnTo>
                        <a:lnTo>
                          <a:pt x="95" y="33"/>
                        </a:lnTo>
                        <a:lnTo>
                          <a:pt x="91" y="31"/>
                        </a:lnTo>
                        <a:lnTo>
                          <a:pt x="84" y="32"/>
                        </a:lnTo>
                        <a:lnTo>
                          <a:pt x="77" y="37"/>
                        </a:lnTo>
                        <a:lnTo>
                          <a:pt x="73" y="35"/>
                        </a:lnTo>
                        <a:lnTo>
                          <a:pt x="66" y="33"/>
                        </a:lnTo>
                        <a:lnTo>
                          <a:pt x="58" y="30"/>
                        </a:lnTo>
                        <a:lnTo>
                          <a:pt x="52" y="30"/>
                        </a:lnTo>
                        <a:lnTo>
                          <a:pt x="38" y="26"/>
                        </a:lnTo>
                        <a:lnTo>
                          <a:pt x="29" y="24"/>
                        </a:lnTo>
                        <a:lnTo>
                          <a:pt x="24" y="23"/>
                        </a:lnTo>
                        <a:lnTo>
                          <a:pt x="15" y="22"/>
                        </a:lnTo>
                        <a:lnTo>
                          <a:pt x="9" y="17"/>
                        </a:lnTo>
                        <a:lnTo>
                          <a:pt x="3" y="16"/>
                        </a:lnTo>
                        <a:lnTo>
                          <a:pt x="1" y="15"/>
                        </a:lnTo>
                        <a:lnTo>
                          <a:pt x="0" y="1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116"/>
                  <p:cNvSpPr/>
                  <p:nvPr/>
                </p:nvSpPr>
                <p:spPr>
                  <a:xfrm>
                    <a:off x="6017040" y="3046320"/>
                    <a:ext cx="150840" cy="11772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95" h="74">
                        <a:moveTo>
                          <a:pt x="23" y="0"/>
                        </a:moveTo>
                        <a:lnTo>
                          <a:pt x="46" y="1"/>
                        </a:lnTo>
                        <a:lnTo>
                          <a:pt x="67" y="1"/>
                        </a:lnTo>
                        <a:lnTo>
                          <a:pt x="78" y="0"/>
                        </a:lnTo>
                        <a:lnTo>
                          <a:pt x="94" y="7"/>
                        </a:lnTo>
                        <a:lnTo>
                          <a:pt x="84" y="9"/>
                        </a:lnTo>
                        <a:lnTo>
                          <a:pt x="78" y="12"/>
                        </a:lnTo>
                        <a:lnTo>
                          <a:pt x="75" y="15"/>
                        </a:lnTo>
                        <a:lnTo>
                          <a:pt x="73" y="17"/>
                        </a:lnTo>
                        <a:lnTo>
                          <a:pt x="73" y="19"/>
                        </a:lnTo>
                        <a:lnTo>
                          <a:pt x="73" y="22"/>
                        </a:lnTo>
                        <a:lnTo>
                          <a:pt x="66" y="25"/>
                        </a:lnTo>
                        <a:lnTo>
                          <a:pt x="60" y="25"/>
                        </a:lnTo>
                        <a:lnTo>
                          <a:pt x="58" y="26"/>
                        </a:lnTo>
                        <a:lnTo>
                          <a:pt x="53" y="26"/>
                        </a:lnTo>
                        <a:lnTo>
                          <a:pt x="50" y="22"/>
                        </a:lnTo>
                        <a:lnTo>
                          <a:pt x="46" y="18"/>
                        </a:lnTo>
                        <a:lnTo>
                          <a:pt x="41" y="15"/>
                        </a:lnTo>
                        <a:lnTo>
                          <a:pt x="32" y="15"/>
                        </a:lnTo>
                        <a:lnTo>
                          <a:pt x="30" y="15"/>
                        </a:lnTo>
                        <a:lnTo>
                          <a:pt x="28" y="20"/>
                        </a:lnTo>
                        <a:lnTo>
                          <a:pt x="29" y="26"/>
                        </a:lnTo>
                        <a:lnTo>
                          <a:pt x="29" y="29"/>
                        </a:lnTo>
                        <a:lnTo>
                          <a:pt x="30" y="33"/>
                        </a:lnTo>
                        <a:lnTo>
                          <a:pt x="35" y="31"/>
                        </a:lnTo>
                        <a:lnTo>
                          <a:pt x="41" y="28"/>
                        </a:lnTo>
                        <a:lnTo>
                          <a:pt x="46" y="28"/>
                        </a:lnTo>
                        <a:lnTo>
                          <a:pt x="49" y="30"/>
                        </a:lnTo>
                        <a:lnTo>
                          <a:pt x="49" y="33"/>
                        </a:lnTo>
                        <a:lnTo>
                          <a:pt x="47" y="37"/>
                        </a:lnTo>
                        <a:lnTo>
                          <a:pt x="46" y="39"/>
                        </a:lnTo>
                        <a:lnTo>
                          <a:pt x="46" y="41"/>
                        </a:lnTo>
                        <a:lnTo>
                          <a:pt x="45" y="45"/>
                        </a:lnTo>
                        <a:lnTo>
                          <a:pt x="47" y="48"/>
                        </a:lnTo>
                        <a:lnTo>
                          <a:pt x="51" y="53"/>
                        </a:lnTo>
                        <a:lnTo>
                          <a:pt x="53" y="52"/>
                        </a:lnTo>
                        <a:lnTo>
                          <a:pt x="53" y="56"/>
                        </a:lnTo>
                        <a:lnTo>
                          <a:pt x="50" y="59"/>
                        </a:lnTo>
                        <a:lnTo>
                          <a:pt x="48" y="63"/>
                        </a:lnTo>
                        <a:lnTo>
                          <a:pt x="47" y="68"/>
                        </a:lnTo>
                        <a:lnTo>
                          <a:pt x="42" y="71"/>
                        </a:lnTo>
                        <a:lnTo>
                          <a:pt x="39" y="71"/>
                        </a:lnTo>
                        <a:lnTo>
                          <a:pt x="36" y="71"/>
                        </a:lnTo>
                        <a:lnTo>
                          <a:pt x="36" y="66"/>
                        </a:lnTo>
                        <a:lnTo>
                          <a:pt x="35" y="58"/>
                        </a:lnTo>
                        <a:lnTo>
                          <a:pt x="31" y="56"/>
                        </a:lnTo>
                        <a:lnTo>
                          <a:pt x="30" y="53"/>
                        </a:lnTo>
                        <a:lnTo>
                          <a:pt x="31" y="46"/>
                        </a:lnTo>
                        <a:lnTo>
                          <a:pt x="28" y="44"/>
                        </a:lnTo>
                        <a:lnTo>
                          <a:pt x="20" y="46"/>
                        </a:lnTo>
                        <a:lnTo>
                          <a:pt x="17" y="44"/>
                        </a:lnTo>
                        <a:lnTo>
                          <a:pt x="13" y="47"/>
                        </a:lnTo>
                        <a:lnTo>
                          <a:pt x="17" y="49"/>
                        </a:lnTo>
                        <a:lnTo>
                          <a:pt x="22" y="52"/>
                        </a:lnTo>
                        <a:lnTo>
                          <a:pt x="23" y="54"/>
                        </a:lnTo>
                        <a:lnTo>
                          <a:pt x="27" y="58"/>
                        </a:lnTo>
                        <a:lnTo>
                          <a:pt x="27" y="62"/>
                        </a:lnTo>
                        <a:lnTo>
                          <a:pt x="23" y="67"/>
                        </a:lnTo>
                        <a:lnTo>
                          <a:pt x="19" y="72"/>
                        </a:lnTo>
                        <a:lnTo>
                          <a:pt x="17" y="73"/>
                        </a:lnTo>
                        <a:lnTo>
                          <a:pt x="17" y="70"/>
                        </a:lnTo>
                        <a:lnTo>
                          <a:pt x="17" y="66"/>
                        </a:lnTo>
                        <a:lnTo>
                          <a:pt x="18" y="62"/>
                        </a:lnTo>
                        <a:lnTo>
                          <a:pt x="12" y="58"/>
                        </a:lnTo>
                        <a:lnTo>
                          <a:pt x="7" y="55"/>
                        </a:lnTo>
                        <a:lnTo>
                          <a:pt x="6" y="52"/>
                        </a:lnTo>
                        <a:lnTo>
                          <a:pt x="0" y="49"/>
                        </a:lnTo>
                        <a:lnTo>
                          <a:pt x="1" y="44"/>
                        </a:lnTo>
                        <a:lnTo>
                          <a:pt x="6" y="40"/>
                        </a:lnTo>
                        <a:lnTo>
                          <a:pt x="9" y="35"/>
                        </a:lnTo>
                        <a:lnTo>
                          <a:pt x="12" y="29"/>
                        </a:lnTo>
                        <a:lnTo>
                          <a:pt x="13" y="24"/>
                        </a:lnTo>
                        <a:lnTo>
                          <a:pt x="12" y="18"/>
                        </a:lnTo>
                        <a:lnTo>
                          <a:pt x="15" y="16"/>
                        </a:lnTo>
                        <a:lnTo>
                          <a:pt x="17" y="13"/>
                        </a:lnTo>
                        <a:lnTo>
                          <a:pt x="13" y="9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117"/>
                  <p:cNvSpPr/>
                  <p:nvPr/>
                </p:nvSpPr>
                <p:spPr>
                  <a:xfrm>
                    <a:off x="5858280" y="2994120"/>
                    <a:ext cx="166680" cy="163440"/>
                  </a:xfrm>
                  <a:custGeom>
                    <a:avLst/>
                    <a:gdLst>
                      <a:gd name="textAreaLeft" fmla="*/ 0 w 166680"/>
                      <a:gd name="textAreaRight" fmla="*/ 167040 w 166680"/>
                      <a:gd name="textAreaTop" fmla="*/ 0 h 163440"/>
                      <a:gd name="textAreaBottom" fmla="*/ 163800 h 163440"/>
                    </a:gdLst>
                    <a:ahLst/>
                    <a:rect l="textAreaLeft" t="textAreaTop" r="textAreaRight" b="textAreaBottom"/>
                    <a:pathLst>
                      <a:path w="105" h="103">
                        <a:moveTo>
                          <a:pt x="0" y="34"/>
                        </a:moveTo>
                        <a:lnTo>
                          <a:pt x="21" y="18"/>
                        </a:lnTo>
                        <a:lnTo>
                          <a:pt x="32" y="11"/>
                        </a:lnTo>
                        <a:lnTo>
                          <a:pt x="38" y="6"/>
                        </a:lnTo>
                        <a:lnTo>
                          <a:pt x="55" y="0"/>
                        </a:lnTo>
                        <a:lnTo>
                          <a:pt x="64" y="12"/>
                        </a:lnTo>
                        <a:lnTo>
                          <a:pt x="73" y="7"/>
                        </a:lnTo>
                        <a:lnTo>
                          <a:pt x="76" y="3"/>
                        </a:lnTo>
                        <a:lnTo>
                          <a:pt x="84" y="0"/>
                        </a:lnTo>
                        <a:lnTo>
                          <a:pt x="88" y="0"/>
                        </a:lnTo>
                        <a:lnTo>
                          <a:pt x="89" y="5"/>
                        </a:lnTo>
                        <a:lnTo>
                          <a:pt x="89" y="8"/>
                        </a:lnTo>
                        <a:lnTo>
                          <a:pt x="85" y="14"/>
                        </a:lnTo>
                        <a:lnTo>
                          <a:pt x="85" y="17"/>
                        </a:lnTo>
                        <a:lnTo>
                          <a:pt x="97" y="32"/>
                        </a:lnTo>
                        <a:lnTo>
                          <a:pt x="99" y="41"/>
                        </a:lnTo>
                        <a:lnTo>
                          <a:pt x="103" y="41"/>
                        </a:lnTo>
                        <a:lnTo>
                          <a:pt x="104" y="45"/>
                        </a:lnTo>
                        <a:lnTo>
                          <a:pt x="99" y="50"/>
                        </a:lnTo>
                        <a:lnTo>
                          <a:pt x="96" y="48"/>
                        </a:lnTo>
                        <a:lnTo>
                          <a:pt x="88" y="51"/>
                        </a:lnTo>
                        <a:lnTo>
                          <a:pt x="89" y="60"/>
                        </a:lnTo>
                        <a:lnTo>
                          <a:pt x="80" y="66"/>
                        </a:lnTo>
                        <a:lnTo>
                          <a:pt x="80" y="80"/>
                        </a:lnTo>
                        <a:lnTo>
                          <a:pt x="80" y="91"/>
                        </a:lnTo>
                        <a:lnTo>
                          <a:pt x="76" y="95"/>
                        </a:lnTo>
                        <a:lnTo>
                          <a:pt x="73" y="102"/>
                        </a:lnTo>
                        <a:lnTo>
                          <a:pt x="68" y="101"/>
                        </a:lnTo>
                        <a:lnTo>
                          <a:pt x="61" y="97"/>
                        </a:lnTo>
                        <a:lnTo>
                          <a:pt x="56" y="94"/>
                        </a:lnTo>
                        <a:lnTo>
                          <a:pt x="51" y="88"/>
                        </a:lnTo>
                        <a:lnTo>
                          <a:pt x="36" y="89"/>
                        </a:lnTo>
                        <a:lnTo>
                          <a:pt x="22" y="86"/>
                        </a:lnTo>
                        <a:lnTo>
                          <a:pt x="13" y="77"/>
                        </a:lnTo>
                        <a:lnTo>
                          <a:pt x="8" y="70"/>
                        </a:lnTo>
                        <a:lnTo>
                          <a:pt x="3" y="65"/>
                        </a:lnTo>
                        <a:lnTo>
                          <a:pt x="3" y="53"/>
                        </a:lnTo>
                        <a:lnTo>
                          <a:pt x="0" y="34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118"/>
                  <p:cNvSpPr/>
                  <p:nvPr/>
                </p:nvSpPr>
                <p:spPr>
                  <a:xfrm>
                    <a:off x="6210720" y="3086280"/>
                    <a:ext cx="320760" cy="150480"/>
                  </a:xfrm>
                  <a:custGeom>
                    <a:avLst/>
                    <a:gdLst>
                      <a:gd name="textAreaLeft" fmla="*/ 0 w 320760"/>
                      <a:gd name="textAreaRight" fmla="*/ 321120 w 320760"/>
                      <a:gd name="textAreaTop" fmla="*/ 0 h 150480"/>
                      <a:gd name="textAreaBottom" fmla="*/ 150840 h 150480"/>
                    </a:gdLst>
                    <a:ahLst/>
                    <a:rect l="textAreaLeft" t="textAreaTop" r="textAreaRight" b="textAreaBottom"/>
                    <a:pathLst>
                      <a:path w="202" h="95">
                        <a:moveTo>
                          <a:pt x="0" y="0"/>
                        </a:moveTo>
                        <a:lnTo>
                          <a:pt x="18" y="1"/>
                        </a:lnTo>
                        <a:lnTo>
                          <a:pt x="33" y="2"/>
                        </a:lnTo>
                        <a:lnTo>
                          <a:pt x="39" y="16"/>
                        </a:lnTo>
                        <a:lnTo>
                          <a:pt x="41" y="20"/>
                        </a:lnTo>
                        <a:lnTo>
                          <a:pt x="43" y="22"/>
                        </a:lnTo>
                        <a:lnTo>
                          <a:pt x="47" y="19"/>
                        </a:lnTo>
                        <a:lnTo>
                          <a:pt x="55" y="19"/>
                        </a:lnTo>
                        <a:lnTo>
                          <a:pt x="60" y="22"/>
                        </a:lnTo>
                        <a:lnTo>
                          <a:pt x="62" y="21"/>
                        </a:lnTo>
                        <a:lnTo>
                          <a:pt x="69" y="16"/>
                        </a:lnTo>
                        <a:lnTo>
                          <a:pt x="70" y="16"/>
                        </a:lnTo>
                        <a:lnTo>
                          <a:pt x="76" y="12"/>
                        </a:lnTo>
                        <a:lnTo>
                          <a:pt x="81" y="12"/>
                        </a:lnTo>
                        <a:lnTo>
                          <a:pt x="99" y="19"/>
                        </a:lnTo>
                        <a:lnTo>
                          <a:pt x="107" y="19"/>
                        </a:lnTo>
                        <a:lnTo>
                          <a:pt x="115" y="25"/>
                        </a:lnTo>
                        <a:lnTo>
                          <a:pt x="123" y="27"/>
                        </a:lnTo>
                        <a:lnTo>
                          <a:pt x="130" y="31"/>
                        </a:lnTo>
                        <a:lnTo>
                          <a:pt x="135" y="32"/>
                        </a:lnTo>
                        <a:lnTo>
                          <a:pt x="150" y="37"/>
                        </a:lnTo>
                        <a:lnTo>
                          <a:pt x="157" y="45"/>
                        </a:lnTo>
                        <a:lnTo>
                          <a:pt x="160" y="49"/>
                        </a:lnTo>
                        <a:lnTo>
                          <a:pt x="159" y="51"/>
                        </a:lnTo>
                        <a:lnTo>
                          <a:pt x="165" y="56"/>
                        </a:lnTo>
                        <a:lnTo>
                          <a:pt x="169" y="57"/>
                        </a:lnTo>
                        <a:lnTo>
                          <a:pt x="172" y="58"/>
                        </a:lnTo>
                        <a:lnTo>
                          <a:pt x="177" y="59"/>
                        </a:lnTo>
                        <a:lnTo>
                          <a:pt x="186" y="66"/>
                        </a:lnTo>
                        <a:lnTo>
                          <a:pt x="186" y="70"/>
                        </a:lnTo>
                        <a:lnTo>
                          <a:pt x="192" y="75"/>
                        </a:lnTo>
                        <a:lnTo>
                          <a:pt x="193" y="77"/>
                        </a:lnTo>
                        <a:lnTo>
                          <a:pt x="201" y="86"/>
                        </a:lnTo>
                        <a:lnTo>
                          <a:pt x="194" y="94"/>
                        </a:lnTo>
                        <a:lnTo>
                          <a:pt x="192" y="94"/>
                        </a:lnTo>
                        <a:lnTo>
                          <a:pt x="185" y="94"/>
                        </a:lnTo>
                        <a:lnTo>
                          <a:pt x="183" y="91"/>
                        </a:lnTo>
                        <a:lnTo>
                          <a:pt x="179" y="91"/>
                        </a:lnTo>
                        <a:lnTo>
                          <a:pt x="176" y="92"/>
                        </a:lnTo>
                        <a:lnTo>
                          <a:pt x="159" y="74"/>
                        </a:lnTo>
                        <a:lnTo>
                          <a:pt x="149" y="75"/>
                        </a:lnTo>
                        <a:lnTo>
                          <a:pt x="139" y="74"/>
                        </a:lnTo>
                        <a:lnTo>
                          <a:pt x="135" y="76"/>
                        </a:lnTo>
                        <a:lnTo>
                          <a:pt x="132" y="79"/>
                        </a:lnTo>
                        <a:lnTo>
                          <a:pt x="131" y="77"/>
                        </a:lnTo>
                        <a:lnTo>
                          <a:pt x="126" y="83"/>
                        </a:lnTo>
                        <a:lnTo>
                          <a:pt x="120" y="91"/>
                        </a:lnTo>
                        <a:lnTo>
                          <a:pt x="114" y="87"/>
                        </a:lnTo>
                        <a:lnTo>
                          <a:pt x="107" y="85"/>
                        </a:lnTo>
                        <a:lnTo>
                          <a:pt x="103" y="85"/>
                        </a:lnTo>
                        <a:lnTo>
                          <a:pt x="96" y="83"/>
                        </a:lnTo>
                        <a:lnTo>
                          <a:pt x="93" y="85"/>
                        </a:lnTo>
                        <a:lnTo>
                          <a:pt x="88" y="74"/>
                        </a:lnTo>
                        <a:lnTo>
                          <a:pt x="80" y="64"/>
                        </a:lnTo>
                        <a:lnTo>
                          <a:pt x="72" y="51"/>
                        </a:lnTo>
                        <a:lnTo>
                          <a:pt x="65" y="45"/>
                        </a:lnTo>
                        <a:lnTo>
                          <a:pt x="60" y="38"/>
                        </a:lnTo>
                        <a:lnTo>
                          <a:pt x="47" y="38"/>
                        </a:lnTo>
                        <a:lnTo>
                          <a:pt x="36" y="41"/>
                        </a:lnTo>
                        <a:lnTo>
                          <a:pt x="30" y="37"/>
                        </a:lnTo>
                        <a:lnTo>
                          <a:pt x="19" y="34"/>
                        </a:lnTo>
                        <a:lnTo>
                          <a:pt x="14" y="30"/>
                        </a:lnTo>
                        <a:lnTo>
                          <a:pt x="14" y="17"/>
                        </a:lnTo>
                        <a:lnTo>
                          <a:pt x="15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119"/>
                  <p:cNvSpPr/>
                  <p:nvPr/>
                </p:nvSpPr>
                <p:spPr>
                  <a:xfrm>
                    <a:off x="5621760" y="2978280"/>
                    <a:ext cx="195480" cy="199800"/>
                  </a:xfrm>
                  <a:custGeom>
                    <a:avLst/>
                    <a:gdLst>
                      <a:gd name="textAreaLeft" fmla="*/ 0 w 195480"/>
                      <a:gd name="textAreaRight" fmla="*/ 195840 w 195480"/>
                      <a:gd name="textAreaTop" fmla="*/ 0 h 199800"/>
                      <a:gd name="textAreaBottom" fmla="*/ 200160 h 199800"/>
                    </a:gdLst>
                    <a:ahLst/>
                    <a:rect l="textAreaLeft" t="textAreaTop" r="textAreaRight" b="textAreaBottom"/>
                    <a:pathLst>
                      <a:path w="123" h="126">
                        <a:moveTo>
                          <a:pt x="0" y="3"/>
                        </a:moveTo>
                        <a:lnTo>
                          <a:pt x="12" y="0"/>
                        </a:lnTo>
                        <a:lnTo>
                          <a:pt x="27" y="6"/>
                        </a:lnTo>
                        <a:lnTo>
                          <a:pt x="29" y="11"/>
                        </a:lnTo>
                        <a:lnTo>
                          <a:pt x="29" y="13"/>
                        </a:lnTo>
                        <a:lnTo>
                          <a:pt x="33" y="15"/>
                        </a:lnTo>
                        <a:lnTo>
                          <a:pt x="33" y="17"/>
                        </a:lnTo>
                        <a:lnTo>
                          <a:pt x="37" y="18"/>
                        </a:lnTo>
                        <a:lnTo>
                          <a:pt x="37" y="22"/>
                        </a:lnTo>
                        <a:lnTo>
                          <a:pt x="52" y="36"/>
                        </a:lnTo>
                        <a:lnTo>
                          <a:pt x="54" y="36"/>
                        </a:lnTo>
                        <a:lnTo>
                          <a:pt x="56" y="39"/>
                        </a:lnTo>
                        <a:lnTo>
                          <a:pt x="59" y="43"/>
                        </a:lnTo>
                        <a:lnTo>
                          <a:pt x="61" y="43"/>
                        </a:lnTo>
                        <a:lnTo>
                          <a:pt x="71" y="47"/>
                        </a:lnTo>
                        <a:lnTo>
                          <a:pt x="90" y="49"/>
                        </a:lnTo>
                        <a:lnTo>
                          <a:pt x="91" y="65"/>
                        </a:lnTo>
                        <a:lnTo>
                          <a:pt x="96" y="67"/>
                        </a:lnTo>
                        <a:lnTo>
                          <a:pt x="95" y="73"/>
                        </a:lnTo>
                        <a:lnTo>
                          <a:pt x="106" y="81"/>
                        </a:lnTo>
                        <a:lnTo>
                          <a:pt x="116" y="84"/>
                        </a:lnTo>
                        <a:lnTo>
                          <a:pt x="116" y="110"/>
                        </a:lnTo>
                        <a:lnTo>
                          <a:pt x="122" y="120"/>
                        </a:lnTo>
                        <a:lnTo>
                          <a:pt x="118" y="124"/>
                        </a:lnTo>
                        <a:lnTo>
                          <a:pt x="112" y="125"/>
                        </a:lnTo>
                        <a:lnTo>
                          <a:pt x="111" y="116"/>
                        </a:lnTo>
                        <a:lnTo>
                          <a:pt x="99" y="125"/>
                        </a:lnTo>
                        <a:lnTo>
                          <a:pt x="91" y="111"/>
                        </a:lnTo>
                        <a:lnTo>
                          <a:pt x="87" y="102"/>
                        </a:lnTo>
                        <a:lnTo>
                          <a:pt x="73" y="90"/>
                        </a:lnTo>
                        <a:lnTo>
                          <a:pt x="70" y="90"/>
                        </a:lnTo>
                        <a:lnTo>
                          <a:pt x="58" y="83"/>
                        </a:lnTo>
                        <a:lnTo>
                          <a:pt x="55" y="76"/>
                        </a:lnTo>
                        <a:lnTo>
                          <a:pt x="55" y="72"/>
                        </a:lnTo>
                        <a:lnTo>
                          <a:pt x="45" y="54"/>
                        </a:lnTo>
                        <a:lnTo>
                          <a:pt x="41" y="43"/>
                        </a:lnTo>
                        <a:lnTo>
                          <a:pt x="28" y="33"/>
                        </a:lnTo>
                        <a:lnTo>
                          <a:pt x="11" y="17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120"/>
                  <p:cNvSpPr/>
                  <p:nvPr/>
                </p:nvSpPr>
                <p:spPr>
                  <a:xfrm>
                    <a:off x="5964840" y="2765520"/>
                    <a:ext cx="187200" cy="220680"/>
                  </a:xfrm>
                  <a:custGeom>
                    <a:avLst/>
                    <a:gdLst>
                      <a:gd name="textAreaLeft" fmla="*/ 0 w 187200"/>
                      <a:gd name="textAreaRight" fmla="*/ 187560 w 187200"/>
                      <a:gd name="textAreaTop" fmla="*/ 0 h 220680"/>
                      <a:gd name="textAreaBottom" fmla="*/ 221040 h 220680"/>
                    </a:gdLst>
                    <a:ahLst/>
                    <a:rect l="textAreaLeft" t="textAreaTop" r="textAreaRight" b="textAreaBottom"/>
                    <a:pathLst>
                      <a:path w="118" h="139">
                        <a:moveTo>
                          <a:pt x="8" y="0"/>
                        </a:moveTo>
                        <a:lnTo>
                          <a:pt x="18" y="0"/>
                        </a:lnTo>
                        <a:lnTo>
                          <a:pt x="29" y="15"/>
                        </a:lnTo>
                        <a:lnTo>
                          <a:pt x="27" y="28"/>
                        </a:lnTo>
                        <a:lnTo>
                          <a:pt x="34" y="33"/>
                        </a:lnTo>
                        <a:lnTo>
                          <a:pt x="37" y="42"/>
                        </a:lnTo>
                        <a:lnTo>
                          <a:pt x="45" y="46"/>
                        </a:lnTo>
                        <a:lnTo>
                          <a:pt x="54" y="47"/>
                        </a:lnTo>
                        <a:lnTo>
                          <a:pt x="67" y="54"/>
                        </a:lnTo>
                        <a:lnTo>
                          <a:pt x="76" y="62"/>
                        </a:lnTo>
                        <a:lnTo>
                          <a:pt x="79" y="62"/>
                        </a:lnTo>
                        <a:lnTo>
                          <a:pt x="90" y="69"/>
                        </a:lnTo>
                        <a:lnTo>
                          <a:pt x="90" y="86"/>
                        </a:lnTo>
                        <a:lnTo>
                          <a:pt x="93" y="94"/>
                        </a:lnTo>
                        <a:lnTo>
                          <a:pt x="97" y="98"/>
                        </a:lnTo>
                        <a:lnTo>
                          <a:pt x="101" y="103"/>
                        </a:lnTo>
                        <a:lnTo>
                          <a:pt x="106" y="108"/>
                        </a:lnTo>
                        <a:lnTo>
                          <a:pt x="108" y="115"/>
                        </a:lnTo>
                        <a:lnTo>
                          <a:pt x="117" y="121"/>
                        </a:lnTo>
                        <a:lnTo>
                          <a:pt x="116" y="128"/>
                        </a:lnTo>
                        <a:lnTo>
                          <a:pt x="107" y="129"/>
                        </a:lnTo>
                        <a:lnTo>
                          <a:pt x="103" y="123"/>
                        </a:lnTo>
                        <a:lnTo>
                          <a:pt x="97" y="123"/>
                        </a:lnTo>
                        <a:lnTo>
                          <a:pt x="97" y="138"/>
                        </a:lnTo>
                        <a:lnTo>
                          <a:pt x="91" y="138"/>
                        </a:lnTo>
                        <a:lnTo>
                          <a:pt x="84" y="131"/>
                        </a:lnTo>
                        <a:lnTo>
                          <a:pt x="80" y="128"/>
                        </a:lnTo>
                        <a:lnTo>
                          <a:pt x="80" y="120"/>
                        </a:lnTo>
                        <a:lnTo>
                          <a:pt x="70" y="120"/>
                        </a:lnTo>
                        <a:lnTo>
                          <a:pt x="66" y="128"/>
                        </a:lnTo>
                        <a:lnTo>
                          <a:pt x="63" y="120"/>
                        </a:lnTo>
                        <a:lnTo>
                          <a:pt x="62" y="112"/>
                        </a:lnTo>
                        <a:lnTo>
                          <a:pt x="74" y="108"/>
                        </a:lnTo>
                        <a:lnTo>
                          <a:pt x="81" y="111"/>
                        </a:lnTo>
                        <a:lnTo>
                          <a:pt x="82" y="97"/>
                        </a:lnTo>
                        <a:lnTo>
                          <a:pt x="75" y="93"/>
                        </a:lnTo>
                        <a:lnTo>
                          <a:pt x="71" y="81"/>
                        </a:lnTo>
                        <a:lnTo>
                          <a:pt x="67" y="68"/>
                        </a:lnTo>
                        <a:lnTo>
                          <a:pt x="55" y="63"/>
                        </a:lnTo>
                        <a:lnTo>
                          <a:pt x="49" y="58"/>
                        </a:lnTo>
                        <a:lnTo>
                          <a:pt x="39" y="54"/>
                        </a:lnTo>
                        <a:lnTo>
                          <a:pt x="45" y="67"/>
                        </a:lnTo>
                        <a:lnTo>
                          <a:pt x="34" y="72"/>
                        </a:lnTo>
                        <a:lnTo>
                          <a:pt x="27" y="59"/>
                        </a:lnTo>
                        <a:lnTo>
                          <a:pt x="21" y="55"/>
                        </a:lnTo>
                        <a:lnTo>
                          <a:pt x="21" y="47"/>
                        </a:lnTo>
                        <a:lnTo>
                          <a:pt x="13" y="38"/>
                        </a:lnTo>
                        <a:lnTo>
                          <a:pt x="4" y="33"/>
                        </a:lnTo>
                        <a:lnTo>
                          <a:pt x="0" y="27"/>
                        </a:lnTo>
                        <a:lnTo>
                          <a:pt x="2" y="23"/>
                        </a:lnTo>
                        <a:lnTo>
                          <a:pt x="9" y="25"/>
                        </a:lnTo>
                        <a:lnTo>
                          <a:pt x="11" y="19"/>
                        </a:lnTo>
                        <a:lnTo>
                          <a:pt x="9" y="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Freeform 121"/>
                  <p:cNvSpPr/>
                  <p:nvPr/>
                </p:nvSpPr>
                <p:spPr>
                  <a:xfrm>
                    <a:off x="5922000" y="2397240"/>
                    <a:ext cx="139680" cy="185760"/>
                  </a:xfrm>
                  <a:custGeom>
                    <a:avLst/>
                    <a:gdLst>
                      <a:gd name="textAreaLeft" fmla="*/ 0 w 139680"/>
                      <a:gd name="textAreaRight" fmla="*/ 140040 w 139680"/>
                      <a:gd name="textAreaTop" fmla="*/ 0 h 185760"/>
                      <a:gd name="textAreaBottom" fmla="*/ 186120 h 185760"/>
                    </a:gdLst>
                    <a:ahLst/>
                    <a:rect l="textAreaLeft" t="textAreaTop" r="textAreaRight" b="textAreaBottom"/>
                    <a:pathLst>
                      <a:path w="88" h="117">
                        <a:moveTo>
                          <a:pt x="18" y="0"/>
                        </a:moveTo>
                        <a:lnTo>
                          <a:pt x="35" y="8"/>
                        </a:lnTo>
                        <a:lnTo>
                          <a:pt x="45" y="15"/>
                        </a:lnTo>
                        <a:lnTo>
                          <a:pt x="52" y="25"/>
                        </a:lnTo>
                        <a:lnTo>
                          <a:pt x="58" y="25"/>
                        </a:lnTo>
                        <a:lnTo>
                          <a:pt x="56" y="31"/>
                        </a:lnTo>
                        <a:lnTo>
                          <a:pt x="63" y="36"/>
                        </a:lnTo>
                        <a:lnTo>
                          <a:pt x="68" y="43"/>
                        </a:lnTo>
                        <a:lnTo>
                          <a:pt x="79" y="56"/>
                        </a:lnTo>
                        <a:lnTo>
                          <a:pt x="87" y="72"/>
                        </a:lnTo>
                        <a:lnTo>
                          <a:pt x="72" y="71"/>
                        </a:lnTo>
                        <a:lnTo>
                          <a:pt x="61" y="69"/>
                        </a:lnTo>
                        <a:lnTo>
                          <a:pt x="69" y="80"/>
                        </a:lnTo>
                        <a:lnTo>
                          <a:pt x="69" y="87"/>
                        </a:lnTo>
                        <a:lnTo>
                          <a:pt x="69" y="93"/>
                        </a:lnTo>
                        <a:lnTo>
                          <a:pt x="64" y="90"/>
                        </a:lnTo>
                        <a:lnTo>
                          <a:pt x="59" y="84"/>
                        </a:lnTo>
                        <a:lnTo>
                          <a:pt x="49" y="78"/>
                        </a:lnTo>
                        <a:lnTo>
                          <a:pt x="43" y="74"/>
                        </a:lnTo>
                        <a:lnTo>
                          <a:pt x="34" y="78"/>
                        </a:lnTo>
                        <a:lnTo>
                          <a:pt x="28" y="80"/>
                        </a:lnTo>
                        <a:lnTo>
                          <a:pt x="32" y="85"/>
                        </a:lnTo>
                        <a:lnTo>
                          <a:pt x="41" y="90"/>
                        </a:lnTo>
                        <a:lnTo>
                          <a:pt x="50" y="94"/>
                        </a:lnTo>
                        <a:lnTo>
                          <a:pt x="53" y="102"/>
                        </a:lnTo>
                        <a:lnTo>
                          <a:pt x="52" y="112"/>
                        </a:lnTo>
                        <a:lnTo>
                          <a:pt x="52" y="116"/>
                        </a:lnTo>
                        <a:lnTo>
                          <a:pt x="49" y="116"/>
                        </a:lnTo>
                        <a:lnTo>
                          <a:pt x="43" y="112"/>
                        </a:lnTo>
                        <a:lnTo>
                          <a:pt x="41" y="111"/>
                        </a:lnTo>
                        <a:lnTo>
                          <a:pt x="37" y="109"/>
                        </a:lnTo>
                        <a:lnTo>
                          <a:pt x="34" y="115"/>
                        </a:lnTo>
                        <a:lnTo>
                          <a:pt x="28" y="116"/>
                        </a:lnTo>
                        <a:lnTo>
                          <a:pt x="24" y="111"/>
                        </a:lnTo>
                        <a:lnTo>
                          <a:pt x="24" y="101"/>
                        </a:lnTo>
                        <a:lnTo>
                          <a:pt x="23" y="96"/>
                        </a:lnTo>
                        <a:lnTo>
                          <a:pt x="17" y="92"/>
                        </a:lnTo>
                        <a:lnTo>
                          <a:pt x="11" y="98"/>
                        </a:lnTo>
                        <a:lnTo>
                          <a:pt x="2" y="98"/>
                        </a:lnTo>
                        <a:lnTo>
                          <a:pt x="0" y="93"/>
                        </a:lnTo>
                        <a:lnTo>
                          <a:pt x="2" y="82"/>
                        </a:lnTo>
                        <a:lnTo>
                          <a:pt x="9" y="75"/>
                        </a:lnTo>
                        <a:lnTo>
                          <a:pt x="8" y="57"/>
                        </a:lnTo>
                        <a:lnTo>
                          <a:pt x="8" y="53"/>
                        </a:lnTo>
                        <a:lnTo>
                          <a:pt x="15" y="52"/>
                        </a:lnTo>
                        <a:lnTo>
                          <a:pt x="20" y="56"/>
                        </a:lnTo>
                        <a:lnTo>
                          <a:pt x="30" y="58"/>
                        </a:lnTo>
                        <a:lnTo>
                          <a:pt x="30" y="51"/>
                        </a:lnTo>
                        <a:lnTo>
                          <a:pt x="26" y="46"/>
                        </a:lnTo>
                        <a:lnTo>
                          <a:pt x="24" y="43"/>
                        </a:lnTo>
                        <a:lnTo>
                          <a:pt x="27" y="43"/>
                        </a:lnTo>
                        <a:lnTo>
                          <a:pt x="29" y="43"/>
                        </a:lnTo>
                        <a:lnTo>
                          <a:pt x="32" y="43"/>
                        </a:lnTo>
                        <a:lnTo>
                          <a:pt x="34" y="43"/>
                        </a:lnTo>
                        <a:lnTo>
                          <a:pt x="37" y="39"/>
                        </a:lnTo>
                        <a:lnTo>
                          <a:pt x="36" y="36"/>
                        </a:lnTo>
                        <a:lnTo>
                          <a:pt x="33" y="28"/>
                        </a:lnTo>
                        <a:lnTo>
                          <a:pt x="26" y="20"/>
                        </a:lnTo>
                        <a:lnTo>
                          <a:pt x="17" y="16"/>
                        </a:lnTo>
                        <a:lnTo>
                          <a:pt x="14" y="11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122"/>
                  <p:cNvSpPr/>
                  <p:nvPr/>
                </p:nvSpPr>
                <p:spPr>
                  <a:xfrm>
                    <a:off x="5764680" y="2173320"/>
                    <a:ext cx="152280" cy="154080"/>
                  </a:xfrm>
                  <a:custGeom>
                    <a:avLst/>
                    <a:gdLst>
                      <a:gd name="textAreaLeft" fmla="*/ 0 w 152280"/>
                      <a:gd name="textAreaRight" fmla="*/ 152640 w 152280"/>
                      <a:gd name="textAreaTop" fmla="*/ 0 h 154080"/>
                      <a:gd name="textAreaBottom" fmla="*/ 154440 h 154080"/>
                    </a:gdLst>
                    <a:ahLst/>
                    <a:rect l="textAreaLeft" t="textAreaTop" r="textAreaRight" b="textAreaBottom"/>
                    <a:pathLst>
                      <a:path w="96" h="97">
                        <a:moveTo>
                          <a:pt x="0" y="0"/>
                        </a:moveTo>
                        <a:lnTo>
                          <a:pt x="9" y="0"/>
                        </a:lnTo>
                        <a:lnTo>
                          <a:pt x="12" y="7"/>
                        </a:lnTo>
                        <a:lnTo>
                          <a:pt x="25" y="17"/>
                        </a:lnTo>
                        <a:lnTo>
                          <a:pt x="30" y="28"/>
                        </a:lnTo>
                        <a:lnTo>
                          <a:pt x="40" y="29"/>
                        </a:lnTo>
                        <a:lnTo>
                          <a:pt x="46" y="32"/>
                        </a:lnTo>
                        <a:lnTo>
                          <a:pt x="52" y="36"/>
                        </a:lnTo>
                        <a:lnTo>
                          <a:pt x="59" y="36"/>
                        </a:lnTo>
                        <a:lnTo>
                          <a:pt x="67" y="43"/>
                        </a:lnTo>
                        <a:lnTo>
                          <a:pt x="73" y="48"/>
                        </a:lnTo>
                        <a:lnTo>
                          <a:pt x="81" y="52"/>
                        </a:lnTo>
                        <a:lnTo>
                          <a:pt x="80" y="55"/>
                        </a:lnTo>
                        <a:lnTo>
                          <a:pt x="76" y="58"/>
                        </a:lnTo>
                        <a:lnTo>
                          <a:pt x="71" y="58"/>
                        </a:lnTo>
                        <a:lnTo>
                          <a:pt x="69" y="61"/>
                        </a:lnTo>
                        <a:lnTo>
                          <a:pt x="78" y="68"/>
                        </a:lnTo>
                        <a:lnTo>
                          <a:pt x="85" y="74"/>
                        </a:lnTo>
                        <a:lnTo>
                          <a:pt x="95" y="81"/>
                        </a:lnTo>
                        <a:lnTo>
                          <a:pt x="88" y="89"/>
                        </a:lnTo>
                        <a:lnTo>
                          <a:pt x="82" y="91"/>
                        </a:lnTo>
                        <a:lnTo>
                          <a:pt x="84" y="96"/>
                        </a:lnTo>
                        <a:lnTo>
                          <a:pt x="73" y="96"/>
                        </a:lnTo>
                        <a:lnTo>
                          <a:pt x="70" y="92"/>
                        </a:lnTo>
                        <a:lnTo>
                          <a:pt x="62" y="83"/>
                        </a:lnTo>
                        <a:lnTo>
                          <a:pt x="56" y="76"/>
                        </a:lnTo>
                        <a:lnTo>
                          <a:pt x="47" y="62"/>
                        </a:lnTo>
                        <a:lnTo>
                          <a:pt x="37" y="52"/>
                        </a:lnTo>
                        <a:lnTo>
                          <a:pt x="26" y="37"/>
                        </a:lnTo>
                        <a:lnTo>
                          <a:pt x="19" y="33"/>
                        </a:lnTo>
                        <a:lnTo>
                          <a:pt x="14" y="29"/>
                        </a:lnTo>
                        <a:lnTo>
                          <a:pt x="11" y="21"/>
                        </a:lnTo>
                        <a:lnTo>
                          <a:pt x="1" y="15"/>
                        </a:lnTo>
                        <a:lnTo>
                          <a:pt x="1" y="1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4" name="Group 123"/>
                <p:cNvGrpSpPr/>
                <p:nvPr/>
              </p:nvGrpSpPr>
              <p:grpSpPr>
                <a:xfrm>
                  <a:off x="3803760" y="1862280"/>
                  <a:ext cx="2192400" cy="2504880"/>
                  <a:chOff x="3803760" y="1862280"/>
                  <a:chExt cx="2192400" cy="2504880"/>
                </a:xfrm>
              </p:grpSpPr>
              <p:sp>
                <p:nvSpPr>
                  <p:cNvPr id="235" name="Freeform 124"/>
                  <p:cNvSpPr/>
                  <p:nvPr/>
                </p:nvSpPr>
                <p:spPr>
                  <a:xfrm>
                    <a:off x="3803760" y="2481120"/>
                    <a:ext cx="1090800" cy="1152720"/>
                  </a:xfrm>
                  <a:custGeom>
                    <a:avLst/>
                    <a:gdLst>
                      <a:gd name="textAreaLeft" fmla="*/ 0 w 1090800"/>
                      <a:gd name="textAreaRight" fmla="*/ 1090800 w 1090800"/>
                      <a:gd name="textAreaTop" fmla="*/ 0 h 1152720"/>
                      <a:gd name="textAreaBottom" fmla="*/ 1153080 h 1152720"/>
                    </a:gdLst>
                    <a:ahLst/>
                    <a:rect l="textAreaLeft" t="textAreaTop" r="textAreaRight" b="textAreaBottom"/>
                    <a:pathLst>
                      <a:path w="687" h="726">
                        <a:moveTo>
                          <a:pt x="513" y="87"/>
                        </a:moveTo>
                        <a:lnTo>
                          <a:pt x="524" y="117"/>
                        </a:lnTo>
                        <a:lnTo>
                          <a:pt x="545" y="163"/>
                        </a:lnTo>
                        <a:lnTo>
                          <a:pt x="588" y="237"/>
                        </a:lnTo>
                        <a:lnTo>
                          <a:pt x="604" y="247"/>
                        </a:lnTo>
                        <a:lnTo>
                          <a:pt x="614" y="268"/>
                        </a:lnTo>
                        <a:lnTo>
                          <a:pt x="648" y="267"/>
                        </a:lnTo>
                        <a:lnTo>
                          <a:pt x="670" y="260"/>
                        </a:lnTo>
                        <a:lnTo>
                          <a:pt x="686" y="260"/>
                        </a:lnTo>
                        <a:lnTo>
                          <a:pt x="685" y="289"/>
                        </a:lnTo>
                        <a:lnTo>
                          <a:pt x="679" y="305"/>
                        </a:lnTo>
                        <a:lnTo>
                          <a:pt x="617" y="370"/>
                        </a:lnTo>
                        <a:lnTo>
                          <a:pt x="561" y="438"/>
                        </a:lnTo>
                        <a:lnTo>
                          <a:pt x="562" y="464"/>
                        </a:lnTo>
                        <a:lnTo>
                          <a:pt x="578" y="483"/>
                        </a:lnTo>
                        <a:lnTo>
                          <a:pt x="570" y="498"/>
                        </a:lnTo>
                        <a:lnTo>
                          <a:pt x="575" y="517"/>
                        </a:lnTo>
                        <a:lnTo>
                          <a:pt x="570" y="531"/>
                        </a:lnTo>
                        <a:lnTo>
                          <a:pt x="557" y="544"/>
                        </a:lnTo>
                        <a:lnTo>
                          <a:pt x="545" y="544"/>
                        </a:lnTo>
                        <a:lnTo>
                          <a:pt x="526" y="565"/>
                        </a:lnTo>
                        <a:lnTo>
                          <a:pt x="509" y="590"/>
                        </a:lnTo>
                        <a:lnTo>
                          <a:pt x="513" y="617"/>
                        </a:lnTo>
                        <a:lnTo>
                          <a:pt x="496" y="629"/>
                        </a:lnTo>
                        <a:lnTo>
                          <a:pt x="480" y="657"/>
                        </a:lnTo>
                        <a:lnTo>
                          <a:pt x="462" y="683"/>
                        </a:lnTo>
                        <a:lnTo>
                          <a:pt x="452" y="693"/>
                        </a:lnTo>
                        <a:lnTo>
                          <a:pt x="443" y="696"/>
                        </a:lnTo>
                        <a:lnTo>
                          <a:pt x="427" y="712"/>
                        </a:lnTo>
                        <a:lnTo>
                          <a:pt x="401" y="723"/>
                        </a:lnTo>
                        <a:lnTo>
                          <a:pt x="369" y="725"/>
                        </a:lnTo>
                        <a:lnTo>
                          <a:pt x="351" y="714"/>
                        </a:lnTo>
                        <a:lnTo>
                          <a:pt x="349" y="702"/>
                        </a:lnTo>
                        <a:lnTo>
                          <a:pt x="345" y="688"/>
                        </a:lnTo>
                        <a:lnTo>
                          <a:pt x="333" y="680"/>
                        </a:lnTo>
                        <a:lnTo>
                          <a:pt x="323" y="652"/>
                        </a:lnTo>
                        <a:lnTo>
                          <a:pt x="319" y="638"/>
                        </a:lnTo>
                        <a:lnTo>
                          <a:pt x="318" y="621"/>
                        </a:lnTo>
                        <a:lnTo>
                          <a:pt x="313" y="609"/>
                        </a:lnTo>
                        <a:lnTo>
                          <a:pt x="311" y="601"/>
                        </a:lnTo>
                        <a:lnTo>
                          <a:pt x="301" y="589"/>
                        </a:lnTo>
                        <a:lnTo>
                          <a:pt x="290" y="579"/>
                        </a:lnTo>
                        <a:lnTo>
                          <a:pt x="282" y="562"/>
                        </a:lnTo>
                        <a:lnTo>
                          <a:pt x="277" y="549"/>
                        </a:lnTo>
                        <a:lnTo>
                          <a:pt x="279" y="529"/>
                        </a:lnTo>
                        <a:lnTo>
                          <a:pt x="296" y="500"/>
                        </a:lnTo>
                        <a:lnTo>
                          <a:pt x="299" y="467"/>
                        </a:lnTo>
                        <a:lnTo>
                          <a:pt x="287" y="430"/>
                        </a:lnTo>
                        <a:lnTo>
                          <a:pt x="269" y="415"/>
                        </a:lnTo>
                        <a:lnTo>
                          <a:pt x="256" y="395"/>
                        </a:lnTo>
                        <a:lnTo>
                          <a:pt x="261" y="364"/>
                        </a:lnTo>
                        <a:lnTo>
                          <a:pt x="252" y="340"/>
                        </a:lnTo>
                        <a:lnTo>
                          <a:pt x="230" y="338"/>
                        </a:lnTo>
                        <a:lnTo>
                          <a:pt x="208" y="320"/>
                        </a:lnTo>
                        <a:lnTo>
                          <a:pt x="180" y="310"/>
                        </a:lnTo>
                        <a:lnTo>
                          <a:pt x="151" y="325"/>
                        </a:lnTo>
                        <a:lnTo>
                          <a:pt x="74" y="321"/>
                        </a:lnTo>
                        <a:lnTo>
                          <a:pt x="33" y="281"/>
                        </a:lnTo>
                        <a:lnTo>
                          <a:pt x="0" y="228"/>
                        </a:lnTo>
                        <a:lnTo>
                          <a:pt x="6" y="210"/>
                        </a:lnTo>
                        <a:lnTo>
                          <a:pt x="20" y="197"/>
                        </a:lnTo>
                        <a:lnTo>
                          <a:pt x="27" y="160"/>
                        </a:lnTo>
                        <a:lnTo>
                          <a:pt x="37" y="133"/>
                        </a:lnTo>
                        <a:lnTo>
                          <a:pt x="66" y="105"/>
                        </a:lnTo>
                        <a:lnTo>
                          <a:pt x="97" y="92"/>
                        </a:lnTo>
                        <a:lnTo>
                          <a:pt x="125" y="63"/>
                        </a:lnTo>
                        <a:lnTo>
                          <a:pt x="132" y="51"/>
                        </a:lnTo>
                        <a:lnTo>
                          <a:pt x="169" y="19"/>
                        </a:lnTo>
                        <a:lnTo>
                          <a:pt x="192" y="32"/>
                        </a:lnTo>
                        <a:lnTo>
                          <a:pt x="209" y="30"/>
                        </a:lnTo>
                        <a:lnTo>
                          <a:pt x="229" y="14"/>
                        </a:lnTo>
                        <a:lnTo>
                          <a:pt x="253" y="11"/>
                        </a:lnTo>
                        <a:lnTo>
                          <a:pt x="269" y="16"/>
                        </a:lnTo>
                        <a:lnTo>
                          <a:pt x="283" y="2"/>
                        </a:lnTo>
                        <a:lnTo>
                          <a:pt x="302" y="0"/>
                        </a:lnTo>
                        <a:lnTo>
                          <a:pt x="307" y="25"/>
                        </a:lnTo>
                        <a:lnTo>
                          <a:pt x="319" y="43"/>
                        </a:lnTo>
                        <a:lnTo>
                          <a:pt x="354" y="61"/>
                        </a:lnTo>
                        <a:lnTo>
                          <a:pt x="383" y="64"/>
                        </a:lnTo>
                        <a:lnTo>
                          <a:pt x="387" y="44"/>
                        </a:lnTo>
                        <a:lnTo>
                          <a:pt x="409" y="44"/>
                        </a:lnTo>
                        <a:lnTo>
                          <a:pt x="436" y="56"/>
                        </a:lnTo>
                        <a:lnTo>
                          <a:pt x="465" y="63"/>
                        </a:lnTo>
                        <a:lnTo>
                          <a:pt x="490" y="55"/>
                        </a:lnTo>
                        <a:lnTo>
                          <a:pt x="513" y="87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6" name="Group 125"/>
                  <p:cNvGrpSpPr/>
                  <p:nvPr/>
                </p:nvGrpSpPr>
                <p:grpSpPr>
                  <a:xfrm>
                    <a:off x="3876840" y="1862280"/>
                    <a:ext cx="484200" cy="396720"/>
                    <a:chOff x="3876840" y="1862280"/>
                    <a:chExt cx="484200" cy="396720"/>
                  </a:xfrm>
                </p:grpSpPr>
                <p:grpSp>
                  <p:nvGrpSpPr>
                    <p:cNvPr id="237" name="Group 126"/>
                    <p:cNvGrpSpPr/>
                    <p:nvPr/>
                  </p:nvGrpSpPr>
                  <p:grpSpPr>
                    <a:xfrm>
                      <a:off x="4070520" y="2108160"/>
                      <a:ext cx="149040" cy="150840"/>
                      <a:chOff x="4070520" y="2108160"/>
                      <a:chExt cx="149040" cy="150840"/>
                    </a:xfrm>
                  </p:grpSpPr>
                  <p:sp>
                    <p:nvSpPr>
                      <p:cNvPr id="238" name="Freeform 127"/>
                      <p:cNvSpPr/>
                      <p:nvPr/>
                    </p:nvSpPr>
                    <p:spPr>
                      <a:xfrm>
                        <a:off x="4070520" y="2163600"/>
                        <a:ext cx="71280" cy="84240"/>
                      </a:xfrm>
                      <a:custGeom>
                        <a:avLst/>
                        <a:gdLst>
                          <a:gd name="textAreaLeft" fmla="*/ 0 w 71280"/>
                          <a:gd name="textAreaRight" fmla="*/ 71640 w 71280"/>
                          <a:gd name="textAreaTop" fmla="*/ 0 h 84240"/>
                          <a:gd name="textAreaBottom" fmla="*/ 84240 h 84240"/>
                        </a:gdLst>
                        <a:ahLst/>
                        <a:rect l="textAreaLeft" t="textAreaTop" r="textAreaRight" b="textAreaBottom"/>
                        <a:pathLst>
                          <a:path w="45" h="53">
                            <a:moveTo>
                              <a:pt x="10" y="16"/>
                            </a:moveTo>
                            <a:lnTo>
                              <a:pt x="13" y="10"/>
                            </a:lnTo>
                            <a:lnTo>
                              <a:pt x="21" y="10"/>
                            </a:lnTo>
                            <a:lnTo>
                              <a:pt x="33" y="0"/>
                            </a:lnTo>
                            <a:lnTo>
                              <a:pt x="36" y="7"/>
                            </a:lnTo>
                            <a:lnTo>
                              <a:pt x="42" y="7"/>
                            </a:lnTo>
                            <a:lnTo>
                              <a:pt x="44" y="10"/>
                            </a:lnTo>
                            <a:lnTo>
                              <a:pt x="40" y="16"/>
                            </a:lnTo>
                            <a:lnTo>
                              <a:pt x="36" y="18"/>
                            </a:lnTo>
                            <a:lnTo>
                              <a:pt x="36" y="23"/>
                            </a:lnTo>
                            <a:lnTo>
                              <a:pt x="35" y="25"/>
                            </a:lnTo>
                            <a:lnTo>
                              <a:pt x="34" y="28"/>
                            </a:lnTo>
                            <a:lnTo>
                              <a:pt x="36" y="33"/>
                            </a:lnTo>
                            <a:lnTo>
                              <a:pt x="33" y="37"/>
                            </a:lnTo>
                            <a:lnTo>
                              <a:pt x="29" y="39"/>
                            </a:lnTo>
                            <a:lnTo>
                              <a:pt x="26" y="39"/>
                            </a:lnTo>
                            <a:lnTo>
                              <a:pt x="25" y="41"/>
                            </a:lnTo>
                            <a:lnTo>
                              <a:pt x="24" y="44"/>
                            </a:lnTo>
                            <a:lnTo>
                              <a:pt x="18" y="45"/>
                            </a:lnTo>
                            <a:lnTo>
                              <a:pt x="17" y="44"/>
                            </a:lnTo>
                            <a:lnTo>
                              <a:pt x="12" y="47"/>
                            </a:lnTo>
                            <a:lnTo>
                              <a:pt x="11" y="48"/>
                            </a:lnTo>
                            <a:lnTo>
                              <a:pt x="6" y="52"/>
                            </a:lnTo>
                            <a:lnTo>
                              <a:pt x="3" y="52"/>
                            </a:lnTo>
                            <a:lnTo>
                              <a:pt x="2" y="50"/>
                            </a:lnTo>
                            <a:lnTo>
                              <a:pt x="1" y="44"/>
                            </a:lnTo>
                            <a:lnTo>
                              <a:pt x="0" y="43"/>
                            </a:lnTo>
                            <a:lnTo>
                              <a:pt x="0" y="38"/>
                            </a:lnTo>
                            <a:lnTo>
                              <a:pt x="3" y="36"/>
                            </a:lnTo>
                            <a:lnTo>
                              <a:pt x="7" y="34"/>
                            </a:lnTo>
                            <a:lnTo>
                              <a:pt x="9" y="29"/>
                            </a:lnTo>
                            <a:lnTo>
                              <a:pt x="12" y="29"/>
                            </a:lnTo>
                            <a:lnTo>
                              <a:pt x="15" y="30"/>
                            </a:lnTo>
                            <a:lnTo>
                              <a:pt x="18" y="29"/>
                            </a:lnTo>
                            <a:lnTo>
                              <a:pt x="15" y="28"/>
                            </a:lnTo>
                            <a:lnTo>
                              <a:pt x="10" y="16"/>
                            </a:lnTo>
                          </a:path>
                        </a:pathLst>
                      </a:custGeom>
                      <a:solidFill>
                        <a:srgbClr val="008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440" bIns="3744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39536b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9" name="Freeform 128"/>
                      <p:cNvSpPr/>
                      <p:nvPr/>
                    </p:nvSpPr>
                    <p:spPr>
                      <a:xfrm>
                        <a:off x="4133880" y="2108160"/>
                        <a:ext cx="85680" cy="150840"/>
                      </a:xfrm>
                      <a:custGeom>
                        <a:avLst/>
                        <a:gdLst>
                          <a:gd name="textAreaLeft" fmla="*/ 0 w 85680"/>
                          <a:gd name="textAreaRight" fmla="*/ 85680 w 85680"/>
                          <a:gd name="textAreaTop" fmla="*/ 0 h 150840"/>
                          <a:gd name="textAreaBottom" fmla="*/ 151200 h 150840"/>
                        </a:gdLst>
                        <a:ahLst/>
                        <a:rect l="textAreaLeft" t="textAreaTop" r="textAreaRight" b="textAreaBottom"/>
                        <a:pathLst>
                          <a:path w="54" h="95">
                            <a:moveTo>
                              <a:pt x="17" y="14"/>
                            </a:moveTo>
                            <a:lnTo>
                              <a:pt x="20" y="10"/>
                            </a:lnTo>
                            <a:lnTo>
                              <a:pt x="30" y="11"/>
                            </a:lnTo>
                            <a:lnTo>
                              <a:pt x="33" y="9"/>
                            </a:lnTo>
                            <a:lnTo>
                              <a:pt x="35" y="6"/>
                            </a:lnTo>
                            <a:lnTo>
                              <a:pt x="37" y="6"/>
                            </a:lnTo>
                            <a:lnTo>
                              <a:pt x="39" y="5"/>
                            </a:lnTo>
                            <a:lnTo>
                              <a:pt x="43" y="2"/>
                            </a:lnTo>
                            <a:lnTo>
                              <a:pt x="47" y="0"/>
                            </a:lnTo>
                            <a:lnTo>
                              <a:pt x="53" y="1"/>
                            </a:lnTo>
                            <a:lnTo>
                              <a:pt x="52" y="6"/>
                            </a:lnTo>
                            <a:lnTo>
                              <a:pt x="49" y="9"/>
                            </a:lnTo>
                            <a:lnTo>
                              <a:pt x="47" y="10"/>
                            </a:lnTo>
                            <a:lnTo>
                              <a:pt x="45" y="11"/>
                            </a:lnTo>
                            <a:lnTo>
                              <a:pt x="38" y="14"/>
                            </a:lnTo>
                            <a:lnTo>
                              <a:pt x="38" y="18"/>
                            </a:lnTo>
                            <a:lnTo>
                              <a:pt x="39" y="20"/>
                            </a:lnTo>
                            <a:lnTo>
                              <a:pt x="46" y="18"/>
                            </a:lnTo>
                            <a:lnTo>
                              <a:pt x="52" y="16"/>
                            </a:lnTo>
                            <a:lnTo>
                              <a:pt x="53" y="18"/>
                            </a:lnTo>
                            <a:lnTo>
                              <a:pt x="53" y="25"/>
                            </a:lnTo>
                            <a:lnTo>
                              <a:pt x="48" y="26"/>
                            </a:lnTo>
                            <a:lnTo>
                              <a:pt x="44" y="26"/>
                            </a:lnTo>
                            <a:lnTo>
                              <a:pt x="40" y="29"/>
                            </a:lnTo>
                            <a:lnTo>
                              <a:pt x="39" y="32"/>
                            </a:lnTo>
                            <a:lnTo>
                              <a:pt x="39" y="35"/>
                            </a:lnTo>
                            <a:lnTo>
                              <a:pt x="43" y="40"/>
                            </a:lnTo>
                            <a:lnTo>
                              <a:pt x="46" y="43"/>
                            </a:lnTo>
                            <a:lnTo>
                              <a:pt x="48" y="46"/>
                            </a:lnTo>
                            <a:lnTo>
                              <a:pt x="49" y="51"/>
                            </a:lnTo>
                            <a:lnTo>
                              <a:pt x="51" y="55"/>
                            </a:lnTo>
                            <a:lnTo>
                              <a:pt x="53" y="61"/>
                            </a:lnTo>
                            <a:lnTo>
                              <a:pt x="53" y="69"/>
                            </a:lnTo>
                            <a:lnTo>
                              <a:pt x="51" y="74"/>
                            </a:lnTo>
                            <a:lnTo>
                              <a:pt x="46" y="77"/>
                            </a:lnTo>
                            <a:lnTo>
                              <a:pt x="45" y="79"/>
                            </a:lnTo>
                            <a:lnTo>
                              <a:pt x="47" y="84"/>
                            </a:lnTo>
                            <a:lnTo>
                              <a:pt x="49" y="88"/>
                            </a:lnTo>
                            <a:lnTo>
                              <a:pt x="43" y="88"/>
                            </a:lnTo>
                            <a:lnTo>
                              <a:pt x="37" y="88"/>
                            </a:lnTo>
                            <a:lnTo>
                              <a:pt x="35" y="87"/>
                            </a:lnTo>
                            <a:lnTo>
                              <a:pt x="30" y="87"/>
                            </a:lnTo>
                            <a:lnTo>
                              <a:pt x="25" y="88"/>
                            </a:lnTo>
                            <a:lnTo>
                              <a:pt x="20" y="90"/>
                            </a:lnTo>
                            <a:lnTo>
                              <a:pt x="17" y="90"/>
                            </a:lnTo>
                            <a:lnTo>
                              <a:pt x="15" y="92"/>
                            </a:lnTo>
                            <a:lnTo>
                              <a:pt x="9" y="94"/>
                            </a:lnTo>
                            <a:lnTo>
                              <a:pt x="8" y="93"/>
                            </a:lnTo>
                            <a:lnTo>
                              <a:pt x="6" y="90"/>
                            </a:lnTo>
                            <a:lnTo>
                              <a:pt x="2" y="89"/>
                            </a:lnTo>
                            <a:lnTo>
                              <a:pt x="0" y="88"/>
                            </a:lnTo>
                            <a:lnTo>
                              <a:pt x="0" y="84"/>
                            </a:lnTo>
                            <a:lnTo>
                              <a:pt x="2" y="78"/>
                            </a:lnTo>
                            <a:lnTo>
                              <a:pt x="6" y="78"/>
                            </a:lnTo>
                            <a:lnTo>
                              <a:pt x="9" y="77"/>
                            </a:lnTo>
                            <a:lnTo>
                              <a:pt x="13" y="77"/>
                            </a:lnTo>
                            <a:lnTo>
                              <a:pt x="13" y="76"/>
                            </a:lnTo>
                            <a:lnTo>
                              <a:pt x="9" y="74"/>
                            </a:lnTo>
                            <a:lnTo>
                              <a:pt x="9" y="70"/>
                            </a:lnTo>
                            <a:lnTo>
                              <a:pt x="9" y="68"/>
                            </a:lnTo>
                            <a:lnTo>
                              <a:pt x="13" y="66"/>
                            </a:lnTo>
                            <a:lnTo>
                              <a:pt x="16" y="64"/>
                            </a:lnTo>
                            <a:lnTo>
                              <a:pt x="18" y="63"/>
                            </a:lnTo>
                            <a:lnTo>
                              <a:pt x="21" y="63"/>
                            </a:lnTo>
                            <a:lnTo>
                              <a:pt x="24" y="62"/>
                            </a:lnTo>
                            <a:lnTo>
                              <a:pt x="25" y="53"/>
                            </a:lnTo>
                            <a:lnTo>
                              <a:pt x="28" y="46"/>
                            </a:lnTo>
                            <a:lnTo>
                              <a:pt x="28" y="43"/>
                            </a:lnTo>
                            <a:lnTo>
                              <a:pt x="20" y="42"/>
                            </a:lnTo>
                            <a:lnTo>
                              <a:pt x="22" y="36"/>
                            </a:lnTo>
                            <a:lnTo>
                              <a:pt x="17" y="33"/>
                            </a:lnTo>
                            <a:lnTo>
                              <a:pt x="11" y="34"/>
                            </a:lnTo>
                            <a:lnTo>
                              <a:pt x="18" y="26"/>
                            </a:lnTo>
                            <a:lnTo>
                              <a:pt x="17" y="14"/>
                            </a:lnTo>
                          </a:path>
                        </a:pathLst>
                      </a:custGeom>
                      <a:solidFill>
                        <a:srgbClr val="008000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39536b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40" name="Freeform 129"/>
                    <p:cNvSpPr/>
                    <p:nvPr/>
                  </p:nvSpPr>
                  <p:spPr>
                    <a:xfrm>
                      <a:off x="3876840" y="1862280"/>
                      <a:ext cx="484200" cy="250560"/>
                    </a:xfrm>
                    <a:custGeom>
                      <a:avLst/>
                      <a:gdLst>
                        <a:gd name="textAreaLeft" fmla="*/ 0 w 484200"/>
                        <a:gd name="textAreaRight" fmla="*/ 484560 w 484200"/>
                        <a:gd name="textAreaTop" fmla="*/ 0 h 250560"/>
                        <a:gd name="textAreaBottom" fmla="*/ 250920 h 250560"/>
                      </a:gdLst>
                      <a:ahLst/>
                      <a:rect l="textAreaLeft" t="textAreaTop" r="textAreaRight" b="textAreaBottom"/>
                      <a:pathLst>
                        <a:path w="305" h="158">
                          <a:moveTo>
                            <a:pt x="0" y="157"/>
                          </a:moveTo>
                          <a:lnTo>
                            <a:pt x="19" y="153"/>
                          </a:lnTo>
                          <a:lnTo>
                            <a:pt x="26" y="147"/>
                          </a:lnTo>
                          <a:lnTo>
                            <a:pt x="30" y="142"/>
                          </a:lnTo>
                          <a:lnTo>
                            <a:pt x="33" y="139"/>
                          </a:lnTo>
                          <a:lnTo>
                            <a:pt x="37" y="139"/>
                          </a:lnTo>
                          <a:lnTo>
                            <a:pt x="42" y="135"/>
                          </a:lnTo>
                          <a:lnTo>
                            <a:pt x="47" y="135"/>
                          </a:lnTo>
                          <a:lnTo>
                            <a:pt x="51" y="135"/>
                          </a:lnTo>
                          <a:lnTo>
                            <a:pt x="55" y="135"/>
                          </a:lnTo>
                          <a:lnTo>
                            <a:pt x="57" y="135"/>
                          </a:lnTo>
                          <a:lnTo>
                            <a:pt x="62" y="131"/>
                          </a:lnTo>
                          <a:lnTo>
                            <a:pt x="64" y="128"/>
                          </a:lnTo>
                          <a:lnTo>
                            <a:pt x="70" y="124"/>
                          </a:lnTo>
                          <a:lnTo>
                            <a:pt x="74" y="123"/>
                          </a:lnTo>
                          <a:lnTo>
                            <a:pt x="78" y="121"/>
                          </a:lnTo>
                          <a:lnTo>
                            <a:pt x="82" y="120"/>
                          </a:lnTo>
                          <a:lnTo>
                            <a:pt x="86" y="117"/>
                          </a:lnTo>
                          <a:lnTo>
                            <a:pt x="90" y="115"/>
                          </a:lnTo>
                          <a:lnTo>
                            <a:pt x="95" y="113"/>
                          </a:lnTo>
                          <a:lnTo>
                            <a:pt x="100" y="109"/>
                          </a:lnTo>
                          <a:lnTo>
                            <a:pt x="106" y="111"/>
                          </a:lnTo>
                          <a:lnTo>
                            <a:pt x="115" y="113"/>
                          </a:lnTo>
                          <a:lnTo>
                            <a:pt x="124" y="113"/>
                          </a:lnTo>
                          <a:lnTo>
                            <a:pt x="134" y="109"/>
                          </a:lnTo>
                          <a:lnTo>
                            <a:pt x="138" y="108"/>
                          </a:lnTo>
                          <a:lnTo>
                            <a:pt x="142" y="102"/>
                          </a:lnTo>
                          <a:lnTo>
                            <a:pt x="146" y="97"/>
                          </a:lnTo>
                          <a:lnTo>
                            <a:pt x="154" y="91"/>
                          </a:lnTo>
                          <a:lnTo>
                            <a:pt x="156" y="88"/>
                          </a:lnTo>
                          <a:lnTo>
                            <a:pt x="156" y="84"/>
                          </a:lnTo>
                          <a:lnTo>
                            <a:pt x="163" y="80"/>
                          </a:lnTo>
                          <a:lnTo>
                            <a:pt x="167" y="77"/>
                          </a:lnTo>
                          <a:lnTo>
                            <a:pt x="169" y="73"/>
                          </a:lnTo>
                          <a:lnTo>
                            <a:pt x="171" y="73"/>
                          </a:lnTo>
                          <a:lnTo>
                            <a:pt x="182" y="67"/>
                          </a:lnTo>
                          <a:lnTo>
                            <a:pt x="182" y="73"/>
                          </a:lnTo>
                          <a:lnTo>
                            <a:pt x="180" y="76"/>
                          </a:lnTo>
                          <a:lnTo>
                            <a:pt x="182" y="79"/>
                          </a:lnTo>
                          <a:lnTo>
                            <a:pt x="190" y="80"/>
                          </a:lnTo>
                          <a:lnTo>
                            <a:pt x="195" y="80"/>
                          </a:lnTo>
                          <a:lnTo>
                            <a:pt x="199" y="77"/>
                          </a:lnTo>
                          <a:lnTo>
                            <a:pt x="203" y="73"/>
                          </a:lnTo>
                          <a:lnTo>
                            <a:pt x="203" y="70"/>
                          </a:lnTo>
                          <a:lnTo>
                            <a:pt x="206" y="67"/>
                          </a:lnTo>
                          <a:lnTo>
                            <a:pt x="206" y="63"/>
                          </a:lnTo>
                          <a:lnTo>
                            <a:pt x="209" y="59"/>
                          </a:lnTo>
                          <a:lnTo>
                            <a:pt x="212" y="56"/>
                          </a:lnTo>
                          <a:lnTo>
                            <a:pt x="217" y="56"/>
                          </a:lnTo>
                          <a:lnTo>
                            <a:pt x="228" y="56"/>
                          </a:lnTo>
                          <a:lnTo>
                            <a:pt x="237" y="52"/>
                          </a:lnTo>
                          <a:lnTo>
                            <a:pt x="245" y="45"/>
                          </a:lnTo>
                          <a:lnTo>
                            <a:pt x="254" y="43"/>
                          </a:lnTo>
                          <a:lnTo>
                            <a:pt x="262" y="37"/>
                          </a:lnTo>
                          <a:lnTo>
                            <a:pt x="268" y="28"/>
                          </a:lnTo>
                          <a:lnTo>
                            <a:pt x="280" y="18"/>
                          </a:lnTo>
                          <a:lnTo>
                            <a:pt x="288" y="14"/>
                          </a:lnTo>
                          <a:lnTo>
                            <a:pt x="296" y="9"/>
                          </a:lnTo>
                          <a:lnTo>
                            <a:pt x="304" y="3"/>
                          </a:lnTo>
                          <a:lnTo>
                            <a:pt x="290" y="0"/>
                          </a:lnTo>
                          <a:lnTo>
                            <a:pt x="277" y="0"/>
                          </a:lnTo>
                          <a:lnTo>
                            <a:pt x="263" y="6"/>
                          </a:lnTo>
                          <a:lnTo>
                            <a:pt x="257" y="9"/>
                          </a:lnTo>
                          <a:lnTo>
                            <a:pt x="245" y="11"/>
                          </a:lnTo>
                          <a:lnTo>
                            <a:pt x="233" y="12"/>
                          </a:lnTo>
                          <a:lnTo>
                            <a:pt x="226" y="15"/>
                          </a:lnTo>
                          <a:lnTo>
                            <a:pt x="212" y="20"/>
                          </a:lnTo>
                          <a:lnTo>
                            <a:pt x="203" y="24"/>
                          </a:lnTo>
                          <a:lnTo>
                            <a:pt x="194" y="27"/>
                          </a:lnTo>
                          <a:lnTo>
                            <a:pt x="182" y="29"/>
                          </a:lnTo>
                          <a:lnTo>
                            <a:pt x="171" y="33"/>
                          </a:lnTo>
                          <a:lnTo>
                            <a:pt x="161" y="37"/>
                          </a:lnTo>
                          <a:lnTo>
                            <a:pt x="153" y="43"/>
                          </a:lnTo>
                          <a:lnTo>
                            <a:pt x="146" y="49"/>
                          </a:lnTo>
                          <a:lnTo>
                            <a:pt x="140" y="53"/>
                          </a:lnTo>
                          <a:lnTo>
                            <a:pt x="134" y="56"/>
                          </a:lnTo>
                          <a:lnTo>
                            <a:pt x="122" y="63"/>
                          </a:lnTo>
                          <a:lnTo>
                            <a:pt x="109" y="70"/>
                          </a:lnTo>
                          <a:lnTo>
                            <a:pt x="95" y="77"/>
                          </a:lnTo>
                          <a:lnTo>
                            <a:pt x="84" y="87"/>
                          </a:lnTo>
                          <a:lnTo>
                            <a:pt x="73" y="95"/>
                          </a:lnTo>
                          <a:lnTo>
                            <a:pt x="63" y="99"/>
                          </a:lnTo>
                          <a:lnTo>
                            <a:pt x="53" y="109"/>
                          </a:lnTo>
                          <a:lnTo>
                            <a:pt x="46" y="116"/>
                          </a:lnTo>
                          <a:lnTo>
                            <a:pt x="37" y="123"/>
                          </a:lnTo>
                          <a:lnTo>
                            <a:pt x="28" y="128"/>
                          </a:lnTo>
                          <a:lnTo>
                            <a:pt x="19" y="132"/>
                          </a:lnTo>
                          <a:lnTo>
                            <a:pt x="0" y="157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1" name="Freeform 130"/>
                  <p:cNvSpPr/>
                  <p:nvPr/>
                </p:nvSpPr>
                <p:spPr>
                  <a:xfrm>
                    <a:off x="4100760" y="4135320"/>
                    <a:ext cx="717480" cy="231840"/>
                  </a:xfrm>
                  <a:custGeom>
                    <a:avLst/>
                    <a:gdLst>
                      <a:gd name="textAreaLeft" fmla="*/ 0 w 717480"/>
                      <a:gd name="textAreaRight" fmla="*/ 717840 w 717480"/>
                      <a:gd name="textAreaTop" fmla="*/ 0 h 231840"/>
                      <a:gd name="textAreaBottom" fmla="*/ 232200 h 231840"/>
                    </a:gdLst>
                    <a:ahLst/>
                    <a:rect l="textAreaLeft" t="textAreaTop" r="textAreaRight" b="textAreaBottom"/>
                    <a:pathLst>
                      <a:path w="452" h="146">
                        <a:moveTo>
                          <a:pt x="0" y="63"/>
                        </a:moveTo>
                        <a:lnTo>
                          <a:pt x="44" y="44"/>
                        </a:lnTo>
                        <a:lnTo>
                          <a:pt x="55" y="43"/>
                        </a:lnTo>
                        <a:lnTo>
                          <a:pt x="62" y="39"/>
                        </a:lnTo>
                        <a:lnTo>
                          <a:pt x="111" y="42"/>
                        </a:lnTo>
                        <a:lnTo>
                          <a:pt x="115" y="37"/>
                        </a:lnTo>
                        <a:lnTo>
                          <a:pt x="120" y="35"/>
                        </a:lnTo>
                        <a:lnTo>
                          <a:pt x="130" y="31"/>
                        </a:lnTo>
                        <a:lnTo>
                          <a:pt x="137" y="28"/>
                        </a:lnTo>
                        <a:lnTo>
                          <a:pt x="144" y="28"/>
                        </a:lnTo>
                        <a:lnTo>
                          <a:pt x="146" y="28"/>
                        </a:lnTo>
                        <a:lnTo>
                          <a:pt x="148" y="28"/>
                        </a:lnTo>
                        <a:lnTo>
                          <a:pt x="157" y="29"/>
                        </a:lnTo>
                        <a:lnTo>
                          <a:pt x="166" y="31"/>
                        </a:lnTo>
                        <a:lnTo>
                          <a:pt x="172" y="38"/>
                        </a:lnTo>
                        <a:lnTo>
                          <a:pt x="175" y="37"/>
                        </a:lnTo>
                        <a:lnTo>
                          <a:pt x="178" y="43"/>
                        </a:lnTo>
                        <a:lnTo>
                          <a:pt x="190" y="42"/>
                        </a:lnTo>
                        <a:lnTo>
                          <a:pt x="201" y="38"/>
                        </a:lnTo>
                        <a:lnTo>
                          <a:pt x="208" y="37"/>
                        </a:lnTo>
                        <a:lnTo>
                          <a:pt x="216" y="34"/>
                        </a:lnTo>
                        <a:lnTo>
                          <a:pt x="225" y="30"/>
                        </a:lnTo>
                        <a:lnTo>
                          <a:pt x="233" y="30"/>
                        </a:lnTo>
                        <a:lnTo>
                          <a:pt x="238" y="29"/>
                        </a:lnTo>
                        <a:lnTo>
                          <a:pt x="245" y="26"/>
                        </a:lnTo>
                        <a:lnTo>
                          <a:pt x="250" y="29"/>
                        </a:lnTo>
                        <a:lnTo>
                          <a:pt x="263" y="31"/>
                        </a:lnTo>
                        <a:lnTo>
                          <a:pt x="277" y="34"/>
                        </a:lnTo>
                        <a:lnTo>
                          <a:pt x="290" y="34"/>
                        </a:lnTo>
                        <a:lnTo>
                          <a:pt x="295" y="29"/>
                        </a:lnTo>
                        <a:lnTo>
                          <a:pt x="298" y="29"/>
                        </a:lnTo>
                        <a:lnTo>
                          <a:pt x="301" y="26"/>
                        </a:lnTo>
                        <a:lnTo>
                          <a:pt x="311" y="20"/>
                        </a:lnTo>
                        <a:lnTo>
                          <a:pt x="324" y="18"/>
                        </a:lnTo>
                        <a:lnTo>
                          <a:pt x="331" y="18"/>
                        </a:lnTo>
                        <a:lnTo>
                          <a:pt x="341" y="15"/>
                        </a:lnTo>
                        <a:lnTo>
                          <a:pt x="345" y="15"/>
                        </a:lnTo>
                        <a:lnTo>
                          <a:pt x="356" y="7"/>
                        </a:lnTo>
                        <a:lnTo>
                          <a:pt x="360" y="8"/>
                        </a:lnTo>
                        <a:lnTo>
                          <a:pt x="363" y="3"/>
                        </a:lnTo>
                        <a:lnTo>
                          <a:pt x="367" y="2"/>
                        </a:lnTo>
                        <a:lnTo>
                          <a:pt x="371" y="0"/>
                        </a:lnTo>
                        <a:lnTo>
                          <a:pt x="371" y="6"/>
                        </a:lnTo>
                        <a:lnTo>
                          <a:pt x="376" y="10"/>
                        </a:lnTo>
                        <a:lnTo>
                          <a:pt x="379" y="16"/>
                        </a:lnTo>
                        <a:lnTo>
                          <a:pt x="382" y="19"/>
                        </a:lnTo>
                        <a:lnTo>
                          <a:pt x="386" y="19"/>
                        </a:lnTo>
                        <a:lnTo>
                          <a:pt x="389" y="21"/>
                        </a:lnTo>
                        <a:lnTo>
                          <a:pt x="394" y="21"/>
                        </a:lnTo>
                        <a:lnTo>
                          <a:pt x="394" y="24"/>
                        </a:lnTo>
                        <a:lnTo>
                          <a:pt x="416" y="24"/>
                        </a:lnTo>
                        <a:lnTo>
                          <a:pt x="425" y="30"/>
                        </a:lnTo>
                        <a:lnTo>
                          <a:pt x="427" y="30"/>
                        </a:lnTo>
                        <a:lnTo>
                          <a:pt x="430" y="34"/>
                        </a:lnTo>
                        <a:lnTo>
                          <a:pt x="435" y="31"/>
                        </a:lnTo>
                        <a:lnTo>
                          <a:pt x="450" y="35"/>
                        </a:lnTo>
                        <a:lnTo>
                          <a:pt x="446" y="42"/>
                        </a:lnTo>
                        <a:lnTo>
                          <a:pt x="451" y="47"/>
                        </a:lnTo>
                        <a:lnTo>
                          <a:pt x="434" y="60"/>
                        </a:lnTo>
                        <a:lnTo>
                          <a:pt x="421" y="70"/>
                        </a:lnTo>
                        <a:lnTo>
                          <a:pt x="404" y="84"/>
                        </a:lnTo>
                        <a:lnTo>
                          <a:pt x="374" y="103"/>
                        </a:lnTo>
                        <a:lnTo>
                          <a:pt x="346" y="116"/>
                        </a:lnTo>
                        <a:lnTo>
                          <a:pt x="324" y="127"/>
                        </a:lnTo>
                        <a:lnTo>
                          <a:pt x="309" y="130"/>
                        </a:lnTo>
                        <a:lnTo>
                          <a:pt x="291" y="135"/>
                        </a:lnTo>
                        <a:lnTo>
                          <a:pt x="278" y="138"/>
                        </a:lnTo>
                        <a:lnTo>
                          <a:pt x="269" y="138"/>
                        </a:lnTo>
                        <a:lnTo>
                          <a:pt x="254" y="142"/>
                        </a:lnTo>
                        <a:lnTo>
                          <a:pt x="246" y="140"/>
                        </a:lnTo>
                        <a:lnTo>
                          <a:pt x="233" y="143"/>
                        </a:lnTo>
                        <a:lnTo>
                          <a:pt x="218" y="142"/>
                        </a:lnTo>
                        <a:lnTo>
                          <a:pt x="200" y="143"/>
                        </a:lnTo>
                        <a:lnTo>
                          <a:pt x="190" y="145"/>
                        </a:lnTo>
                        <a:lnTo>
                          <a:pt x="179" y="142"/>
                        </a:lnTo>
                        <a:lnTo>
                          <a:pt x="165" y="139"/>
                        </a:lnTo>
                        <a:lnTo>
                          <a:pt x="152" y="140"/>
                        </a:lnTo>
                        <a:lnTo>
                          <a:pt x="137" y="139"/>
                        </a:lnTo>
                        <a:lnTo>
                          <a:pt x="125" y="137"/>
                        </a:lnTo>
                        <a:lnTo>
                          <a:pt x="114" y="136"/>
                        </a:lnTo>
                        <a:lnTo>
                          <a:pt x="105" y="136"/>
                        </a:lnTo>
                        <a:lnTo>
                          <a:pt x="94" y="130"/>
                        </a:lnTo>
                        <a:lnTo>
                          <a:pt x="80" y="125"/>
                        </a:lnTo>
                        <a:lnTo>
                          <a:pt x="67" y="117"/>
                        </a:lnTo>
                        <a:lnTo>
                          <a:pt x="55" y="110"/>
                        </a:lnTo>
                        <a:lnTo>
                          <a:pt x="40" y="101"/>
                        </a:lnTo>
                        <a:lnTo>
                          <a:pt x="28" y="92"/>
                        </a:lnTo>
                        <a:lnTo>
                          <a:pt x="19" y="83"/>
                        </a:lnTo>
                        <a:lnTo>
                          <a:pt x="10" y="75"/>
                        </a:lnTo>
                        <a:lnTo>
                          <a:pt x="0" y="63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Freeform 131"/>
                  <p:cNvSpPr/>
                  <p:nvPr/>
                </p:nvSpPr>
                <p:spPr>
                  <a:xfrm>
                    <a:off x="4732560" y="3268800"/>
                    <a:ext cx="144360" cy="242640"/>
                  </a:xfrm>
                  <a:custGeom>
                    <a:avLst/>
                    <a:gdLst>
                      <a:gd name="textAreaLeft" fmla="*/ 0 w 144360"/>
                      <a:gd name="textAreaRight" fmla="*/ 144720 w 144360"/>
                      <a:gd name="textAreaTop" fmla="*/ 0 h 242640"/>
                      <a:gd name="textAreaBottom" fmla="*/ 243000 h 242640"/>
                    </a:gdLst>
                    <a:ahLst/>
                    <a:rect l="textAreaLeft" t="textAreaTop" r="textAreaRight" b="textAreaBottom"/>
                    <a:pathLst>
                      <a:path w="91" h="153">
                        <a:moveTo>
                          <a:pt x="17" y="47"/>
                        </a:moveTo>
                        <a:lnTo>
                          <a:pt x="15" y="78"/>
                        </a:lnTo>
                        <a:lnTo>
                          <a:pt x="7" y="97"/>
                        </a:lnTo>
                        <a:lnTo>
                          <a:pt x="0" y="115"/>
                        </a:lnTo>
                        <a:lnTo>
                          <a:pt x="0" y="128"/>
                        </a:lnTo>
                        <a:lnTo>
                          <a:pt x="2" y="139"/>
                        </a:lnTo>
                        <a:lnTo>
                          <a:pt x="10" y="150"/>
                        </a:lnTo>
                        <a:lnTo>
                          <a:pt x="17" y="151"/>
                        </a:lnTo>
                        <a:lnTo>
                          <a:pt x="22" y="151"/>
                        </a:lnTo>
                        <a:lnTo>
                          <a:pt x="29" y="152"/>
                        </a:lnTo>
                        <a:lnTo>
                          <a:pt x="33" y="144"/>
                        </a:lnTo>
                        <a:lnTo>
                          <a:pt x="36" y="124"/>
                        </a:lnTo>
                        <a:lnTo>
                          <a:pt x="46" y="110"/>
                        </a:lnTo>
                        <a:lnTo>
                          <a:pt x="48" y="90"/>
                        </a:lnTo>
                        <a:lnTo>
                          <a:pt x="53" y="82"/>
                        </a:lnTo>
                        <a:lnTo>
                          <a:pt x="57" y="76"/>
                        </a:lnTo>
                        <a:lnTo>
                          <a:pt x="61" y="62"/>
                        </a:lnTo>
                        <a:lnTo>
                          <a:pt x="67" y="53"/>
                        </a:lnTo>
                        <a:lnTo>
                          <a:pt x="72" y="46"/>
                        </a:lnTo>
                        <a:lnTo>
                          <a:pt x="76" y="40"/>
                        </a:lnTo>
                        <a:lnTo>
                          <a:pt x="76" y="37"/>
                        </a:lnTo>
                        <a:lnTo>
                          <a:pt x="87" y="29"/>
                        </a:lnTo>
                        <a:lnTo>
                          <a:pt x="88" y="17"/>
                        </a:lnTo>
                        <a:lnTo>
                          <a:pt x="90" y="9"/>
                        </a:lnTo>
                        <a:lnTo>
                          <a:pt x="81" y="6"/>
                        </a:lnTo>
                        <a:lnTo>
                          <a:pt x="75" y="0"/>
                        </a:lnTo>
                        <a:lnTo>
                          <a:pt x="67" y="6"/>
                        </a:lnTo>
                        <a:lnTo>
                          <a:pt x="61" y="19"/>
                        </a:lnTo>
                        <a:lnTo>
                          <a:pt x="53" y="28"/>
                        </a:lnTo>
                        <a:lnTo>
                          <a:pt x="46" y="36"/>
                        </a:lnTo>
                        <a:lnTo>
                          <a:pt x="43" y="36"/>
                        </a:lnTo>
                        <a:lnTo>
                          <a:pt x="36" y="40"/>
                        </a:lnTo>
                        <a:lnTo>
                          <a:pt x="33" y="45"/>
                        </a:lnTo>
                        <a:lnTo>
                          <a:pt x="17" y="47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32"/>
                  <p:cNvSpPr/>
                  <p:nvPr/>
                </p:nvSpPr>
                <p:spPr>
                  <a:xfrm>
                    <a:off x="4043520" y="1886040"/>
                    <a:ext cx="1952640" cy="1146240"/>
                  </a:xfrm>
                  <a:custGeom>
                    <a:avLst/>
                    <a:gdLst>
                      <a:gd name="textAreaLeft" fmla="*/ 0 w 1952640"/>
                      <a:gd name="textAreaRight" fmla="*/ 1952640 w 1952640"/>
                      <a:gd name="textAreaTop" fmla="*/ 0 h 1146240"/>
                      <a:gd name="textAreaBottom" fmla="*/ 1146600 h 1146240"/>
                    </a:gdLst>
                    <a:ahLst/>
                    <a:rect l="textAreaLeft" t="textAreaTop" r="textAreaRight" b="textAreaBottom"/>
                    <a:pathLst>
                      <a:path w="1230" h="722">
                        <a:moveTo>
                          <a:pt x="0" y="324"/>
                        </a:moveTo>
                        <a:lnTo>
                          <a:pt x="11" y="314"/>
                        </a:lnTo>
                        <a:lnTo>
                          <a:pt x="18" y="306"/>
                        </a:lnTo>
                        <a:lnTo>
                          <a:pt x="33" y="306"/>
                        </a:lnTo>
                        <a:lnTo>
                          <a:pt x="48" y="308"/>
                        </a:lnTo>
                        <a:lnTo>
                          <a:pt x="60" y="304"/>
                        </a:lnTo>
                        <a:lnTo>
                          <a:pt x="72" y="303"/>
                        </a:lnTo>
                        <a:lnTo>
                          <a:pt x="73" y="289"/>
                        </a:lnTo>
                        <a:lnTo>
                          <a:pt x="80" y="280"/>
                        </a:lnTo>
                        <a:lnTo>
                          <a:pt x="63" y="270"/>
                        </a:lnTo>
                        <a:lnTo>
                          <a:pt x="61" y="262"/>
                        </a:lnTo>
                        <a:lnTo>
                          <a:pt x="62" y="251"/>
                        </a:lnTo>
                        <a:lnTo>
                          <a:pt x="74" y="251"/>
                        </a:lnTo>
                        <a:lnTo>
                          <a:pt x="82" y="250"/>
                        </a:lnTo>
                        <a:lnTo>
                          <a:pt x="83" y="251"/>
                        </a:lnTo>
                        <a:lnTo>
                          <a:pt x="92" y="244"/>
                        </a:lnTo>
                        <a:lnTo>
                          <a:pt x="101" y="241"/>
                        </a:lnTo>
                        <a:lnTo>
                          <a:pt x="105" y="241"/>
                        </a:lnTo>
                        <a:lnTo>
                          <a:pt x="110" y="234"/>
                        </a:lnTo>
                        <a:lnTo>
                          <a:pt x="117" y="232"/>
                        </a:lnTo>
                        <a:lnTo>
                          <a:pt x="124" y="219"/>
                        </a:lnTo>
                        <a:lnTo>
                          <a:pt x="128" y="223"/>
                        </a:lnTo>
                        <a:lnTo>
                          <a:pt x="137" y="215"/>
                        </a:lnTo>
                        <a:lnTo>
                          <a:pt x="138" y="215"/>
                        </a:lnTo>
                        <a:lnTo>
                          <a:pt x="150" y="206"/>
                        </a:lnTo>
                        <a:lnTo>
                          <a:pt x="156" y="205"/>
                        </a:lnTo>
                        <a:lnTo>
                          <a:pt x="165" y="205"/>
                        </a:lnTo>
                        <a:lnTo>
                          <a:pt x="171" y="205"/>
                        </a:lnTo>
                        <a:lnTo>
                          <a:pt x="166" y="193"/>
                        </a:lnTo>
                        <a:lnTo>
                          <a:pt x="164" y="184"/>
                        </a:lnTo>
                        <a:lnTo>
                          <a:pt x="162" y="165"/>
                        </a:lnTo>
                        <a:lnTo>
                          <a:pt x="175" y="164"/>
                        </a:lnTo>
                        <a:lnTo>
                          <a:pt x="182" y="161"/>
                        </a:lnTo>
                        <a:lnTo>
                          <a:pt x="179" y="169"/>
                        </a:lnTo>
                        <a:lnTo>
                          <a:pt x="184" y="174"/>
                        </a:lnTo>
                        <a:lnTo>
                          <a:pt x="190" y="181"/>
                        </a:lnTo>
                        <a:lnTo>
                          <a:pt x="193" y="186"/>
                        </a:lnTo>
                        <a:lnTo>
                          <a:pt x="209" y="184"/>
                        </a:lnTo>
                        <a:lnTo>
                          <a:pt x="223" y="168"/>
                        </a:lnTo>
                        <a:lnTo>
                          <a:pt x="233" y="160"/>
                        </a:lnTo>
                        <a:lnTo>
                          <a:pt x="238" y="154"/>
                        </a:lnTo>
                        <a:lnTo>
                          <a:pt x="245" y="147"/>
                        </a:lnTo>
                        <a:lnTo>
                          <a:pt x="252" y="138"/>
                        </a:lnTo>
                        <a:lnTo>
                          <a:pt x="257" y="142"/>
                        </a:lnTo>
                        <a:lnTo>
                          <a:pt x="257" y="136"/>
                        </a:lnTo>
                        <a:lnTo>
                          <a:pt x="261" y="133"/>
                        </a:lnTo>
                        <a:lnTo>
                          <a:pt x="271" y="135"/>
                        </a:lnTo>
                        <a:lnTo>
                          <a:pt x="288" y="150"/>
                        </a:lnTo>
                        <a:lnTo>
                          <a:pt x="284" y="109"/>
                        </a:lnTo>
                        <a:lnTo>
                          <a:pt x="270" y="127"/>
                        </a:lnTo>
                        <a:lnTo>
                          <a:pt x="259" y="126"/>
                        </a:lnTo>
                        <a:lnTo>
                          <a:pt x="255" y="115"/>
                        </a:lnTo>
                        <a:lnTo>
                          <a:pt x="255" y="109"/>
                        </a:lnTo>
                        <a:lnTo>
                          <a:pt x="252" y="106"/>
                        </a:lnTo>
                        <a:lnTo>
                          <a:pt x="261" y="97"/>
                        </a:lnTo>
                        <a:lnTo>
                          <a:pt x="266" y="90"/>
                        </a:lnTo>
                        <a:lnTo>
                          <a:pt x="272" y="88"/>
                        </a:lnTo>
                        <a:lnTo>
                          <a:pt x="277" y="87"/>
                        </a:lnTo>
                        <a:lnTo>
                          <a:pt x="280" y="81"/>
                        </a:lnTo>
                        <a:lnTo>
                          <a:pt x="284" y="80"/>
                        </a:lnTo>
                        <a:lnTo>
                          <a:pt x="290" y="80"/>
                        </a:lnTo>
                        <a:lnTo>
                          <a:pt x="280" y="70"/>
                        </a:lnTo>
                        <a:lnTo>
                          <a:pt x="270" y="72"/>
                        </a:lnTo>
                        <a:lnTo>
                          <a:pt x="263" y="72"/>
                        </a:lnTo>
                        <a:lnTo>
                          <a:pt x="257" y="69"/>
                        </a:lnTo>
                        <a:lnTo>
                          <a:pt x="257" y="75"/>
                        </a:lnTo>
                        <a:lnTo>
                          <a:pt x="252" y="82"/>
                        </a:lnTo>
                        <a:lnTo>
                          <a:pt x="244" y="93"/>
                        </a:lnTo>
                        <a:lnTo>
                          <a:pt x="236" y="98"/>
                        </a:lnTo>
                        <a:lnTo>
                          <a:pt x="230" y="98"/>
                        </a:lnTo>
                        <a:lnTo>
                          <a:pt x="228" y="106"/>
                        </a:lnTo>
                        <a:lnTo>
                          <a:pt x="228" y="109"/>
                        </a:lnTo>
                        <a:lnTo>
                          <a:pt x="224" y="112"/>
                        </a:lnTo>
                        <a:lnTo>
                          <a:pt x="229" y="126"/>
                        </a:lnTo>
                        <a:lnTo>
                          <a:pt x="233" y="133"/>
                        </a:lnTo>
                        <a:lnTo>
                          <a:pt x="226" y="143"/>
                        </a:lnTo>
                        <a:lnTo>
                          <a:pt x="218" y="150"/>
                        </a:lnTo>
                        <a:lnTo>
                          <a:pt x="216" y="160"/>
                        </a:lnTo>
                        <a:lnTo>
                          <a:pt x="211" y="168"/>
                        </a:lnTo>
                        <a:lnTo>
                          <a:pt x="207" y="168"/>
                        </a:lnTo>
                        <a:lnTo>
                          <a:pt x="200" y="169"/>
                        </a:lnTo>
                        <a:lnTo>
                          <a:pt x="193" y="172"/>
                        </a:lnTo>
                        <a:lnTo>
                          <a:pt x="191" y="171"/>
                        </a:lnTo>
                        <a:lnTo>
                          <a:pt x="191" y="165"/>
                        </a:lnTo>
                        <a:lnTo>
                          <a:pt x="190" y="156"/>
                        </a:lnTo>
                        <a:lnTo>
                          <a:pt x="184" y="156"/>
                        </a:lnTo>
                        <a:lnTo>
                          <a:pt x="181" y="151"/>
                        </a:lnTo>
                        <a:lnTo>
                          <a:pt x="182" y="143"/>
                        </a:lnTo>
                        <a:lnTo>
                          <a:pt x="183" y="138"/>
                        </a:lnTo>
                        <a:lnTo>
                          <a:pt x="182" y="136"/>
                        </a:lnTo>
                        <a:lnTo>
                          <a:pt x="178" y="138"/>
                        </a:lnTo>
                        <a:lnTo>
                          <a:pt x="175" y="138"/>
                        </a:lnTo>
                        <a:lnTo>
                          <a:pt x="172" y="137"/>
                        </a:lnTo>
                        <a:lnTo>
                          <a:pt x="170" y="136"/>
                        </a:lnTo>
                        <a:lnTo>
                          <a:pt x="164" y="141"/>
                        </a:lnTo>
                        <a:lnTo>
                          <a:pt x="159" y="146"/>
                        </a:lnTo>
                        <a:lnTo>
                          <a:pt x="153" y="152"/>
                        </a:lnTo>
                        <a:lnTo>
                          <a:pt x="141" y="151"/>
                        </a:lnTo>
                        <a:lnTo>
                          <a:pt x="133" y="150"/>
                        </a:lnTo>
                        <a:lnTo>
                          <a:pt x="127" y="144"/>
                        </a:lnTo>
                        <a:lnTo>
                          <a:pt x="127" y="141"/>
                        </a:lnTo>
                        <a:lnTo>
                          <a:pt x="130" y="136"/>
                        </a:lnTo>
                        <a:lnTo>
                          <a:pt x="135" y="133"/>
                        </a:lnTo>
                        <a:lnTo>
                          <a:pt x="138" y="128"/>
                        </a:lnTo>
                        <a:lnTo>
                          <a:pt x="130" y="130"/>
                        </a:lnTo>
                        <a:lnTo>
                          <a:pt x="127" y="125"/>
                        </a:lnTo>
                        <a:lnTo>
                          <a:pt x="127" y="121"/>
                        </a:lnTo>
                        <a:lnTo>
                          <a:pt x="138" y="120"/>
                        </a:lnTo>
                        <a:lnTo>
                          <a:pt x="148" y="119"/>
                        </a:lnTo>
                        <a:lnTo>
                          <a:pt x="142" y="116"/>
                        </a:lnTo>
                        <a:lnTo>
                          <a:pt x="132" y="117"/>
                        </a:lnTo>
                        <a:lnTo>
                          <a:pt x="132" y="110"/>
                        </a:lnTo>
                        <a:lnTo>
                          <a:pt x="136" y="106"/>
                        </a:lnTo>
                        <a:lnTo>
                          <a:pt x="146" y="101"/>
                        </a:lnTo>
                        <a:lnTo>
                          <a:pt x="150" y="97"/>
                        </a:lnTo>
                        <a:lnTo>
                          <a:pt x="153" y="94"/>
                        </a:lnTo>
                        <a:lnTo>
                          <a:pt x="161" y="93"/>
                        </a:lnTo>
                        <a:lnTo>
                          <a:pt x="168" y="94"/>
                        </a:lnTo>
                        <a:lnTo>
                          <a:pt x="171" y="97"/>
                        </a:lnTo>
                        <a:lnTo>
                          <a:pt x="177" y="93"/>
                        </a:lnTo>
                        <a:lnTo>
                          <a:pt x="171" y="92"/>
                        </a:lnTo>
                        <a:lnTo>
                          <a:pt x="171" y="83"/>
                        </a:lnTo>
                        <a:lnTo>
                          <a:pt x="186" y="73"/>
                        </a:lnTo>
                        <a:lnTo>
                          <a:pt x="193" y="66"/>
                        </a:lnTo>
                        <a:lnTo>
                          <a:pt x="198" y="65"/>
                        </a:lnTo>
                        <a:lnTo>
                          <a:pt x="197" y="62"/>
                        </a:lnTo>
                        <a:lnTo>
                          <a:pt x="204" y="55"/>
                        </a:lnTo>
                        <a:lnTo>
                          <a:pt x="211" y="45"/>
                        </a:lnTo>
                        <a:lnTo>
                          <a:pt x="220" y="40"/>
                        </a:lnTo>
                        <a:lnTo>
                          <a:pt x="214" y="36"/>
                        </a:lnTo>
                        <a:lnTo>
                          <a:pt x="232" y="26"/>
                        </a:lnTo>
                        <a:lnTo>
                          <a:pt x="239" y="27"/>
                        </a:lnTo>
                        <a:lnTo>
                          <a:pt x="238" y="21"/>
                        </a:lnTo>
                        <a:lnTo>
                          <a:pt x="254" y="20"/>
                        </a:lnTo>
                        <a:lnTo>
                          <a:pt x="283" y="2"/>
                        </a:lnTo>
                        <a:lnTo>
                          <a:pt x="288" y="0"/>
                        </a:lnTo>
                        <a:lnTo>
                          <a:pt x="282" y="13"/>
                        </a:lnTo>
                        <a:lnTo>
                          <a:pt x="289" y="7"/>
                        </a:lnTo>
                        <a:lnTo>
                          <a:pt x="297" y="4"/>
                        </a:lnTo>
                        <a:lnTo>
                          <a:pt x="296" y="10"/>
                        </a:lnTo>
                        <a:lnTo>
                          <a:pt x="318" y="3"/>
                        </a:lnTo>
                        <a:lnTo>
                          <a:pt x="328" y="9"/>
                        </a:lnTo>
                        <a:lnTo>
                          <a:pt x="314" y="15"/>
                        </a:lnTo>
                        <a:lnTo>
                          <a:pt x="319" y="21"/>
                        </a:lnTo>
                        <a:lnTo>
                          <a:pt x="341" y="20"/>
                        </a:lnTo>
                        <a:lnTo>
                          <a:pt x="373" y="30"/>
                        </a:lnTo>
                        <a:lnTo>
                          <a:pt x="371" y="42"/>
                        </a:lnTo>
                        <a:lnTo>
                          <a:pt x="358" y="52"/>
                        </a:lnTo>
                        <a:lnTo>
                          <a:pt x="337" y="57"/>
                        </a:lnTo>
                        <a:lnTo>
                          <a:pt x="334" y="69"/>
                        </a:lnTo>
                        <a:lnTo>
                          <a:pt x="335" y="80"/>
                        </a:lnTo>
                        <a:lnTo>
                          <a:pt x="341" y="82"/>
                        </a:lnTo>
                        <a:lnTo>
                          <a:pt x="342" y="88"/>
                        </a:lnTo>
                        <a:lnTo>
                          <a:pt x="344" y="90"/>
                        </a:lnTo>
                        <a:lnTo>
                          <a:pt x="349" y="92"/>
                        </a:lnTo>
                        <a:lnTo>
                          <a:pt x="350" y="99"/>
                        </a:lnTo>
                        <a:lnTo>
                          <a:pt x="356" y="107"/>
                        </a:lnTo>
                        <a:lnTo>
                          <a:pt x="356" y="110"/>
                        </a:lnTo>
                        <a:lnTo>
                          <a:pt x="363" y="110"/>
                        </a:lnTo>
                        <a:lnTo>
                          <a:pt x="365" y="112"/>
                        </a:lnTo>
                        <a:lnTo>
                          <a:pt x="371" y="115"/>
                        </a:lnTo>
                        <a:lnTo>
                          <a:pt x="374" y="111"/>
                        </a:lnTo>
                        <a:lnTo>
                          <a:pt x="378" y="106"/>
                        </a:lnTo>
                        <a:lnTo>
                          <a:pt x="380" y="102"/>
                        </a:lnTo>
                        <a:lnTo>
                          <a:pt x="386" y="105"/>
                        </a:lnTo>
                        <a:lnTo>
                          <a:pt x="392" y="97"/>
                        </a:lnTo>
                        <a:lnTo>
                          <a:pt x="392" y="91"/>
                        </a:lnTo>
                        <a:lnTo>
                          <a:pt x="395" y="87"/>
                        </a:lnTo>
                        <a:lnTo>
                          <a:pt x="396" y="83"/>
                        </a:lnTo>
                        <a:lnTo>
                          <a:pt x="409" y="80"/>
                        </a:lnTo>
                        <a:lnTo>
                          <a:pt x="420" y="76"/>
                        </a:lnTo>
                        <a:lnTo>
                          <a:pt x="435" y="72"/>
                        </a:lnTo>
                        <a:lnTo>
                          <a:pt x="452" y="75"/>
                        </a:lnTo>
                        <a:lnTo>
                          <a:pt x="469" y="75"/>
                        </a:lnTo>
                        <a:lnTo>
                          <a:pt x="497" y="75"/>
                        </a:lnTo>
                        <a:lnTo>
                          <a:pt x="501" y="48"/>
                        </a:lnTo>
                        <a:lnTo>
                          <a:pt x="517" y="49"/>
                        </a:lnTo>
                        <a:lnTo>
                          <a:pt x="528" y="70"/>
                        </a:lnTo>
                        <a:lnTo>
                          <a:pt x="531" y="53"/>
                        </a:lnTo>
                        <a:lnTo>
                          <a:pt x="582" y="3"/>
                        </a:lnTo>
                        <a:lnTo>
                          <a:pt x="603" y="3"/>
                        </a:lnTo>
                        <a:lnTo>
                          <a:pt x="621" y="13"/>
                        </a:lnTo>
                        <a:lnTo>
                          <a:pt x="644" y="12"/>
                        </a:lnTo>
                        <a:lnTo>
                          <a:pt x="676" y="30"/>
                        </a:lnTo>
                        <a:lnTo>
                          <a:pt x="712" y="40"/>
                        </a:lnTo>
                        <a:lnTo>
                          <a:pt x="738" y="38"/>
                        </a:lnTo>
                        <a:lnTo>
                          <a:pt x="771" y="49"/>
                        </a:lnTo>
                        <a:lnTo>
                          <a:pt x="799" y="49"/>
                        </a:lnTo>
                        <a:lnTo>
                          <a:pt x="813" y="42"/>
                        </a:lnTo>
                        <a:lnTo>
                          <a:pt x="844" y="42"/>
                        </a:lnTo>
                        <a:lnTo>
                          <a:pt x="861" y="51"/>
                        </a:lnTo>
                        <a:lnTo>
                          <a:pt x="904" y="51"/>
                        </a:lnTo>
                        <a:lnTo>
                          <a:pt x="940" y="65"/>
                        </a:lnTo>
                        <a:lnTo>
                          <a:pt x="1004" y="63"/>
                        </a:lnTo>
                        <a:lnTo>
                          <a:pt x="1109" y="70"/>
                        </a:lnTo>
                        <a:lnTo>
                          <a:pt x="1159" y="91"/>
                        </a:lnTo>
                        <a:lnTo>
                          <a:pt x="1202" y="105"/>
                        </a:lnTo>
                        <a:lnTo>
                          <a:pt x="1229" y="116"/>
                        </a:lnTo>
                        <a:lnTo>
                          <a:pt x="1221" y="119"/>
                        </a:lnTo>
                        <a:lnTo>
                          <a:pt x="1202" y="110"/>
                        </a:lnTo>
                        <a:lnTo>
                          <a:pt x="1158" y="107"/>
                        </a:lnTo>
                        <a:lnTo>
                          <a:pt x="1170" y="116"/>
                        </a:lnTo>
                        <a:lnTo>
                          <a:pt x="1190" y="120"/>
                        </a:lnTo>
                        <a:lnTo>
                          <a:pt x="1184" y="135"/>
                        </a:lnTo>
                        <a:lnTo>
                          <a:pt x="1164" y="144"/>
                        </a:lnTo>
                        <a:lnTo>
                          <a:pt x="1157" y="159"/>
                        </a:lnTo>
                        <a:lnTo>
                          <a:pt x="1184" y="172"/>
                        </a:lnTo>
                        <a:lnTo>
                          <a:pt x="1203" y="190"/>
                        </a:lnTo>
                        <a:lnTo>
                          <a:pt x="1213" y="216"/>
                        </a:lnTo>
                        <a:lnTo>
                          <a:pt x="1201" y="218"/>
                        </a:lnTo>
                        <a:lnTo>
                          <a:pt x="1174" y="210"/>
                        </a:lnTo>
                        <a:lnTo>
                          <a:pt x="1146" y="191"/>
                        </a:lnTo>
                        <a:lnTo>
                          <a:pt x="1134" y="181"/>
                        </a:lnTo>
                        <a:lnTo>
                          <a:pt x="1128" y="168"/>
                        </a:lnTo>
                        <a:lnTo>
                          <a:pt x="1121" y="147"/>
                        </a:lnTo>
                        <a:lnTo>
                          <a:pt x="1110" y="141"/>
                        </a:lnTo>
                        <a:lnTo>
                          <a:pt x="1100" y="139"/>
                        </a:lnTo>
                        <a:lnTo>
                          <a:pt x="1091" y="142"/>
                        </a:lnTo>
                        <a:lnTo>
                          <a:pt x="1101" y="157"/>
                        </a:lnTo>
                        <a:lnTo>
                          <a:pt x="1074" y="160"/>
                        </a:lnTo>
                        <a:lnTo>
                          <a:pt x="1061" y="152"/>
                        </a:lnTo>
                        <a:lnTo>
                          <a:pt x="1038" y="156"/>
                        </a:lnTo>
                        <a:lnTo>
                          <a:pt x="1020" y="169"/>
                        </a:lnTo>
                        <a:lnTo>
                          <a:pt x="1020" y="175"/>
                        </a:lnTo>
                        <a:lnTo>
                          <a:pt x="1026" y="187"/>
                        </a:lnTo>
                        <a:lnTo>
                          <a:pt x="1055" y="190"/>
                        </a:lnTo>
                        <a:lnTo>
                          <a:pt x="1077" y="204"/>
                        </a:lnTo>
                        <a:lnTo>
                          <a:pt x="1115" y="241"/>
                        </a:lnTo>
                        <a:lnTo>
                          <a:pt x="1131" y="265"/>
                        </a:lnTo>
                        <a:lnTo>
                          <a:pt x="1133" y="291"/>
                        </a:lnTo>
                        <a:lnTo>
                          <a:pt x="1130" y="313"/>
                        </a:lnTo>
                        <a:lnTo>
                          <a:pt x="1121" y="313"/>
                        </a:lnTo>
                        <a:lnTo>
                          <a:pt x="1111" y="305"/>
                        </a:lnTo>
                        <a:lnTo>
                          <a:pt x="1096" y="315"/>
                        </a:lnTo>
                        <a:lnTo>
                          <a:pt x="1082" y="324"/>
                        </a:lnTo>
                        <a:lnTo>
                          <a:pt x="1079" y="339"/>
                        </a:lnTo>
                        <a:lnTo>
                          <a:pt x="1095" y="357"/>
                        </a:lnTo>
                        <a:lnTo>
                          <a:pt x="1085" y="371"/>
                        </a:lnTo>
                        <a:lnTo>
                          <a:pt x="1082" y="396"/>
                        </a:lnTo>
                        <a:lnTo>
                          <a:pt x="1101" y="412"/>
                        </a:lnTo>
                        <a:lnTo>
                          <a:pt x="1122" y="416"/>
                        </a:lnTo>
                        <a:lnTo>
                          <a:pt x="1145" y="433"/>
                        </a:lnTo>
                        <a:lnTo>
                          <a:pt x="1164" y="455"/>
                        </a:lnTo>
                        <a:lnTo>
                          <a:pt x="1165" y="489"/>
                        </a:lnTo>
                        <a:lnTo>
                          <a:pt x="1158" y="505"/>
                        </a:lnTo>
                        <a:lnTo>
                          <a:pt x="1138" y="518"/>
                        </a:lnTo>
                        <a:lnTo>
                          <a:pt x="1113" y="525"/>
                        </a:lnTo>
                        <a:lnTo>
                          <a:pt x="1097" y="535"/>
                        </a:lnTo>
                        <a:lnTo>
                          <a:pt x="1088" y="530"/>
                        </a:lnTo>
                        <a:lnTo>
                          <a:pt x="1080" y="535"/>
                        </a:lnTo>
                        <a:lnTo>
                          <a:pt x="1078" y="560"/>
                        </a:lnTo>
                        <a:lnTo>
                          <a:pt x="1084" y="575"/>
                        </a:lnTo>
                        <a:lnTo>
                          <a:pt x="1109" y="592"/>
                        </a:lnTo>
                        <a:lnTo>
                          <a:pt x="1119" y="608"/>
                        </a:lnTo>
                        <a:lnTo>
                          <a:pt x="1127" y="617"/>
                        </a:lnTo>
                        <a:lnTo>
                          <a:pt x="1124" y="635"/>
                        </a:lnTo>
                        <a:lnTo>
                          <a:pt x="1109" y="650"/>
                        </a:lnTo>
                        <a:lnTo>
                          <a:pt x="1092" y="650"/>
                        </a:lnTo>
                        <a:lnTo>
                          <a:pt x="1065" y="629"/>
                        </a:lnTo>
                        <a:lnTo>
                          <a:pt x="1046" y="621"/>
                        </a:lnTo>
                        <a:lnTo>
                          <a:pt x="1038" y="616"/>
                        </a:lnTo>
                        <a:lnTo>
                          <a:pt x="1030" y="628"/>
                        </a:lnTo>
                        <a:lnTo>
                          <a:pt x="1032" y="643"/>
                        </a:lnTo>
                        <a:lnTo>
                          <a:pt x="1039" y="656"/>
                        </a:lnTo>
                        <a:lnTo>
                          <a:pt x="1043" y="675"/>
                        </a:lnTo>
                        <a:lnTo>
                          <a:pt x="1060" y="682"/>
                        </a:lnTo>
                        <a:lnTo>
                          <a:pt x="1055" y="692"/>
                        </a:lnTo>
                        <a:lnTo>
                          <a:pt x="1056" y="706"/>
                        </a:lnTo>
                        <a:lnTo>
                          <a:pt x="1061" y="721"/>
                        </a:lnTo>
                        <a:lnTo>
                          <a:pt x="1050" y="720"/>
                        </a:lnTo>
                        <a:lnTo>
                          <a:pt x="1038" y="703"/>
                        </a:lnTo>
                        <a:lnTo>
                          <a:pt x="1039" y="685"/>
                        </a:lnTo>
                        <a:lnTo>
                          <a:pt x="1034" y="679"/>
                        </a:lnTo>
                        <a:lnTo>
                          <a:pt x="1030" y="659"/>
                        </a:lnTo>
                        <a:lnTo>
                          <a:pt x="1024" y="653"/>
                        </a:lnTo>
                        <a:lnTo>
                          <a:pt x="1022" y="625"/>
                        </a:lnTo>
                        <a:lnTo>
                          <a:pt x="1014" y="608"/>
                        </a:lnTo>
                        <a:lnTo>
                          <a:pt x="1001" y="593"/>
                        </a:lnTo>
                        <a:lnTo>
                          <a:pt x="976" y="584"/>
                        </a:lnTo>
                        <a:lnTo>
                          <a:pt x="959" y="569"/>
                        </a:lnTo>
                        <a:lnTo>
                          <a:pt x="952" y="558"/>
                        </a:lnTo>
                        <a:lnTo>
                          <a:pt x="940" y="545"/>
                        </a:lnTo>
                        <a:lnTo>
                          <a:pt x="921" y="517"/>
                        </a:lnTo>
                        <a:lnTo>
                          <a:pt x="904" y="520"/>
                        </a:lnTo>
                        <a:lnTo>
                          <a:pt x="881" y="533"/>
                        </a:lnTo>
                        <a:lnTo>
                          <a:pt x="871" y="544"/>
                        </a:lnTo>
                        <a:lnTo>
                          <a:pt x="851" y="566"/>
                        </a:lnTo>
                        <a:lnTo>
                          <a:pt x="836" y="588"/>
                        </a:lnTo>
                        <a:lnTo>
                          <a:pt x="831" y="596"/>
                        </a:lnTo>
                        <a:lnTo>
                          <a:pt x="836" y="622"/>
                        </a:lnTo>
                        <a:lnTo>
                          <a:pt x="835" y="648"/>
                        </a:lnTo>
                        <a:lnTo>
                          <a:pt x="817" y="666"/>
                        </a:lnTo>
                        <a:lnTo>
                          <a:pt x="807" y="667"/>
                        </a:lnTo>
                        <a:lnTo>
                          <a:pt x="786" y="630"/>
                        </a:lnTo>
                        <a:lnTo>
                          <a:pt x="769" y="604"/>
                        </a:lnTo>
                        <a:lnTo>
                          <a:pt x="735" y="554"/>
                        </a:lnTo>
                        <a:lnTo>
                          <a:pt x="734" y="535"/>
                        </a:lnTo>
                        <a:lnTo>
                          <a:pt x="726" y="526"/>
                        </a:lnTo>
                        <a:lnTo>
                          <a:pt x="721" y="539"/>
                        </a:lnTo>
                        <a:lnTo>
                          <a:pt x="691" y="511"/>
                        </a:lnTo>
                        <a:lnTo>
                          <a:pt x="652" y="489"/>
                        </a:lnTo>
                        <a:lnTo>
                          <a:pt x="627" y="494"/>
                        </a:lnTo>
                        <a:lnTo>
                          <a:pt x="591" y="491"/>
                        </a:lnTo>
                        <a:lnTo>
                          <a:pt x="575" y="476"/>
                        </a:lnTo>
                        <a:lnTo>
                          <a:pt x="555" y="478"/>
                        </a:lnTo>
                        <a:lnTo>
                          <a:pt x="528" y="471"/>
                        </a:lnTo>
                        <a:lnTo>
                          <a:pt x="472" y="418"/>
                        </a:lnTo>
                        <a:lnTo>
                          <a:pt x="476" y="440"/>
                        </a:lnTo>
                        <a:lnTo>
                          <a:pt x="492" y="470"/>
                        </a:lnTo>
                        <a:lnTo>
                          <a:pt x="512" y="491"/>
                        </a:lnTo>
                        <a:lnTo>
                          <a:pt x="532" y="503"/>
                        </a:lnTo>
                        <a:lnTo>
                          <a:pt x="554" y="494"/>
                        </a:lnTo>
                        <a:lnTo>
                          <a:pt x="572" y="494"/>
                        </a:lnTo>
                        <a:lnTo>
                          <a:pt x="596" y="513"/>
                        </a:lnTo>
                        <a:lnTo>
                          <a:pt x="609" y="527"/>
                        </a:lnTo>
                        <a:lnTo>
                          <a:pt x="607" y="536"/>
                        </a:lnTo>
                        <a:lnTo>
                          <a:pt x="567" y="578"/>
                        </a:lnTo>
                        <a:lnTo>
                          <a:pt x="540" y="594"/>
                        </a:lnTo>
                        <a:lnTo>
                          <a:pt x="483" y="614"/>
                        </a:lnTo>
                        <a:lnTo>
                          <a:pt x="467" y="621"/>
                        </a:lnTo>
                        <a:lnTo>
                          <a:pt x="456" y="614"/>
                        </a:lnTo>
                        <a:lnTo>
                          <a:pt x="453" y="606"/>
                        </a:lnTo>
                        <a:lnTo>
                          <a:pt x="452" y="594"/>
                        </a:lnTo>
                        <a:lnTo>
                          <a:pt x="447" y="581"/>
                        </a:lnTo>
                        <a:lnTo>
                          <a:pt x="440" y="571"/>
                        </a:lnTo>
                        <a:lnTo>
                          <a:pt x="433" y="562"/>
                        </a:lnTo>
                        <a:lnTo>
                          <a:pt x="423" y="550"/>
                        </a:lnTo>
                        <a:lnTo>
                          <a:pt x="417" y="542"/>
                        </a:lnTo>
                        <a:lnTo>
                          <a:pt x="413" y="532"/>
                        </a:lnTo>
                        <a:lnTo>
                          <a:pt x="405" y="523"/>
                        </a:lnTo>
                        <a:lnTo>
                          <a:pt x="392" y="500"/>
                        </a:lnTo>
                        <a:lnTo>
                          <a:pt x="386" y="491"/>
                        </a:lnTo>
                        <a:lnTo>
                          <a:pt x="377" y="479"/>
                        </a:lnTo>
                        <a:lnTo>
                          <a:pt x="362" y="462"/>
                        </a:lnTo>
                        <a:lnTo>
                          <a:pt x="354" y="452"/>
                        </a:lnTo>
                        <a:lnTo>
                          <a:pt x="347" y="445"/>
                        </a:lnTo>
                        <a:lnTo>
                          <a:pt x="340" y="431"/>
                        </a:lnTo>
                        <a:lnTo>
                          <a:pt x="363" y="417"/>
                        </a:lnTo>
                        <a:lnTo>
                          <a:pt x="373" y="388"/>
                        </a:lnTo>
                        <a:lnTo>
                          <a:pt x="351" y="380"/>
                        </a:lnTo>
                        <a:lnTo>
                          <a:pt x="320" y="385"/>
                        </a:lnTo>
                        <a:lnTo>
                          <a:pt x="314" y="381"/>
                        </a:lnTo>
                        <a:lnTo>
                          <a:pt x="310" y="381"/>
                        </a:lnTo>
                        <a:lnTo>
                          <a:pt x="306" y="381"/>
                        </a:lnTo>
                        <a:lnTo>
                          <a:pt x="302" y="381"/>
                        </a:lnTo>
                        <a:lnTo>
                          <a:pt x="301" y="376"/>
                        </a:lnTo>
                        <a:lnTo>
                          <a:pt x="299" y="371"/>
                        </a:lnTo>
                        <a:lnTo>
                          <a:pt x="299" y="362"/>
                        </a:lnTo>
                        <a:lnTo>
                          <a:pt x="293" y="358"/>
                        </a:lnTo>
                        <a:lnTo>
                          <a:pt x="292" y="352"/>
                        </a:lnTo>
                        <a:lnTo>
                          <a:pt x="289" y="351"/>
                        </a:lnTo>
                        <a:lnTo>
                          <a:pt x="286" y="346"/>
                        </a:lnTo>
                        <a:lnTo>
                          <a:pt x="284" y="342"/>
                        </a:lnTo>
                        <a:lnTo>
                          <a:pt x="282" y="337"/>
                        </a:lnTo>
                        <a:lnTo>
                          <a:pt x="280" y="335"/>
                        </a:lnTo>
                        <a:lnTo>
                          <a:pt x="273" y="335"/>
                        </a:lnTo>
                        <a:lnTo>
                          <a:pt x="269" y="335"/>
                        </a:lnTo>
                        <a:lnTo>
                          <a:pt x="266" y="335"/>
                        </a:lnTo>
                        <a:lnTo>
                          <a:pt x="265" y="341"/>
                        </a:lnTo>
                        <a:lnTo>
                          <a:pt x="265" y="346"/>
                        </a:lnTo>
                        <a:lnTo>
                          <a:pt x="265" y="353"/>
                        </a:lnTo>
                        <a:lnTo>
                          <a:pt x="265" y="360"/>
                        </a:lnTo>
                        <a:lnTo>
                          <a:pt x="265" y="364"/>
                        </a:lnTo>
                        <a:lnTo>
                          <a:pt x="260" y="367"/>
                        </a:lnTo>
                        <a:lnTo>
                          <a:pt x="255" y="371"/>
                        </a:lnTo>
                        <a:lnTo>
                          <a:pt x="248" y="364"/>
                        </a:lnTo>
                        <a:lnTo>
                          <a:pt x="244" y="355"/>
                        </a:lnTo>
                        <a:lnTo>
                          <a:pt x="245" y="345"/>
                        </a:lnTo>
                        <a:lnTo>
                          <a:pt x="238" y="332"/>
                        </a:lnTo>
                        <a:lnTo>
                          <a:pt x="235" y="323"/>
                        </a:lnTo>
                        <a:lnTo>
                          <a:pt x="227" y="317"/>
                        </a:lnTo>
                        <a:lnTo>
                          <a:pt x="218" y="312"/>
                        </a:lnTo>
                        <a:lnTo>
                          <a:pt x="214" y="304"/>
                        </a:lnTo>
                        <a:lnTo>
                          <a:pt x="210" y="298"/>
                        </a:lnTo>
                        <a:lnTo>
                          <a:pt x="202" y="297"/>
                        </a:lnTo>
                        <a:lnTo>
                          <a:pt x="200" y="294"/>
                        </a:lnTo>
                        <a:lnTo>
                          <a:pt x="195" y="294"/>
                        </a:lnTo>
                        <a:lnTo>
                          <a:pt x="190" y="299"/>
                        </a:lnTo>
                        <a:lnTo>
                          <a:pt x="186" y="304"/>
                        </a:lnTo>
                        <a:lnTo>
                          <a:pt x="196" y="309"/>
                        </a:lnTo>
                        <a:lnTo>
                          <a:pt x="201" y="317"/>
                        </a:lnTo>
                        <a:lnTo>
                          <a:pt x="211" y="327"/>
                        </a:lnTo>
                        <a:lnTo>
                          <a:pt x="216" y="332"/>
                        </a:lnTo>
                        <a:lnTo>
                          <a:pt x="224" y="335"/>
                        </a:lnTo>
                        <a:lnTo>
                          <a:pt x="229" y="342"/>
                        </a:lnTo>
                        <a:lnTo>
                          <a:pt x="223" y="350"/>
                        </a:lnTo>
                        <a:lnTo>
                          <a:pt x="221" y="346"/>
                        </a:lnTo>
                        <a:lnTo>
                          <a:pt x="221" y="342"/>
                        </a:lnTo>
                        <a:lnTo>
                          <a:pt x="218" y="352"/>
                        </a:lnTo>
                        <a:lnTo>
                          <a:pt x="217" y="361"/>
                        </a:lnTo>
                        <a:lnTo>
                          <a:pt x="210" y="363"/>
                        </a:lnTo>
                        <a:lnTo>
                          <a:pt x="212" y="352"/>
                        </a:lnTo>
                        <a:lnTo>
                          <a:pt x="211" y="346"/>
                        </a:lnTo>
                        <a:lnTo>
                          <a:pt x="204" y="343"/>
                        </a:lnTo>
                        <a:lnTo>
                          <a:pt x="200" y="341"/>
                        </a:lnTo>
                        <a:lnTo>
                          <a:pt x="197" y="336"/>
                        </a:lnTo>
                        <a:lnTo>
                          <a:pt x="190" y="334"/>
                        </a:lnTo>
                        <a:lnTo>
                          <a:pt x="186" y="331"/>
                        </a:lnTo>
                        <a:lnTo>
                          <a:pt x="181" y="324"/>
                        </a:lnTo>
                        <a:lnTo>
                          <a:pt x="175" y="321"/>
                        </a:lnTo>
                        <a:lnTo>
                          <a:pt x="172" y="314"/>
                        </a:lnTo>
                        <a:lnTo>
                          <a:pt x="171" y="308"/>
                        </a:lnTo>
                        <a:lnTo>
                          <a:pt x="166" y="306"/>
                        </a:lnTo>
                        <a:lnTo>
                          <a:pt x="162" y="303"/>
                        </a:lnTo>
                        <a:lnTo>
                          <a:pt x="153" y="303"/>
                        </a:lnTo>
                        <a:lnTo>
                          <a:pt x="145" y="304"/>
                        </a:lnTo>
                        <a:lnTo>
                          <a:pt x="136" y="303"/>
                        </a:lnTo>
                        <a:lnTo>
                          <a:pt x="120" y="304"/>
                        </a:lnTo>
                        <a:lnTo>
                          <a:pt x="109" y="305"/>
                        </a:lnTo>
                        <a:lnTo>
                          <a:pt x="106" y="307"/>
                        </a:lnTo>
                        <a:lnTo>
                          <a:pt x="105" y="314"/>
                        </a:lnTo>
                        <a:lnTo>
                          <a:pt x="105" y="322"/>
                        </a:lnTo>
                        <a:lnTo>
                          <a:pt x="98" y="330"/>
                        </a:lnTo>
                        <a:lnTo>
                          <a:pt x="93" y="333"/>
                        </a:lnTo>
                        <a:lnTo>
                          <a:pt x="91" y="335"/>
                        </a:lnTo>
                        <a:lnTo>
                          <a:pt x="88" y="341"/>
                        </a:lnTo>
                        <a:lnTo>
                          <a:pt x="85" y="345"/>
                        </a:lnTo>
                        <a:lnTo>
                          <a:pt x="89" y="349"/>
                        </a:lnTo>
                        <a:lnTo>
                          <a:pt x="89" y="355"/>
                        </a:lnTo>
                        <a:lnTo>
                          <a:pt x="88" y="359"/>
                        </a:lnTo>
                        <a:lnTo>
                          <a:pt x="85" y="363"/>
                        </a:lnTo>
                        <a:lnTo>
                          <a:pt x="80" y="371"/>
                        </a:lnTo>
                        <a:lnTo>
                          <a:pt x="76" y="368"/>
                        </a:lnTo>
                        <a:lnTo>
                          <a:pt x="73" y="370"/>
                        </a:lnTo>
                        <a:lnTo>
                          <a:pt x="69" y="373"/>
                        </a:lnTo>
                        <a:lnTo>
                          <a:pt x="62" y="374"/>
                        </a:lnTo>
                        <a:lnTo>
                          <a:pt x="55" y="380"/>
                        </a:lnTo>
                        <a:lnTo>
                          <a:pt x="48" y="381"/>
                        </a:lnTo>
                        <a:lnTo>
                          <a:pt x="42" y="381"/>
                        </a:lnTo>
                        <a:lnTo>
                          <a:pt x="35" y="381"/>
                        </a:lnTo>
                        <a:lnTo>
                          <a:pt x="20" y="385"/>
                        </a:lnTo>
                        <a:lnTo>
                          <a:pt x="13" y="385"/>
                        </a:lnTo>
                        <a:lnTo>
                          <a:pt x="10" y="377"/>
                        </a:lnTo>
                        <a:lnTo>
                          <a:pt x="7" y="367"/>
                        </a:lnTo>
                        <a:lnTo>
                          <a:pt x="4" y="358"/>
                        </a:lnTo>
                        <a:lnTo>
                          <a:pt x="3" y="349"/>
                        </a:lnTo>
                        <a:lnTo>
                          <a:pt x="3" y="337"/>
                        </a:lnTo>
                        <a:lnTo>
                          <a:pt x="0" y="324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39536b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4" name="Group 133"/>
              <p:cNvGrpSpPr/>
              <p:nvPr/>
            </p:nvGrpSpPr>
            <p:grpSpPr>
              <a:xfrm>
                <a:off x="1349280" y="1859040"/>
                <a:ext cx="2124000" cy="2527200"/>
                <a:chOff x="1349280" y="1859040"/>
                <a:chExt cx="2124000" cy="2527200"/>
              </a:xfrm>
            </p:grpSpPr>
            <p:sp>
              <p:nvSpPr>
                <p:cNvPr id="245" name="Freeform 134"/>
                <p:cNvSpPr/>
                <p:nvPr/>
              </p:nvSpPr>
              <p:spPr>
                <a:xfrm>
                  <a:off x="1349280" y="4203720"/>
                  <a:ext cx="533160" cy="169920"/>
                </a:xfrm>
                <a:custGeom>
                  <a:avLst/>
                  <a:gdLst>
                    <a:gd name="textAreaLeft" fmla="*/ 0 w 533160"/>
                    <a:gd name="textAreaRight" fmla="*/ 533520 w 53316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336" h="107">
                      <a:moveTo>
                        <a:pt x="71" y="51"/>
                      </a:moveTo>
                      <a:lnTo>
                        <a:pt x="70" y="39"/>
                      </a:lnTo>
                      <a:lnTo>
                        <a:pt x="76" y="37"/>
                      </a:lnTo>
                      <a:lnTo>
                        <a:pt x="87" y="41"/>
                      </a:lnTo>
                      <a:lnTo>
                        <a:pt x="99" y="44"/>
                      </a:lnTo>
                      <a:lnTo>
                        <a:pt x="109" y="34"/>
                      </a:lnTo>
                      <a:lnTo>
                        <a:pt x="108" y="27"/>
                      </a:lnTo>
                      <a:lnTo>
                        <a:pt x="122" y="32"/>
                      </a:lnTo>
                      <a:lnTo>
                        <a:pt x="129" y="32"/>
                      </a:lnTo>
                      <a:lnTo>
                        <a:pt x="136" y="33"/>
                      </a:lnTo>
                      <a:lnTo>
                        <a:pt x="148" y="24"/>
                      </a:lnTo>
                      <a:lnTo>
                        <a:pt x="163" y="20"/>
                      </a:lnTo>
                      <a:lnTo>
                        <a:pt x="178" y="20"/>
                      </a:lnTo>
                      <a:lnTo>
                        <a:pt x="187" y="17"/>
                      </a:lnTo>
                      <a:lnTo>
                        <a:pt x="201" y="18"/>
                      </a:lnTo>
                      <a:lnTo>
                        <a:pt x="214" y="18"/>
                      </a:lnTo>
                      <a:lnTo>
                        <a:pt x="225" y="17"/>
                      </a:lnTo>
                      <a:lnTo>
                        <a:pt x="243" y="18"/>
                      </a:lnTo>
                      <a:lnTo>
                        <a:pt x="251" y="17"/>
                      </a:lnTo>
                      <a:lnTo>
                        <a:pt x="267" y="25"/>
                      </a:lnTo>
                      <a:lnTo>
                        <a:pt x="283" y="23"/>
                      </a:lnTo>
                      <a:lnTo>
                        <a:pt x="293" y="12"/>
                      </a:lnTo>
                      <a:lnTo>
                        <a:pt x="302" y="10"/>
                      </a:lnTo>
                      <a:lnTo>
                        <a:pt x="316" y="1"/>
                      </a:lnTo>
                      <a:lnTo>
                        <a:pt x="335" y="0"/>
                      </a:lnTo>
                      <a:lnTo>
                        <a:pt x="328" y="8"/>
                      </a:lnTo>
                      <a:lnTo>
                        <a:pt x="321" y="12"/>
                      </a:lnTo>
                      <a:lnTo>
                        <a:pt x="315" y="19"/>
                      </a:lnTo>
                      <a:lnTo>
                        <a:pt x="305" y="26"/>
                      </a:lnTo>
                      <a:lnTo>
                        <a:pt x="299" y="33"/>
                      </a:lnTo>
                      <a:lnTo>
                        <a:pt x="290" y="37"/>
                      </a:lnTo>
                      <a:lnTo>
                        <a:pt x="283" y="42"/>
                      </a:lnTo>
                      <a:lnTo>
                        <a:pt x="276" y="45"/>
                      </a:lnTo>
                      <a:lnTo>
                        <a:pt x="271" y="50"/>
                      </a:lnTo>
                      <a:lnTo>
                        <a:pt x="262" y="51"/>
                      </a:lnTo>
                      <a:lnTo>
                        <a:pt x="255" y="54"/>
                      </a:lnTo>
                      <a:lnTo>
                        <a:pt x="248" y="59"/>
                      </a:lnTo>
                      <a:lnTo>
                        <a:pt x="235" y="65"/>
                      </a:lnTo>
                      <a:lnTo>
                        <a:pt x="225" y="68"/>
                      </a:lnTo>
                      <a:lnTo>
                        <a:pt x="214" y="73"/>
                      </a:lnTo>
                      <a:lnTo>
                        <a:pt x="202" y="77"/>
                      </a:lnTo>
                      <a:lnTo>
                        <a:pt x="192" y="81"/>
                      </a:lnTo>
                      <a:lnTo>
                        <a:pt x="181" y="84"/>
                      </a:lnTo>
                      <a:lnTo>
                        <a:pt x="170" y="89"/>
                      </a:lnTo>
                      <a:lnTo>
                        <a:pt x="160" y="91"/>
                      </a:lnTo>
                      <a:lnTo>
                        <a:pt x="149" y="93"/>
                      </a:lnTo>
                      <a:lnTo>
                        <a:pt x="139" y="97"/>
                      </a:lnTo>
                      <a:lnTo>
                        <a:pt x="126" y="99"/>
                      </a:lnTo>
                      <a:lnTo>
                        <a:pt x="115" y="100"/>
                      </a:lnTo>
                      <a:lnTo>
                        <a:pt x="103" y="104"/>
                      </a:lnTo>
                      <a:lnTo>
                        <a:pt x="90" y="106"/>
                      </a:lnTo>
                      <a:lnTo>
                        <a:pt x="78" y="106"/>
                      </a:lnTo>
                      <a:lnTo>
                        <a:pt x="65" y="105"/>
                      </a:lnTo>
                      <a:lnTo>
                        <a:pt x="53" y="106"/>
                      </a:lnTo>
                      <a:lnTo>
                        <a:pt x="42" y="100"/>
                      </a:lnTo>
                      <a:lnTo>
                        <a:pt x="31" y="96"/>
                      </a:lnTo>
                      <a:lnTo>
                        <a:pt x="21" y="90"/>
                      </a:lnTo>
                      <a:lnTo>
                        <a:pt x="10" y="81"/>
                      </a:lnTo>
                      <a:lnTo>
                        <a:pt x="0" y="74"/>
                      </a:lnTo>
                      <a:lnTo>
                        <a:pt x="29" y="71"/>
                      </a:lnTo>
                      <a:lnTo>
                        <a:pt x="34" y="71"/>
                      </a:lnTo>
                      <a:lnTo>
                        <a:pt x="36" y="69"/>
                      </a:lnTo>
                      <a:lnTo>
                        <a:pt x="45" y="68"/>
                      </a:lnTo>
                      <a:lnTo>
                        <a:pt x="54" y="71"/>
                      </a:lnTo>
                      <a:lnTo>
                        <a:pt x="61" y="77"/>
                      </a:lnTo>
                      <a:lnTo>
                        <a:pt x="64" y="77"/>
                      </a:lnTo>
                      <a:lnTo>
                        <a:pt x="69" y="80"/>
                      </a:lnTo>
                      <a:lnTo>
                        <a:pt x="75" y="77"/>
                      </a:lnTo>
                      <a:lnTo>
                        <a:pt x="78" y="68"/>
                      </a:lnTo>
                      <a:lnTo>
                        <a:pt x="80" y="60"/>
                      </a:lnTo>
                      <a:lnTo>
                        <a:pt x="71" y="51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35"/>
                <p:cNvSpPr/>
                <p:nvPr/>
              </p:nvSpPr>
              <p:spPr>
                <a:xfrm>
                  <a:off x="2817720" y="4089240"/>
                  <a:ext cx="546120" cy="297000"/>
                </a:xfrm>
                <a:custGeom>
                  <a:avLst/>
                  <a:gdLst>
                    <a:gd name="textAreaLeft" fmla="*/ 0 w 546120"/>
                    <a:gd name="textAreaRight" fmla="*/ 546480 w 546120"/>
                    <a:gd name="textAreaTop" fmla="*/ 0 h 297000"/>
                    <a:gd name="textAreaBottom" fmla="*/ 297360 h 297000"/>
                  </a:gdLst>
                  <a:ahLst/>
                  <a:rect l="textAreaLeft" t="textAreaTop" r="textAreaRight" b="textAreaBottom"/>
                  <a:pathLst>
                    <a:path w="344" h="187">
                      <a:moveTo>
                        <a:pt x="188" y="15"/>
                      </a:moveTo>
                      <a:lnTo>
                        <a:pt x="168" y="25"/>
                      </a:lnTo>
                      <a:lnTo>
                        <a:pt x="164" y="32"/>
                      </a:lnTo>
                      <a:lnTo>
                        <a:pt x="156" y="36"/>
                      </a:lnTo>
                      <a:lnTo>
                        <a:pt x="153" y="37"/>
                      </a:lnTo>
                      <a:lnTo>
                        <a:pt x="146" y="41"/>
                      </a:lnTo>
                      <a:lnTo>
                        <a:pt x="154" y="51"/>
                      </a:lnTo>
                      <a:lnTo>
                        <a:pt x="157" y="55"/>
                      </a:lnTo>
                      <a:lnTo>
                        <a:pt x="157" y="62"/>
                      </a:lnTo>
                      <a:lnTo>
                        <a:pt x="173" y="82"/>
                      </a:lnTo>
                      <a:lnTo>
                        <a:pt x="173" y="95"/>
                      </a:lnTo>
                      <a:lnTo>
                        <a:pt x="171" y="106"/>
                      </a:lnTo>
                      <a:lnTo>
                        <a:pt x="151" y="124"/>
                      </a:lnTo>
                      <a:lnTo>
                        <a:pt x="144" y="131"/>
                      </a:lnTo>
                      <a:lnTo>
                        <a:pt x="135" y="134"/>
                      </a:lnTo>
                      <a:lnTo>
                        <a:pt x="120" y="132"/>
                      </a:lnTo>
                      <a:lnTo>
                        <a:pt x="117" y="128"/>
                      </a:lnTo>
                      <a:lnTo>
                        <a:pt x="105" y="131"/>
                      </a:lnTo>
                      <a:lnTo>
                        <a:pt x="109" y="134"/>
                      </a:lnTo>
                      <a:lnTo>
                        <a:pt x="109" y="141"/>
                      </a:lnTo>
                      <a:lnTo>
                        <a:pt x="116" y="148"/>
                      </a:lnTo>
                      <a:lnTo>
                        <a:pt x="120" y="146"/>
                      </a:lnTo>
                      <a:lnTo>
                        <a:pt x="135" y="151"/>
                      </a:lnTo>
                      <a:lnTo>
                        <a:pt x="164" y="151"/>
                      </a:lnTo>
                      <a:lnTo>
                        <a:pt x="169" y="154"/>
                      </a:lnTo>
                      <a:lnTo>
                        <a:pt x="217" y="151"/>
                      </a:lnTo>
                      <a:lnTo>
                        <a:pt x="239" y="143"/>
                      </a:lnTo>
                      <a:lnTo>
                        <a:pt x="252" y="139"/>
                      </a:lnTo>
                      <a:lnTo>
                        <a:pt x="265" y="132"/>
                      </a:lnTo>
                      <a:lnTo>
                        <a:pt x="270" y="127"/>
                      </a:lnTo>
                      <a:lnTo>
                        <a:pt x="274" y="124"/>
                      </a:lnTo>
                      <a:lnTo>
                        <a:pt x="284" y="119"/>
                      </a:lnTo>
                      <a:lnTo>
                        <a:pt x="295" y="113"/>
                      </a:lnTo>
                      <a:lnTo>
                        <a:pt x="309" y="109"/>
                      </a:lnTo>
                      <a:lnTo>
                        <a:pt x="343" y="91"/>
                      </a:lnTo>
                      <a:lnTo>
                        <a:pt x="340" y="106"/>
                      </a:lnTo>
                      <a:lnTo>
                        <a:pt x="333" y="116"/>
                      </a:lnTo>
                      <a:lnTo>
                        <a:pt x="326" y="125"/>
                      </a:lnTo>
                      <a:lnTo>
                        <a:pt x="319" y="133"/>
                      </a:lnTo>
                      <a:lnTo>
                        <a:pt x="308" y="141"/>
                      </a:lnTo>
                      <a:lnTo>
                        <a:pt x="299" y="148"/>
                      </a:lnTo>
                      <a:lnTo>
                        <a:pt x="290" y="154"/>
                      </a:lnTo>
                      <a:lnTo>
                        <a:pt x="278" y="162"/>
                      </a:lnTo>
                      <a:lnTo>
                        <a:pt x="262" y="171"/>
                      </a:lnTo>
                      <a:lnTo>
                        <a:pt x="248" y="177"/>
                      </a:lnTo>
                      <a:lnTo>
                        <a:pt x="235" y="180"/>
                      </a:lnTo>
                      <a:lnTo>
                        <a:pt x="215" y="184"/>
                      </a:lnTo>
                      <a:lnTo>
                        <a:pt x="192" y="186"/>
                      </a:lnTo>
                      <a:lnTo>
                        <a:pt x="172" y="186"/>
                      </a:lnTo>
                      <a:lnTo>
                        <a:pt x="148" y="185"/>
                      </a:lnTo>
                      <a:lnTo>
                        <a:pt x="134" y="182"/>
                      </a:lnTo>
                      <a:lnTo>
                        <a:pt x="114" y="179"/>
                      </a:lnTo>
                      <a:lnTo>
                        <a:pt x="101" y="175"/>
                      </a:lnTo>
                      <a:lnTo>
                        <a:pt x="88" y="167"/>
                      </a:lnTo>
                      <a:lnTo>
                        <a:pt x="74" y="162"/>
                      </a:lnTo>
                      <a:lnTo>
                        <a:pt x="65" y="158"/>
                      </a:lnTo>
                      <a:lnTo>
                        <a:pt x="56" y="153"/>
                      </a:lnTo>
                      <a:lnTo>
                        <a:pt x="49" y="151"/>
                      </a:lnTo>
                      <a:lnTo>
                        <a:pt x="38" y="145"/>
                      </a:lnTo>
                      <a:lnTo>
                        <a:pt x="30" y="140"/>
                      </a:lnTo>
                      <a:lnTo>
                        <a:pt x="24" y="135"/>
                      </a:lnTo>
                      <a:lnTo>
                        <a:pt x="18" y="128"/>
                      </a:lnTo>
                      <a:lnTo>
                        <a:pt x="11" y="123"/>
                      </a:lnTo>
                      <a:lnTo>
                        <a:pt x="6" y="118"/>
                      </a:lnTo>
                      <a:lnTo>
                        <a:pt x="0" y="114"/>
                      </a:lnTo>
                      <a:lnTo>
                        <a:pt x="11" y="104"/>
                      </a:lnTo>
                      <a:lnTo>
                        <a:pt x="18" y="103"/>
                      </a:lnTo>
                      <a:lnTo>
                        <a:pt x="22" y="103"/>
                      </a:lnTo>
                      <a:lnTo>
                        <a:pt x="29" y="101"/>
                      </a:lnTo>
                      <a:lnTo>
                        <a:pt x="38" y="98"/>
                      </a:lnTo>
                      <a:lnTo>
                        <a:pt x="45" y="99"/>
                      </a:lnTo>
                      <a:lnTo>
                        <a:pt x="54" y="97"/>
                      </a:lnTo>
                      <a:lnTo>
                        <a:pt x="65" y="96"/>
                      </a:lnTo>
                      <a:lnTo>
                        <a:pt x="73" y="97"/>
                      </a:lnTo>
                      <a:lnTo>
                        <a:pt x="80" y="98"/>
                      </a:lnTo>
                      <a:lnTo>
                        <a:pt x="85" y="98"/>
                      </a:lnTo>
                      <a:lnTo>
                        <a:pt x="89" y="99"/>
                      </a:lnTo>
                      <a:lnTo>
                        <a:pt x="96" y="99"/>
                      </a:lnTo>
                      <a:lnTo>
                        <a:pt x="99" y="98"/>
                      </a:lnTo>
                      <a:lnTo>
                        <a:pt x="114" y="96"/>
                      </a:lnTo>
                      <a:lnTo>
                        <a:pt x="125" y="95"/>
                      </a:lnTo>
                      <a:lnTo>
                        <a:pt x="132" y="96"/>
                      </a:lnTo>
                      <a:lnTo>
                        <a:pt x="133" y="92"/>
                      </a:lnTo>
                      <a:lnTo>
                        <a:pt x="130" y="88"/>
                      </a:lnTo>
                      <a:lnTo>
                        <a:pt x="128" y="82"/>
                      </a:lnTo>
                      <a:lnTo>
                        <a:pt x="127" y="79"/>
                      </a:lnTo>
                      <a:lnTo>
                        <a:pt x="125" y="74"/>
                      </a:lnTo>
                      <a:lnTo>
                        <a:pt x="130" y="69"/>
                      </a:lnTo>
                      <a:lnTo>
                        <a:pt x="135" y="63"/>
                      </a:lnTo>
                      <a:lnTo>
                        <a:pt x="141" y="55"/>
                      </a:lnTo>
                      <a:lnTo>
                        <a:pt x="135" y="52"/>
                      </a:lnTo>
                      <a:lnTo>
                        <a:pt x="134" y="48"/>
                      </a:lnTo>
                      <a:lnTo>
                        <a:pt x="130" y="45"/>
                      </a:lnTo>
                      <a:lnTo>
                        <a:pt x="135" y="37"/>
                      </a:lnTo>
                      <a:lnTo>
                        <a:pt x="139" y="30"/>
                      </a:lnTo>
                      <a:lnTo>
                        <a:pt x="143" y="23"/>
                      </a:lnTo>
                      <a:lnTo>
                        <a:pt x="147" y="17"/>
                      </a:lnTo>
                      <a:lnTo>
                        <a:pt x="151" y="16"/>
                      </a:lnTo>
                      <a:lnTo>
                        <a:pt x="156" y="8"/>
                      </a:lnTo>
                      <a:lnTo>
                        <a:pt x="161" y="6"/>
                      </a:lnTo>
                      <a:lnTo>
                        <a:pt x="164" y="6"/>
                      </a:lnTo>
                      <a:lnTo>
                        <a:pt x="172" y="1"/>
                      </a:lnTo>
                      <a:lnTo>
                        <a:pt x="176" y="0"/>
                      </a:lnTo>
                      <a:lnTo>
                        <a:pt x="183" y="1"/>
                      </a:lnTo>
                      <a:lnTo>
                        <a:pt x="188" y="1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36"/>
                <p:cNvSpPr/>
                <p:nvPr/>
              </p:nvSpPr>
              <p:spPr>
                <a:xfrm>
                  <a:off x="1760400" y="1954080"/>
                  <a:ext cx="1160280" cy="993960"/>
                </a:xfrm>
                <a:custGeom>
                  <a:avLst/>
                  <a:gdLst>
                    <a:gd name="textAreaLeft" fmla="*/ 0 w 1160280"/>
                    <a:gd name="textAreaRight" fmla="*/ 1160640 w 1160280"/>
                    <a:gd name="textAreaTop" fmla="*/ 0 h 993960"/>
                    <a:gd name="textAreaBottom" fmla="*/ 994320 h 993960"/>
                  </a:gdLst>
                  <a:ahLst/>
                  <a:rect l="textAreaLeft" t="textAreaTop" r="textAreaRight" b="textAreaBottom"/>
                  <a:pathLst>
                    <a:path w="731" h="626">
                      <a:moveTo>
                        <a:pt x="0" y="161"/>
                      </a:moveTo>
                      <a:lnTo>
                        <a:pt x="35" y="139"/>
                      </a:lnTo>
                      <a:lnTo>
                        <a:pt x="55" y="130"/>
                      </a:lnTo>
                      <a:lnTo>
                        <a:pt x="58" y="117"/>
                      </a:lnTo>
                      <a:lnTo>
                        <a:pt x="43" y="109"/>
                      </a:lnTo>
                      <a:lnTo>
                        <a:pt x="42" y="93"/>
                      </a:lnTo>
                      <a:lnTo>
                        <a:pt x="48" y="89"/>
                      </a:lnTo>
                      <a:lnTo>
                        <a:pt x="47" y="82"/>
                      </a:lnTo>
                      <a:lnTo>
                        <a:pt x="74" y="80"/>
                      </a:lnTo>
                      <a:lnTo>
                        <a:pt x="81" y="67"/>
                      </a:lnTo>
                      <a:lnTo>
                        <a:pt x="82" y="56"/>
                      </a:lnTo>
                      <a:lnTo>
                        <a:pt x="105" y="53"/>
                      </a:lnTo>
                      <a:lnTo>
                        <a:pt x="107" y="42"/>
                      </a:lnTo>
                      <a:lnTo>
                        <a:pt x="85" y="38"/>
                      </a:lnTo>
                      <a:lnTo>
                        <a:pt x="96" y="30"/>
                      </a:lnTo>
                      <a:lnTo>
                        <a:pt x="130" y="30"/>
                      </a:lnTo>
                      <a:lnTo>
                        <a:pt x="141" y="21"/>
                      </a:lnTo>
                      <a:lnTo>
                        <a:pt x="155" y="20"/>
                      </a:lnTo>
                      <a:lnTo>
                        <a:pt x="164" y="13"/>
                      </a:lnTo>
                      <a:lnTo>
                        <a:pt x="175" y="26"/>
                      </a:lnTo>
                      <a:lnTo>
                        <a:pt x="219" y="24"/>
                      </a:lnTo>
                      <a:lnTo>
                        <a:pt x="240" y="37"/>
                      </a:lnTo>
                      <a:lnTo>
                        <a:pt x="305" y="34"/>
                      </a:lnTo>
                      <a:lnTo>
                        <a:pt x="315" y="27"/>
                      </a:lnTo>
                      <a:lnTo>
                        <a:pt x="340" y="38"/>
                      </a:lnTo>
                      <a:lnTo>
                        <a:pt x="365" y="48"/>
                      </a:lnTo>
                      <a:lnTo>
                        <a:pt x="378" y="44"/>
                      </a:lnTo>
                      <a:lnTo>
                        <a:pt x="386" y="38"/>
                      </a:lnTo>
                      <a:lnTo>
                        <a:pt x="407" y="42"/>
                      </a:lnTo>
                      <a:lnTo>
                        <a:pt x="392" y="34"/>
                      </a:lnTo>
                      <a:lnTo>
                        <a:pt x="379" y="35"/>
                      </a:lnTo>
                      <a:lnTo>
                        <a:pt x="359" y="37"/>
                      </a:lnTo>
                      <a:lnTo>
                        <a:pt x="349" y="26"/>
                      </a:lnTo>
                      <a:lnTo>
                        <a:pt x="337" y="20"/>
                      </a:lnTo>
                      <a:lnTo>
                        <a:pt x="337" y="11"/>
                      </a:lnTo>
                      <a:lnTo>
                        <a:pt x="341" y="1"/>
                      </a:lnTo>
                      <a:lnTo>
                        <a:pt x="350" y="0"/>
                      </a:lnTo>
                      <a:lnTo>
                        <a:pt x="362" y="9"/>
                      </a:lnTo>
                      <a:lnTo>
                        <a:pt x="365" y="4"/>
                      </a:lnTo>
                      <a:lnTo>
                        <a:pt x="376" y="0"/>
                      </a:lnTo>
                      <a:lnTo>
                        <a:pt x="388" y="7"/>
                      </a:lnTo>
                      <a:lnTo>
                        <a:pt x="395" y="1"/>
                      </a:lnTo>
                      <a:lnTo>
                        <a:pt x="401" y="10"/>
                      </a:lnTo>
                      <a:lnTo>
                        <a:pt x="403" y="16"/>
                      </a:lnTo>
                      <a:lnTo>
                        <a:pt x="421" y="24"/>
                      </a:lnTo>
                      <a:lnTo>
                        <a:pt x="414" y="30"/>
                      </a:lnTo>
                      <a:lnTo>
                        <a:pt x="414" y="39"/>
                      </a:lnTo>
                      <a:lnTo>
                        <a:pt x="444" y="42"/>
                      </a:lnTo>
                      <a:lnTo>
                        <a:pt x="452" y="30"/>
                      </a:lnTo>
                      <a:lnTo>
                        <a:pt x="446" y="25"/>
                      </a:lnTo>
                      <a:lnTo>
                        <a:pt x="433" y="26"/>
                      </a:lnTo>
                      <a:lnTo>
                        <a:pt x="436" y="13"/>
                      </a:lnTo>
                      <a:lnTo>
                        <a:pt x="463" y="20"/>
                      </a:lnTo>
                      <a:lnTo>
                        <a:pt x="469" y="29"/>
                      </a:lnTo>
                      <a:lnTo>
                        <a:pt x="491" y="29"/>
                      </a:lnTo>
                      <a:lnTo>
                        <a:pt x="512" y="40"/>
                      </a:lnTo>
                      <a:lnTo>
                        <a:pt x="523" y="38"/>
                      </a:lnTo>
                      <a:lnTo>
                        <a:pt x="535" y="48"/>
                      </a:lnTo>
                      <a:lnTo>
                        <a:pt x="523" y="62"/>
                      </a:lnTo>
                      <a:lnTo>
                        <a:pt x="513" y="52"/>
                      </a:lnTo>
                      <a:lnTo>
                        <a:pt x="506" y="55"/>
                      </a:lnTo>
                      <a:lnTo>
                        <a:pt x="497" y="63"/>
                      </a:lnTo>
                      <a:lnTo>
                        <a:pt x="482" y="70"/>
                      </a:lnTo>
                      <a:lnTo>
                        <a:pt x="490" y="80"/>
                      </a:lnTo>
                      <a:lnTo>
                        <a:pt x="477" y="81"/>
                      </a:lnTo>
                      <a:lnTo>
                        <a:pt x="466" y="94"/>
                      </a:lnTo>
                      <a:lnTo>
                        <a:pt x="454" y="111"/>
                      </a:lnTo>
                      <a:lnTo>
                        <a:pt x="471" y="126"/>
                      </a:lnTo>
                      <a:lnTo>
                        <a:pt x="485" y="143"/>
                      </a:lnTo>
                      <a:lnTo>
                        <a:pt x="508" y="145"/>
                      </a:lnTo>
                      <a:lnTo>
                        <a:pt x="531" y="143"/>
                      </a:lnTo>
                      <a:lnTo>
                        <a:pt x="541" y="152"/>
                      </a:lnTo>
                      <a:lnTo>
                        <a:pt x="536" y="156"/>
                      </a:lnTo>
                      <a:lnTo>
                        <a:pt x="530" y="165"/>
                      </a:lnTo>
                      <a:lnTo>
                        <a:pt x="540" y="181"/>
                      </a:lnTo>
                      <a:lnTo>
                        <a:pt x="543" y="192"/>
                      </a:lnTo>
                      <a:lnTo>
                        <a:pt x="556" y="198"/>
                      </a:lnTo>
                      <a:lnTo>
                        <a:pt x="572" y="188"/>
                      </a:lnTo>
                      <a:lnTo>
                        <a:pt x="568" y="173"/>
                      </a:lnTo>
                      <a:lnTo>
                        <a:pt x="553" y="161"/>
                      </a:lnTo>
                      <a:lnTo>
                        <a:pt x="570" y="146"/>
                      </a:lnTo>
                      <a:lnTo>
                        <a:pt x="556" y="121"/>
                      </a:lnTo>
                      <a:lnTo>
                        <a:pt x="542" y="111"/>
                      </a:lnTo>
                      <a:lnTo>
                        <a:pt x="553" y="102"/>
                      </a:lnTo>
                      <a:lnTo>
                        <a:pt x="551" y="89"/>
                      </a:lnTo>
                      <a:lnTo>
                        <a:pt x="559" y="81"/>
                      </a:lnTo>
                      <a:lnTo>
                        <a:pt x="572" y="89"/>
                      </a:lnTo>
                      <a:lnTo>
                        <a:pt x="604" y="118"/>
                      </a:lnTo>
                      <a:lnTo>
                        <a:pt x="623" y="123"/>
                      </a:lnTo>
                      <a:lnTo>
                        <a:pt x="629" y="115"/>
                      </a:lnTo>
                      <a:lnTo>
                        <a:pt x="624" y="99"/>
                      </a:lnTo>
                      <a:lnTo>
                        <a:pt x="635" y="101"/>
                      </a:lnTo>
                      <a:lnTo>
                        <a:pt x="655" y="119"/>
                      </a:lnTo>
                      <a:lnTo>
                        <a:pt x="658" y="129"/>
                      </a:lnTo>
                      <a:lnTo>
                        <a:pt x="669" y="136"/>
                      </a:lnTo>
                      <a:lnTo>
                        <a:pt x="692" y="144"/>
                      </a:lnTo>
                      <a:lnTo>
                        <a:pt x="703" y="158"/>
                      </a:lnTo>
                      <a:lnTo>
                        <a:pt x="720" y="169"/>
                      </a:lnTo>
                      <a:lnTo>
                        <a:pt x="729" y="172"/>
                      </a:lnTo>
                      <a:lnTo>
                        <a:pt x="730" y="181"/>
                      </a:lnTo>
                      <a:lnTo>
                        <a:pt x="716" y="187"/>
                      </a:lnTo>
                      <a:lnTo>
                        <a:pt x="709" y="180"/>
                      </a:lnTo>
                      <a:lnTo>
                        <a:pt x="702" y="181"/>
                      </a:lnTo>
                      <a:lnTo>
                        <a:pt x="700" y="196"/>
                      </a:lnTo>
                      <a:lnTo>
                        <a:pt x="688" y="199"/>
                      </a:lnTo>
                      <a:lnTo>
                        <a:pt x="676" y="191"/>
                      </a:lnTo>
                      <a:lnTo>
                        <a:pt x="650" y="191"/>
                      </a:lnTo>
                      <a:lnTo>
                        <a:pt x="647" y="208"/>
                      </a:lnTo>
                      <a:lnTo>
                        <a:pt x="653" y="218"/>
                      </a:lnTo>
                      <a:lnTo>
                        <a:pt x="664" y="212"/>
                      </a:lnTo>
                      <a:lnTo>
                        <a:pt x="674" y="210"/>
                      </a:lnTo>
                      <a:lnTo>
                        <a:pt x="684" y="216"/>
                      </a:lnTo>
                      <a:lnTo>
                        <a:pt x="670" y="228"/>
                      </a:lnTo>
                      <a:lnTo>
                        <a:pt x="684" y="239"/>
                      </a:lnTo>
                      <a:lnTo>
                        <a:pt x="702" y="243"/>
                      </a:lnTo>
                      <a:lnTo>
                        <a:pt x="700" y="250"/>
                      </a:lnTo>
                      <a:lnTo>
                        <a:pt x="693" y="251"/>
                      </a:lnTo>
                      <a:lnTo>
                        <a:pt x="676" y="289"/>
                      </a:lnTo>
                      <a:lnTo>
                        <a:pt x="677" y="264"/>
                      </a:lnTo>
                      <a:lnTo>
                        <a:pt x="685" y="252"/>
                      </a:lnTo>
                      <a:lnTo>
                        <a:pt x="676" y="246"/>
                      </a:lnTo>
                      <a:lnTo>
                        <a:pt x="666" y="254"/>
                      </a:lnTo>
                      <a:lnTo>
                        <a:pt x="671" y="261"/>
                      </a:lnTo>
                      <a:lnTo>
                        <a:pt x="664" y="265"/>
                      </a:lnTo>
                      <a:lnTo>
                        <a:pt x="656" y="271"/>
                      </a:lnTo>
                      <a:lnTo>
                        <a:pt x="657" y="288"/>
                      </a:lnTo>
                      <a:lnTo>
                        <a:pt x="646" y="293"/>
                      </a:lnTo>
                      <a:lnTo>
                        <a:pt x="630" y="294"/>
                      </a:lnTo>
                      <a:lnTo>
                        <a:pt x="635" y="303"/>
                      </a:lnTo>
                      <a:lnTo>
                        <a:pt x="630" y="314"/>
                      </a:lnTo>
                      <a:lnTo>
                        <a:pt x="635" y="321"/>
                      </a:lnTo>
                      <a:lnTo>
                        <a:pt x="626" y="338"/>
                      </a:lnTo>
                      <a:lnTo>
                        <a:pt x="623" y="354"/>
                      </a:lnTo>
                      <a:lnTo>
                        <a:pt x="610" y="363"/>
                      </a:lnTo>
                      <a:lnTo>
                        <a:pt x="593" y="388"/>
                      </a:lnTo>
                      <a:lnTo>
                        <a:pt x="590" y="405"/>
                      </a:lnTo>
                      <a:lnTo>
                        <a:pt x="596" y="418"/>
                      </a:lnTo>
                      <a:lnTo>
                        <a:pt x="604" y="435"/>
                      </a:lnTo>
                      <a:lnTo>
                        <a:pt x="608" y="453"/>
                      </a:lnTo>
                      <a:lnTo>
                        <a:pt x="601" y="461"/>
                      </a:lnTo>
                      <a:lnTo>
                        <a:pt x="590" y="455"/>
                      </a:lnTo>
                      <a:lnTo>
                        <a:pt x="593" y="446"/>
                      </a:lnTo>
                      <a:lnTo>
                        <a:pt x="587" y="426"/>
                      </a:lnTo>
                      <a:lnTo>
                        <a:pt x="580" y="423"/>
                      </a:lnTo>
                      <a:lnTo>
                        <a:pt x="576" y="410"/>
                      </a:lnTo>
                      <a:lnTo>
                        <a:pt x="567" y="410"/>
                      </a:lnTo>
                      <a:lnTo>
                        <a:pt x="557" y="403"/>
                      </a:lnTo>
                      <a:lnTo>
                        <a:pt x="545" y="406"/>
                      </a:lnTo>
                      <a:lnTo>
                        <a:pt x="535" y="401"/>
                      </a:lnTo>
                      <a:lnTo>
                        <a:pt x="523" y="407"/>
                      </a:lnTo>
                      <a:lnTo>
                        <a:pt x="500" y="402"/>
                      </a:lnTo>
                      <a:lnTo>
                        <a:pt x="515" y="417"/>
                      </a:lnTo>
                      <a:lnTo>
                        <a:pt x="497" y="416"/>
                      </a:lnTo>
                      <a:lnTo>
                        <a:pt x="485" y="405"/>
                      </a:lnTo>
                      <a:lnTo>
                        <a:pt x="462" y="405"/>
                      </a:lnTo>
                      <a:lnTo>
                        <a:pt x="466" y="423"/>
                      </a:lnTo>
                      <a:lnTo>
                        <a:pt x="449" y="417"/>
                      </a:lnTo>
                      <a:lnTo>
                        <a:pt x="440" y="435"/>
                      </a:lnTo>
                      <a:lnTo>
                        <a:pt x="446" y="443"/>
                      </a:lnTo>
                      <a:lnTo>
                        <a:pt x="440" y="464"/>
                      </a:lnTo>
                      <a:lnTo>
                        <a:pt x="448" y="489"/>
                      </a:lnTo>
                      <a:lnTo>
                        <a:pt x="457" y="506"/>
                      </a:lnTo>
                      <a:lnTo>
                        <a:pt x="467" y="521"/>
                      </a:lnTo>
                      <a:lnTo>
                        <a:pt x="497" y="520"/>
                      </a:lnTo>
                      <a:lnTo>
                        <a:pt x="509" y="517"/>
                      </a:lnTo>
                      <a:lnTo>
                        <a:pt x="512" y="506"/>
                      </a:lnTo>
                      <a:lnTo>
                        <a:pt x="505" y="497"/>
                      </a:lnTo>
                      <a:lnTo>
                        <a:pt x="506" y="489"/>
                      </a:lnTo>
                      <a:lnTo>
                        <a:pt x="525" y="491"/>
                      </a:lnTo>
                      <a:lnTo>
                        <a:pt x="544" y="487"/>
                      </a:lnTo>
                      <a:lnTo>
                        <a:pt x="544" y="497"/>
                      </a:lnTo>
                      <a:lnTo>
                        <a:pt x="539" y="511"/>
                      </a:lnTo>
                      <a:lnTo>
                        <a:pt x="530" y="523"/>
                      </a:lnTo>
                      <a:lnTo>
                        <a:pt x="527" y="538"/>
                      </a:lnTo>
                      <a:lnTo>
                        <a:pt x="540" y="545"/>
                      </a:lnTo>
                      <a:lnTo>
                        <a:pt x="557" y="543"/>
                      </a:lnTo>
                      <a:lnTo>
                        <a:pt x="567" y="548"/>
                      </a:lnTo>
                      <a:lnTo>
                        <a:pt x="576" y="546"/>
                      </a:lnTo>
                      <a:lnTo>
                        <a:pt x="579" y="556"/>
                      </a:lnTo>
                      <a:lnTo>
                        <a:pt x="571" y="571"/>
                      </a:lnTo>
                      <a:lnTo>
                        <a:pt x="578" y="580"/>
                      </a:lnTo>
                      <a:lnTo>
                        <a:pt x="579" y="598"/>
                      </a:lnTo>
                      <a:lnTo>
                        <a:pt x="590" y="610"/>
                      </a:lnTo>
                      <a:lnTo>
                        <a:pt x="605" y="614"/>
                      </a:lnTo>
                      <a:lnTo>
                        <a:pt x="615" y="610"/>
                      </a:lnTo>
                      <a:lnTo>
                        <a:pt x="620" y="611"/>
                      </a:lnTo>
                      <a:lnTo>
                        <a:pt x="639" y="611"/>
                      </a:lnTo>
                      <a:lnTo>
                        <a:pt x="656" y="613"/>
                      </a:lnTo>
                      <a:lnTo>
                        <a:pt x="660" y="605"/>
                      </a:lnTo>
                      <a:lnTo>
                        <a:pt x="646" y="618"/>
                      </a:lnTo>
                      <a:lnTo>
                        <a:pt x="635" y="617"/>
                      </a:lnTo>
                      <a:lnTo>
                        <a:pt x="625" y="618"/>
                      </a:lnTo>
                      <a:lnTo>
                        <a:pt x="605" y="625"/>
                      </a:lnTo>
                      <a:lnTo>
                        <a:pt x="588" y="616"/>
                      </a:lnTo>
                      <a:lnTo>
                        <a:pt x="572" y="610"/>
                      </a:lnTo>
                      <a:lnTo>
                        <a:pt x="566" y="611"/>
                      </a:lnTo>
                      <a:lnTo>
                        <a:pt x="567" y="604"/>
                      </a:lnTo>
                      <a:lnTo>
                        <a:pt x="566" y="591"/>
                      </a:lnTo>
                      <a:lnTo>
                        <a:pt x="552" y="580"/>
                      </a:lnTo>
                      <a:lnTo>
                        <a:pt x="524" y="573"/>
                      </a:lnTo>
                      <a:lnTo>
                        <a:pt x="520" y="569"/>
                      </a:lnTo>
                      <a:lnTo>
                        <a:pt x="512" y="570"/>
                      </a:lnTo>
                      <a:lnTo>
                        <a:pt x="504" y="564"/>
                      </a:lnTo>
                      <a:lnTo>
                        <a:pt x="494" y="559"/>
                      </a:lnTo>
                      <a:lnTo>
                        <a:pt x="480" y="543"/>
                      </a:lnTo>
                      <a:lnTo>
                        <a:pt x="464" y="538"/>
                      </a:lnTo>
                      <a:lnTo>
                        <a:pt x="455" y="548"/>
                      </a:lnTo>
                      <a:lnTo>
                        <a:pt x="445" y="541"/>
                      </a:lnTo>
                      <a:lnTo>
                        <a:pt x="433" y="541"/>
                      </a:lnTo>
                      <a:lnTo>
                        <a:pt x="408" y="535"/>
                      </a:lnTo>
                      <a:lnTo>
                        <a:pt x="363" y="508"/>
                      </a:lnTo>
                      <a:lnTo>
                        <a:pt x="360" y="480"/>
                      </a:lnTo>
                      <a:lnTo>
                        <a:pt x="355" y="469"/>
                      </a:lnTo>
                      <a:lnTo>
                        <a:pt x="348" y="461"/>
                      </a:lnTo>
                      <a:lnTo>
                        <a:pt x="337" y="445"/>
                      </a:lnTo>
                      <a:lnTo>
                        <a:pt x="290" y="391"/>
                      </a:lnTo>
                      <a:lnTo>
                        <a:pt x="290" y="411"/>
                      </a:lnTo>
                      <a:lnTo>
                        <a:pt x="319" y="447"/>
                      </a:lnTo>
                      <a:lnTo>
                        <a:pt x="332" y="478"/>
                      </a:lnTo>
                      <a:lnTo>
                        <a:pt x="314" y="471"/>
                      </a:lnTo>
                      <a:lnTo>
                        <a:pt x="310" y="453"/>
                      </a:lnTo>
                      <a:lnTo>
                        <a:pt x="287" y="442"/>
                      </a:lnTo>
                      <a:lnTo>
                        <a:pt x="300" y="435"/>
                      </a:lnTo>
                      <a:lnTo>
                        <a:pt x="269" y="416"/>
                      </a:lnTo>
                      <a:lnTo>
                        <a:pt x="281" y="405"/>
                      </a:lnTo>
                      <a:lnTo>
                        <a:pt x="270" y="382"/>
                      </a:lnTo>
                      <a:lnTo>
                        <a:pt x="232" y="335"/>
                      </a:lnTo>
                      <a:lnTo>
                        <a:pt x="227" y="308"/>
                      </a:lnTo>
                      <a:lnTo>
                        <a:pt x="229" y="288"/>
                      </a:lnTo>
                      <a:lnTo>
                        <a:pt x="240" y="265"/>
                      </a:lnTo>
                      <a:lnTo>
                        <a:pt x="240" y="243"/>
                      </a:lnTo>
                      <a:lnTo>
                        <a:pt x="232" y="229"/>
                      </a:lnTo>
                      <a:lnTo>
                        <a:pt x="253" y="225"/>
                      </a:lnTo>
                      <a:lnTo>
                        <a:pt x="227" y="198"/>
                      </a:lnTo>
                      <a:lnTo>
                        <a:pt x="228" y="185"/>
                      </a:lnTo>
                      <a:lnTo>
                        <a:pt x="217" y="169"/>
                      </a:lnTo>
                      <a:lnTo>
                        <a:pt x="222" y="158"/>
                      </a:lnTo>
                      <a:lnTo>
                        <a:pt x="214" y="153"/>
                      </a:lnTo>
                      <a:lnTo>
                        <a:pt x="213" y="142"/>
                      </a:lnTo>
                      <a:lnTo>
                        <a:pt x="205" y="133"/>
                      </a:lnTo>
                      <a:lnTo>
                        <a:pt x="214" y="125"/>
                      </a:lnTo>
                      <a:lnTo>
                        <a:pt x="201" y="119"/>
                      </a:lnTo>
                      <a:lnTo>
                        <a:pt x="191" y="127"/>
                      </a:lnTo>
                      <a:lnTo>
                        <a:pt x="177" y="111"/>
                      </a:lnTo>
                      <a:lnTo>
                        <a:pt x="161" y="107"/>
                      </a:lnTo>
                      <a:lnTo>
                        <a:pt x="138" y="107"/>
                      </a:lnTo>
                      <a:lnTo>
                        <a:pt x="124" y="121"/>
                      </a:lnTo>
                      <a:lnTo>
                        <a:pt x="117" y="117"/>
                      </a:lnTo>
                      <a:lnTo>
                        <a:pt x="129" y="98"/>
                      </a:lnTo>
                      <a:lnTo>
                        <a:pt x="118" y="101"/>
                      </a:lnTo>
                      <a:lnTo>
                        <a:pt x="96" y="121"/>
                      </a:lnTo>
                      <a:lnTo>
                        <a:pt x="72" y="139"/>
                      </a:lnTo>
                      <a:lnTo>
                        <a:pt x="51" y="144"/>
                      </a:lnTo>
                      <a:lnTo>
                        <a:pt x="15" y="162"/>
                      </a:lnTo>
                      <a:lnTo>
                        <a:pt x="0" y="161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37"/>
                <p:cNvSpPr/>
                <p:nvPr/>
              </p:nvSpPr>
              <p:spPr>
                <a:xfrm>
                  <a:off x="2589120" y="1859040"/>
                  <a:ext cx="396720" cy="261720"/>
                </a:xfrm>
                <a:custGeom>
                  <a:avLst/>
                  <a:gdLst>
                    <a:gd name="textAreaLeft" fmla="*/ 0 w 396720"/>
                    <a:gd name="textAreaRight" fmla="*/ 397080 w 396720"/>
                    <a:gd name="textAreaTop" fmla="*/ 0 h 261720"/>
                    <a:gd name="textAreaBottom" fmla="*/ 262080 h 261720"/>
                  </a:gdLst>
                  <a:ahLst/>
                  <a:rect l="textAreaLeft" t="textAreaTop" r="textAreaRight" b="textAreaBottom"/>
                  <a:pathLst>
                    <a:path w="250" h="165">
                      <a:moveTo>
                        <a:pt x="0" y="34"/>
                      </a:moveTo>
                      <a:lnTo>
                        <a:pt x="6" y="21"/>
                      </a:lnTo>
                      <a:lnTo>
                        <a:pt x="6" y="12"/>
                      </a:lnTo>
                      <a:lnTo>
                        <a:pt x="15" y="0"/>
                      </a:lnTo>
                      <a:lnTo>
                        <a:pt x="60" y="8"/>
                      </a:lnTo>
                      <a:lnTo>
                        <a:pt x="137" y="22"/>
                      </a:lnTo>
                      <a:lnTo>
                        <a:pt x="168" y="35"/>
                      </a:lnTo>
                      <a:lnTo>
                        <a:pt x="208" y="46"/>
                      </a:lnTo>
                      <a:lnTo>
                        <a:pt x="229" y="67"/>
                      </a:lnTo>
                      <a:lnTo>
                        <a:pt x="249" y="77"/>
                      </a:lnTo>
                      <a:lnTo>
                        <a:pt x="241" y="85"/>
                      </a:lnTo>
                      <a:lnTo>
                        <a:pt x="241" y="95"/>
                      </a:lnTo>
                      <a:lnTo>
                        <a:pt x="233" y="98"/>
                      </a:lnTo>
                      <a:lnTo>
                        <a:pt x="226" y="107"/>
                      </a:lnTo>
                      <a:lnTo>
                        <a:pt x="233" y="116"/>
                      </a:lnTo>
                      <a:lnTo>
                        <a:pt x="232" y="122"/>
                      </a:lnTo>
                      <a:lnTo>
                        <a:pt x="224" y="131"/>
                      </a:lnTo>
                      <a:lnTo>
                        <a:pt x="225" y="140"/>
                      </a:lnTo>
                      <a:lnTo>
                        <a:pt x="239" y="149"/>
                      </a:lnTo>
                      <a:lnTo>
                        <a:pt x="240" y="158"/>
                      </a:lnTo>
                      <a:lnTo>
                        <a:pt x="236" y="163"/>
                      </a:lnTo>
                      <a:lnTo>
                        <a:pt x="223" y="164"/>
                      </a:lnTo>
                      <a:lnTo>
                        <a:pt x="213" y="159"/>
                      </a:lnTo>
                      <a:lnTo>
                        <a:pt x="202" y="148"/>
                      </a:lnTo>
                      <a:lnTo>
                        <a:pt x="197" y="148"/>
                      </a:lnTo>
                      <a:lnTo>
                        <a:pt x="191" y="144"/>
                      </a:lnTo>
                      <a:lnTo>
                        <a:pt x="186" y="130"/>
                      </a:lnTo>
                      <a:lnTo>
                        <a:pt x="179" y="126"/>
                      </a:lnTo>
                      <a:lnTo>
                        <a:pt x="164" y="119"/>
                      </a:lnTo>
                      <a:lnTo>
                        <a:pt x="152" y="114"/>
                      </a:lnTo>
                      <a:lnTo>
                        <a:pt x="134" y="102"/>
                      </a:lnTo>
                      <a:lnTo>
                        <a:pt x="126" y="93"/>
                      </a:lnTo>
                      <a:lnTo>
                        <a:pt x="127" y="86"/>
                      </a:lnTo>
                      <a:lnTo>
                        <a:pt x="135" y="81"/>
                      </a:lnTo>
                      <a:lnTo>
                        <a:pt x="128" y="74"/>
                      </a:lnTo>
                      <a:lnTo>
                        <a:pt x="122" y="77"/>
                      </a:lnTo>
                      <a:lnTo>
                        <a:pt x="110" y="67"/>
                      </a:lnTo>
                      <a:lnTo>
                        <a:pt x="108" y="73"/>
                      </a:lnTo>
                      <a:lnTo>
                        <a:pt x="98" y="73"/>
                      </a:lnTo>
                      <a:lnTo>
                        <a:pt x="96" y="68"/>
                      </a:lnTo>
                      <a:lnTo>
                        <a:pt x="96" y="61"/>
                      </a:lnTo>
                      <a:lnTo>
                        <a:pt x="91" y="56"/>
                      </a:lnTo>
                      <a:lnTo>
                        <a:pt x="84" y="57"/>
                      </a:lnTo>
                      <a:lnTo>
                        <a:pt x="75" y="45"/>
                      </a:lnTo>
                      <a:lnTo>
                        <a:pt x="69" y="44"/>
                      </a:lnTo>
                      <a:lnTo>
                        <a:pt x="59" y="38"/>
                      </a:lnTo>
                      <a:lnTo>
                        <a:pt x="37" y="39"/>
                      </a:lnTo>
                      <a:lnTo>
                        <a:pt x="16" y="38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38"/>
                <p:cNvSpPr/>
                <p:nvPr/>
              </p:nvSpPr>
              <p:spPr>
                <a:xfrm>
                  <a:off x="2508120" y="1952640"/>
                  <a:ext cx="255600" cy="135000"/>
                </a:xfrm>
                <a:custGeom>
                  <a:avLst/>
                  <a:gdLst>
                    <a:gd name="textAreaLeft" fmla="*/ 0 w 255600"/>
                    <a:gd name="textAreaRight" fmla="*/ 255600 w 2556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61" h="85">
                      <a:moveTo>
                        <a:pt x="6" y="0"/>
                      </a:moveTo>
                      <a:lnTo>
                        <a:pt x="0" y="7"/>
                      </a:lnTo>
                      <a:lnTo>
                        <a:pt x="0" y="15"/>
                      </a:lnTo>
                      <a:lnTo>
                        <a:pt x="11" y="22"/>
                      </a:lnTo>
                      <a:lnTo>
                        <a:pt x="18" y="20"/>
                      </a:lnTo>
                      <a:lnTo>
                        <a:pt x="20" y="23"/>
                      </a:lnTo>
                      <a:lnTo>
                        <a:pt x="27" y="25"/>
                      </a:lnTo>
                      <a:lnTo>
                        <a:pt x="32" y="19"/>
                      </a:lnTo>
                      <a:lnTo>
                        <a:pt x="47" y="20"/>
                      </a:lnTo>
                      <a:lnTo>
                        <a:pt x="50" y="26"/>
                      </a:lnTo>
                      <a:lnTo>
                        <a:pt x="55" y="28"/>
                      </a:lnTo>
                      <a:lnTo>
                        <a:pt x="69" y="27"/>
                      </a:lnTo>
                      <a:lnTo>
                        <a:pt x="73" y="30"/>
                      </a:lnTo>
                      <a:lnTo>
                        <a:pt x="80" y="34"/>
                      </a:lnTo>
                      <a:lnTo>
                        <a:pt x="86" y="40"/>
                      </a:lnTo>
                      <a:lnTo>
                        <a:pt x="86" y="49"/>
                      </a:lnTo>
                      <a:lnTo>
                        <a:pt x="81" y="51"/>
                      </a:lnTo>
                      <a:lnTo>
                        <a:pt x="83" y="55"/>
                      </a:lnTo>
                      <a:lnTo>
                        <a:pt x="77" y="60"/>
                      </a:lnTo>
                      <a:lnTo>
                        <a:pt x="77" y="68"/>
                      </a:lnTo>
                      <a:lnTo>
                        <a:pt x="87" y="69"/>
                      </a:lnTo>
                      <a:lnTo>
                        <a:pt x="92" y="67"/>
                      </a:lnTo>
                      <a:lnTo>
                        <a:pt x="95" y="64"/>
                      </a:lnTo>
                      <a:lnTo>
                        <a:pt x="98" y="67"/>
                      </a:lnTo>
                      <a:lnTo>
                        <a:pt x="104" y="65"/>
                      </a:lnTo>
                      <a:lnTo>
                        <a:pt x="116" y="69"/>
                      </a:lnTo>
                      <a:lnTo>
                        <a:pt x="124" y="77"/>
                      </a:lnTo>
                      <a:lnTo>
                        <a:pt x="126" y="77"/>
                      </a:lnTo>
                      <a:lnTo>
                        <a:pt x="127" y="82"/>
                      </a:lnTo>
                      <a:lnTo>
                        <a:pt x="135" y="84"/>
                      </a:lnTo>
                      <a:lnTo>
                        <a:pt x="144" y="84"/>
                      </a:lnTo>
                      <a:lnTo>
                        <a:pt x="138" y="79"/>
                      </a:lnTo>
                      <a:lnTo>
                        <a:pt x="141" y="75"/>
                      </a:lnTo>
                      <a:lnTo>
                        <a:pt x="147" y="79"/>
                      </a:lnTo>
                      <a:lnTo>
                        <a:pt x="155" y="81"/>
                      </a:lnTo>
                      <a:lnTo>
                        <a:pt x="156" y="74"/>
                      </a:lnTo>
                      <a:lnTo>
                        <a:pt x="149" y="68"/>
                      </a:lnTo>
                      <a:lnTo>
                        <a:pt x="143" y="68"/>
                      </a:lnTo>
                      <a:lnTo>
                        <a:pt x="135" y="63"/>
                      </a:lnTo>
                      <a:lnTo>
                        <a:pt x="143" y="63"/>
                      </a:lnTo>
                      <a:lnTo>
                        <a:pt x="149" y="66"/>
                      </a:lnTo>
                      <a:lnTo>
                        <a:pt x="160" y="66"/>
                      </a:lnTo>
                      <a:lnTo>
                        <a:pt x="158" y="59"/>
                      </a:lnTo>
                      <a:lnTo>
                        <a:pt x="147" y="53"/>
                      </a:lnTo>
                      <a:lnTo>
                        <a:pt x="141" y="51"/>
                      </a:lnTo>
                      <a:lnTo>
                        <a:pt x="131" y="44"/>
                      </a:lnTo>
                      <a:lnTo>
                        <a:pt x="118" y="41"/>
                      </a:lnTo>
                      <a:lnTo>
                        <a:pt x="108" y="38"/>
                      </a:lnTo>
                      <a:lnTo>
                        <a:pt x="100" y="28"/>
                      </a:lnTo>
                      <a:lnTo>
                        <a:pt x="95" y="16"/>
                      </a:lnTo>
                      <a:lnTo>
                        <a:pt x="87" y="16"/>
                      </a:lnTo>
                      <a:lnTo>
                        <a:pt x="84" y="12"/>
                      </a:lnTo>
                      <a:lnTo>
                        <a:pt x="80" y="13"/>
                      </a:lnTo>
                      <a:lnTo>
                        <a:pt x="72" y="8"/>
                      </a:lnTo>
                      <a:lnTo>
                        <a:pt x="59" y="6"/>
                      </a:lnTo>
                      <a:lnTo>
                        <a:pt x="53" y="9"/>
                      </a:lnTo>
                      <a:lnTo>
                        <a:pt x="41" y="6"/>
                      </a:lnTo>
                      <a:lnTo>
                        <a:pt x="33" y="6"/>
                      </a:lnTo>
                      <a:lnTo>
                        <a:pt x="29" y="1"/>
                      </a:lnTo>
                      <a:lnTo>
                        <a:pt x="26" y="0"/>
                      </a:lnTo>
                      <a:lnTo>
                        <a:pt x="20" y="1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39"/>
                <p:cNvSpPr/>
                <p:nvPr/>
              </p:nvSpPr>
              <p:spPr>
                <a:xfrm>
                  <a:off x="2651040" y="2700360"/>
                  <a:ext cx="182520" cy="619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115" h="39">
                      <a:moveTo>
                        <a:pt x="0" y="19"/>
                      </a:moveTo>
                      <a:lnTo>
                        <a:pt x="10" y="8"/>
                      </a:lnTo>
                      <a:lnTo>
                        <a:pt x="15" y="8"/>
                      </a:lnTo>
                      <a:lnTo>
                        <a:pt x="23" y="2"/>
                      </a:lnTo>
                      <a:lnTo>
                        <a:pt x="32" y="2"/>
                      </a:lnTo>
                      <a:lnTo>
                        <a:pt x="34" y="1"/>
                      </a:lnTo>
                      <a:lnTo>
                        <a:pt x="37" y="0"/>
                      </a:lnTo>
                      <a:lnTo>
                        <a:pt x="48" y="7"/>
                      </a:lnTo>
                      <a:lnTo>
                        <a:pt x="52" y="11"/>
                      </a:lnTo>
                      <a:lnTo>
                        <a:pt x="54" y="9"/>
                      </a:lnTo>
                      <a:lnTo>
                        <a:pt x="63" y="13"/>
                      </a:lnTo>
                      <a:lnTo>
                        <a:pt x="69" y="13"/>
                      </a:lnTo>
                      <a:lnTo>
                        <a:pt x="73" y="17"/>
                      </a:lnTo>
                      <a:lnTo>
                        <a:pt x="81" y="19"/>
                      </a:lnTo>
                      <a:lnTo>
                        <a:pt x="81" y="25"/>
                      </a:lnTo>
                      <a:lnTo>
                        <a:pt x="96" y="25"/>
                      </a:lnTo>
                      <a:lnTo>
                        <a:pt x="99" y="30"/>
                      </a:lnTo>
                      <a:lnTo>
                        <a:pt x="108" y="30"/>
                      </a:lnTo>
                      <a:lnTo>
                        <a:pt x="114" y="37"/>
                      </a:lnTo>
                      <a:lnTo>
                        <a:pt x="110" y="38"/>
                      </a:lnTo>
                      <a:lnTo>
                        <a:pt x="108" y="36"/>
                      </a:lnTo>
                      <a:lnTo>
                        <a:pt x="107" y="35"/>
                      </a:lnTo>
                      <a:lnTo>
                        <a:pt x="99" y="36"/>
                      </a:lnTo>
                      <a:lnTo>
                        <a:pt x="97" y="37"/>
                      </a:lnTo>
                      <a:lnTo>
                        <a:pt x="90" y="38"/>
                      </a:lnTo>
                      <a:lnTo>
                        <a:pt x="80" y="38"/>
                      </a:lnTo>
                      <a:lnTo>
                        <a:pt x="73" y="38"/>
                      </a:lnTo>
                      <a:lnTo>
                        <a:pt x="73" y="35"/>
                      </a:lnTo>
                      <a:lnTo>
                        <a:pt x="63" y="26"/>
                      </a:lnTo>
                      <a:lnTo>
                        <a:pt x="63" y="20"/>
                      </a:lnTo>
                      <a:lnTo>
                        <a:pt x="52" y="20"/>
                      </a:lnTo>
                      <a:lnTo>
                        <a:pt x="47" y="17"/>
                      </a:lnTo>
                      <a:lnTo>
                        <a:pt x="44" y="20"/>
                      </a:lnTo>
                      <a:lnTo>
                        <a:pt x="41" y="16"/>
                      </a:lnTo>
                      <a:lnTo>
                        <a:pt x="37" y="16"/>
                      </a:lnTo>
                      <a:lnTo>
                        <a:pt x="37" y="10"/>
                      </a:lnTo>
                      <a:lnTo>
                        <a:pt x="34" y="8"/>
                      </a:lnTo>
                      <a:lnTo>
                        <a:pt x="24" y="9"/>
                      </a:lnTo>
                      <a:lnTo>
                        <a:pt x="17" y="16"/>
                      </a:lnTo>
                      <a:lnTo>
                        <a:pt x="9" y="17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40"/>
                <p:cNvSpPr/>
                <p:nvPr/>
              </p:nvSpPr>
              <p:spPr>
                <a:xfrm>
                  <a:off x="2811240" y="2744640"/>
                  <a:ext cx="115920" cy="54000"/>
                </a:xfrm>
                <a:custGeom>
                  <a:avLst/>
                  <a:gdLst>
                    <a:gd name="textAreaLeft" fmla="*/ 0 w 115920"/>
                    <a:gd name="textAreaRight" fmla="*/ 116280 w 115920"/>
                    <a:gd name="textAreaTop" fmla="*/ 0 h 54000"/>
                    <a:gd name="textAreaBottom" fmla="*/ 54360 h 54000"/>
                  </a:gdLst>
                  <a:ahLst/>
                  <a:rect l="textAreaLeft" t="textAreaTop" r="textAreaRight" b="textAreaBottom"/>
                  <a:pathLst>
                    <a:path w="73" h="34">
                      <a:moveTo>
                        <a:pt x="0" y="25"/>
                      </a:moveTo>
                      <a:lnTo>
                        <a:pt x="7" y="26"/>
                      </a:lnTo>
                      <a:lnTo>
                        <a:pt x="22" y="25"/>
                      </a:lnTo>
                      <a:lnTo>
                        <a:pt x="29" y="32"/>
                      </a:lnTo>
                      <a:lnTo>
                        <a:pt x="38" y="33"/>
                      </a:lnTo>
                      <a:lnTo>
                        <a:pt x="43" y="25"/>
                      </a:lnTo>
                      <a:lnTo>
                        <a:pt x="40" y="23"/>
                      </a:lnTo>
                      <a:lnTo>
                        <a:pt x="45" y="19"/>
                      </a:lnTo>
                      <a:lnTo>
                        <a:pt x="54" y="25"/>
                      </a:lnTo>
                      <a:lnTo>
                        <a:pt x="61" y="25"/>
                      </a:lnTo>
                      <a:lnTo>
                        <a:pt x="61" y="22"/>
                      </a:lnTo>
                      <a:lnTo>
                        <a:pt x="65" y="22"/>
                      </a:lnTo>
                      <a:lnTo>
                        <a:pt x="72" y="16"/>
                      </a:lnTo>
                      <a:lnTo>
                        <a:pt x="67" y="15"/>
                      </a:lnTo>
                      <a:lnTo>
                        <a:pt x="67" y="9"/>
                      </a:lnTo>
                      <a:lnTo>
                        <a:pt x="67" y="5"/>
                      </a:lnTo>
                      <a:lnTo>
                        <a:pt x="57" y="3"/>
                      </a:lnTo>
                      <a:lnTo>
                        <a:pt x="49" y="5"/>
                      </a:lnTo>
                      <a:lnTo>
                        <a:pt x="43" y="5"/>
                      </a:lnTo>
                      <a:lnTo>
                        <a:pt x="33" y="3"/>
                      </a:lnTo>
                      <a:lnTo>
                        <a:pt x="25" y="0"/>
                      </a:lnTo>
                      <a:lnTo>
                        <a:pt x="22" y="3"/>
                      </a:lnTo>
                      <a:lnTo>
                        <a:pt x="21" y="10"/>
                      </a:lnTo>
                      <a:lnTo>
                        <a:pt x="13" y="10"/>
                      </a:lnTo>
                      <a:lnTo>
                        <a:pt x="11" y="16"/>
                      </a:lnTo>
                      <a:lnTo>
                        <a:pt x="7" y="18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41"/>
                <p:cNvSpPr/>
                <p:nvPr/>
              </p:nvSpPr>
              <p:spPr>
                <a:xfrm>
                  <a:off x="2736720" y="2895480"/>
                  <a:ext cx="736560" cy="1087560"/>
                </a:xfrm>
                <a:custGeom>
                  <a:avLst/>
                  <a:gdLst>
                    <a:gd name="textAreaLeft" fmla="*/ 0 w 736560"/>
                    <a:gd name="textAreaRight" fmla="*/ 736920 w 736560"/>
                    <a:gd name="textAreaTop" fmla="*/ 0 h 1087560"/>
                    <a:gd name="textAreaBottom" fmla="*/ 1087920 h 1087560"/>
                  </a:gdLst>
                  <a:ahLst/>
                  <a:rect l="textAreaLeft" t="textAreaTop" r="textAreaRight" b="textAreaBottom"/>
                  <a:pathLst>
                    <a:path w="464" h="685">
                      <a:moveTo>
                        <a:pt x="36" y="30"/>
                      </a:moveTo>
                      <a:lnTo>
                        <a:pt x="42" y="22"/>
                      </a:lnTo>
                      <a:lnTo>
                        <a:pt x="53" y="11"/>
                      </a:lnTo>
                      <a:lnTo>
                        <a:pt x="70" y="4"/>
                      </a:lnTo>
                      <a:lnTo>
                        <a:pt x="79" y="0"/>
                      </a:lnTo>
                      <a:lnTo>
                        <a:pt x="88" y="1"/>
                      </a:lnTo>
                      <a:lnTo>
                        <a:pt x="86" y="7"/>
                      </a:lnTo>
                      <a:lnTo>
                        <a:pt x="75" y="12"/>
                      </a:lnTo>
                      <a:lnTo>
                        <a:pt x="73" y="24"/>
                      </a:lnTo>
                      <a:lnTo>
                        <a:pt x="75" y="33"/>
                      </a:lnTo>
                      <a:lnTo>
                        <a:pt x="84" y="33"/>
                      </a:lnTo>
                      <a:lnTo>
                        <a:pt x="88" y="22"/>
                      </a:lnTo>
                      <a:lnTo>
                        <a:pt x="90" y="12"/>
                      </a:lnTo>
                      <a:lnTo>
                        <a:pt x="96" y="16"/>
                      </a:lnTo>
                      <a:lnTo>
                        <a:pt x="102" y="21"/>
                      </a:lnTo>
                      <a:lnTo>
                        <a:pt x="114" y="19"/>
                      </a:lnTo>
                      <a:lnTo>
                        <a:pt x="121" y="24"/>
                      </a:lnTo>
                      <a:lnTo>
                        <a:pt x="123" y="29"/>
                      </a:lnTo>
                      <a:lnTo>
                        <a:pt x="140" y="27"/>
                      </a:lnTo>
                      <a:lnTo>
                        <a:pt x="173" y="24"/>
                      </a:lnTo>
                      <a:lnTo>
                        <a:pt x="186" y="42"/>
                      </a:lnTo>
                      <a:lnTo>
                        <a:pt x="207" y="51"/>
                      </a:lnTo>
                      <a:lnTo>
                        <a:pt x="206" y="58"/>
                      </a:lnTo>
                      <a:lnTo>
                        <a:pt x="215" y="54"/>
                      </a:lnTo>
                      <a:lnTo>
                        <a:pt x="225" y="54"/>
                      </a:lnTo>
                      <a:lnTo>
                        <a:pt x="238" y="62"/>
                      </a:lnTo>
                      <a:lnTo>
                        <a:pt x="252" y="61"/>
                      </a:lnTo>
                      <a:lnTo>
                        <a:pt x="265" y="62"/>
                      </a:lnTo>
                      <a:lnTo>
                        <a:pt x="285" y="76"/>
                      </a:lnTo>
                      <a:lnTo>
                        <a:pt x="306" y="94"/>
                      </a:lnTo>
                      <a:lnTo>
                        <a:pt x="315" y="115"/>
                      </a:lnTo>
                      <a:lnTo>
                        <a:pt x="310" y="130"/>
                      </a:lnTo>
                      <a:lnTo>
                        <a:pt x="336" y="136"/>
                      </a:lnTo>
                      <a:lnTo>
                        <a:pt x="378" y="144"/>
                      </a:lnTo>
                      <a:lnTo>
                        <a:pt x="422" y="153"/>
                      </a:lnTo>
                      <a:lnTo>
                        <a:pt x="450" y="171"/>
                      </a:lnTo>
                      <a:lnTo>
                        <a:pt x="463" y="188"/>
                      </a:lnTo>
                      <a:lnTo>
                        <a:pt x="463" y="209"/>
                      </a:lnTo>
                      <a:lnTo>
                        <a:pt x="452" y="228"/>
                      </a:lnTo>
                      <a:lnTo>
                        <a:pt x="439" y="238"/>
                      </a:lnTo>
                      <a:lnTo>
                        <a:pt x="431" y="245"/>
                      </a:lnTo>
                      <a:lnTo>
                        <a:pt x="422" y="259"/>
                      </a:lnTo>
                      <a:lnTo>
                        <a:pt x="421" y="271"/>
                      </a:lnTo>
                      <a:lnTo>
                        <a:pt x="422" y="287"/>
                      </a:lnTo>
                      <a:lnTo>
                        <a:pt x="418" y="303"/>
                      </a:lnTo>
                      <a:lnTo>
                        <a:pt x="411" y="306"/>
                      </a:lnTo>
                      <a:lnTo>
                        <a:pt x="409" y="315"/>
                      </a:lnTo>
                      <a:lnTo>
                        <a:pt x="401" y="322"/>
                      </a:lnTo>
                      <a:lnTo>
                        <a:pt x="400" y="330"/>
                      </a:lnTo>
                      <a:lnTo>
                        <a:pt x="390" y="339"/>
                      </a:lnTo>
                      <a:lnTo>
                        <a:pt x="374" y="354"/>
                      </a:lnTo>
                      <a:lnTo>
                        <a:pt x="360" y="359"/>
                      </a:lnTo>
                      <a:lnTo>
                        <a:pt x="351" y="358"/>
                      </a:lnTo>
                      <a:lnTo>
                        <a:pt x="334" y="366"/>
                      </a:lnTo>
                      <a:lnTo>
                        <a:pt x="318" y="384"/>
                      </a:lnTo>
                      <a:lnTo>
                        <a:pt x="314" y="390"/>
                      </a:lnTo>
                      <a:lnTo>
                        <a:pt x="314" y="399"/>
                      </a:lnTo>
                      <a:lnTo>
                        <a:pt x="318" y="409"/>
                      </a:lnTo>
                      <a:lnTo>
                        <a:pt x="310" y="420"/>
                      </a:lnTo>
                      <a:lnTo>
                        <a:pt x="310" y="427"/>
                      </a:lnTo>
                      <a:lnTo>
                        <a:pt x="296" y="436"/>
                      </a:lnTo>
                      <a:lnTo>
                        <a:pt x="286" y="443"/>
                      </a:lnTo>
                      <a:lnTo>
                        <a:pt x="278" y="453"/>
                      </a:lnTo>
                      <a:lnTo>
                        <a:pt x="275" y="463"/>
                      </a:lnTo>
                      <a:lnTo>
                        <a:pt x="264" y="476"/>
                      </a:lnTo>
                      <a:lnTo>
                        <a:pt x="259" y="474"/>
                      </a:lnTo>
                      <a:lnTo>
                        <a:pt x="250" y="474"/>
                      </a:lnTo>
                      <a:lnTo>
                        <a:pt x="239" y="478"/>
                      </a:lnTo>
                      <a:lnTo>
                        <a:pt x="247" y="484"/>
                      </a:lnTo>
                      <a:lnTo>
                        <a:pt x="247" y="495"/>
                      </a:lnTo>
                      <a:lnTo>
                        <a:pt x="246" y="504"/>
                      </a:lnTo>
                      <a:lnTo>
                        <a:pt x="240" y="511"/>
                      </a:lnTo>
                      <a:lnTo>
                        <a:pt x="225" y="512"/>
                      </a:lnTo>
                      <a:lnTo>
                        <a:pt x="214" y="515"/>
                      </a:lnTo>
                      <a:lnTo>
                        <a:pt x="208" y="522"/>
                      </a:lnTo>
                      <a:lnTo>
                        <a:pt x="208" y="533"/>
                      </a:lnTo>
                      <a:lnTo>
                        <a:pt x="195" y="534"/>
                      </a:lnTo>
                      <a:lnTo>
                        <a:pt x="184" y="533"/>
                      </a:lnTo>
                      <a:lnTo>
                        <a:pt x="180" y="538"/>
                      </a:lnTo>
                      <a:lnTo>
                        <a:pt x="186" y="542"/>
                      </a:lnTo>
                      <a:lnTo>
                        <a:pt x="182" y="559"/>
                      </a:lnTo>
                      <a:lnTo>
                        <a:pt x="178" y="574"/>
                      </a:lnTo>
                      <a:lnTo>
                        <a:pt x="163" y="574"/>
                      </a:lnTo>
                      <a:lnTo>
                        <a:pt x="159" y="579"/>
                      </a:lnTo>
                      <a:lnTo>
                        <a:pt x="160" y="591"/>
                      </a:lnTo>
                      <a:lnTo>
                        <a:pt x="168" y="591"/>
                      </a:lnTo>
                      <a:lnTo>
                        <a:pt x="173" y="597"/>
                      </a:lnTo>
                      <a:lnTo>
                        <a:pt x="170" y="609"/>
                      </a:lnTo>
                      <a:lnTo>
                        <a:pt x="162" y="610"/>
                      </a:lnTo>
                      <a:lnTo>
                        <a:pt x="150" y="614"/>
                      </a:lnTo>
                      <a:lnTo>
                        <a:pt x="146" y="623"/>
                      </a:lnTo>
                      <a:lnTo>
                        <a:pt x="145" y="637"/>
                      </a:lnTo>
                      <a:lnTo>
                        <a:pt x="137" y="643"/>
                      </a:lnTo>
                      <a:lnTo>
                        <a:pt x="166" y="666"/>
                      </a:lnTo>
                      <a:lnTo>
                        <a:pt x="173" y="677"/>
                      </a:lnTo>
                      <a:lnTo>
                        <a:pt x="169" y="684"/>
                      </a:lnTo>
                      <a:lnTo>
                        <a:pt x="157" y="679"/>
                      </a:lnTo>
                      <a:lnTo>
                        <a:pt x="146" y="670"/>
                      </a:lnTo>
                      <a:lnTo>
                        <a:pt x="132" y="664"/>
                      </a:lnTo>
                      <a:lnTo>
                        <a:pt x="118" y="652"/>
                      </a:lnTo>
                      <a:lnTo>
                        <a:pt x="109" y="639"/>
                      </a:lnTo>
                      <a:lnTo>
                        <a:pt x="108" y="628"/>
                      </a:lnTo>
                      <a:lnTo>
                        <a:pt x="110" y="619"/>
                      </a:lnTo>
                      <a:lnTo>
                        <a:pt x="109" y="546"/>
                      </a:lnTo>
                      <a:lnTo>
                        <a:pt x="106" y="533"/>
                      </a:lnTo>
                      <a:lnTo>
                        <a:pt x="96" y="520"/>
                      </a:lnTo>
                      <a:lnTo>
                        <a:pt x="96" y="507"/>
                      </a:lnTo>
                      <a:lnTo>
                        <a:pt x="102" y="493"/>
                      </a:lnTo>
                      <a:lnTo>
                        <a:pt x="108" y="475"/>
                      </a:lnTo>
                      <a:lnTo>
                        <a:pt x="106" y="457"/>
                      </a:lnTo>
                      <a:lnTo>
                        <a:pt x="105" y="449"/>
                      </a:lnTo>
                      <a:lnTo>
                        <a:pt x="104" y="439"/>
                      </a:lnTo>
                      <a:lnTo>
                        <a:pt x="107" y="434"/>
                      </a:lnTo>
                      <a:lnTo>
                        <a:pt x="109" y="414"/>
                      </a:lnTo>
                      <a:lnTo>
                        <a:pt x="107" y="404"/>
                      </a:lnTo>
                      <a:lnTo>
                        <a:pt x="111" y="379"/>
                      </a:lnTo>
                      <a:lnTo>
                        <a:pt x="107" y="358"/>
                      </a:lnTo>
                      <a:lnTo>
                        <a:pt x="110" y="346"/>
                      </a:lnTo>
                      <a:lnTo>
                        <a:pt x="116" y="325"/>
                      </a:lnTo>
                      <a:lnTo>
                        <a:pt x="110" y="312"/>
                      </a:lnTo>
                      <a:lnTo>
                        <a:pt x="99" y="301"/>
                      </a:lnTo>
                      <a:lnTo>
                        <a:pt x="96" y="290"/>
                      </a:lnTo>
                      <a:lnTo>
                        <a:pt x="83" y="280"/>
                      </a:lnTo>
                      <a:lnTo>
                        <a:pt x="70" y="273"/>
                      </a:lnTo>
                      <a:lnTo>
                        <a:pt x="51" y="270"/>
                      </a:lnTo>
                      <a:lnTo>
                        <a:pt x="42" y="255"/>
                      </a:lnTo>
                      <a:lnTo>
                        <a:pt x="29" y="241"/>
                      </a:lnTo>
                      <a:lnTo>
                        <a:pt x="28" y="228"/>
                      </a:lnTo>
                      <a:lnTo>
                        <a:pt x="27" y="217"/>
                      </a:lnTo>
                      <a:lnTo>
                        <a:pt x="24" y="209"/>
                      </a:lnTo>
                      <a:lnTo>
                        <a:pt x="17" y="200"/>
                      </a:lnTo>
                      <a:lnTo>
                        <a:pt x="8" y="196"/>
                      </a:lnTo>
                      <a:lnTo>
                        <a:pt x="1" y="187"/>
                      </a:lnTo>
                      <a:lnTo>
                        <a:pt x="9" y="179"/>
                      </a:lnTo>
                      <a:lnTo>
                        <a:pt x="9" y="160"/>
                      </a:lnTo>
                      <a:lnTo>
                        <a:pt x="5" y="150"/>
                      </a:lnTo>
                      <a:lnTo>
                        <a:pt x="0" y="139"/>
                      </a:lnTo>
                      <a:lnTo>
                        <a:pt x="5" y="125"/>
                      </a:lnTo>
                      <a:lnTo>
                        <a:pt x="23" y="89"/>
                      </a:lnTo>
                      <a:lnTo>
                        <a:pt x="24" y="73"/>
                      </a:lnTo>
                      <a:lnTo>
                        <a:pt x="34" y="56"/>
                      </a:lnTo>
                      <a:lnTo>
                        <a:pt x="34" y="47"/>
                      </a:lnTo>
                      <a:lnTo>
                        <a:pt x="36" y="30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39536b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3" name="Rectangle 142"/>
          <p:cNvSpPr/>
          <p:nvPr/>
        </p:nvSpPr>
        <p:spPr>
          <a:xfrm>
            <a:off x="1356840" y="2262240"/>
            <a:ext cx="527328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10800" spc="-1" strike="noStrike">
                <a:solidFill>
                  <a:srgbClr val="9c2108"/>
                </a:solidFill>
                <a:latin typeface="Century Schoolbook"/>
              </a:rPr>
              <a:t>WebWiz</a:t>
            </a:r>
            <a:endParaRPr b="0" lang="en-US" sz="108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i="1" lang="en-US" sz="3100" spc="-1" strike="noStrike">
                <a:solidFill>
                  <a:srgbClr val="9c2108"/>
                </a:solidFill>
                <a:latin typeface="Century Schoolbook"/>
              </a:rPr>
              <a:t>A WebInc Product</a:t>
            </a:r>
            <a:endParaRPr b="0" lang="en-US" sz="3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 Business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our new Web product, has been wide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ised by software expe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have scheduled a demonstration at a trade show in 2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eting would like to launch a major ad campaign this wee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CEO will not agree to the campaign unless this committee assures him that the product will ship within 24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designed for use on the Windows and Linux  plat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elease 1 has three essential but independent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LENET component provides system control.  It has completed testing and is ready for shi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OMGR provides the user interface.  Lisa, the team leader, estimates it will be completed in 19.5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PSNET component provides user application functions. Jeff, the team leader, estimates it will be done in 18.6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ss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h team leaders believe that their teams will finish within the 24 weeks avail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assurance has examined the project’s data and told the CEO that the 24-week date is very risk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duct Manager Recommendatio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 is on schedule and will finish in 20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s are confident that their work will be completed in tha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should proceed with plans for the demonstration in 24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ight of the Quality Assurance position, the CEO has asked that this committee recommend what to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 &amp; A Perio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now answer any questions regarding the WebWiz projec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t from QA has analyzed WebInc’s software work and will help me provide additional project detai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Re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have the information you need, write your name and decision on the form provi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state your decision alou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ive the specific date when you feel the project will be ready to 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on the form your one or two principal reasons for selecting this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so include your recommendation for what the CEO should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Any ques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4345920" y="4749840"/>
            <a:ext cx="19033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39536b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5 minutes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67" name="Picture 5" descr=""/>
          <p:cNvPicPr/>
          <p:nvPr/>
        </p:nvPicPr>
        <p:blipFill>
          <a:blip r:embed="rId2"/>
          <a:stretch/>
        </p:blipFill>
        <p:spPr>
          <a:xfrm>
            <a:off x="3540240" y="4459320"/>
            <a:ext cx="64908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Conclus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a wealth of potentially valuable data 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can help you to make sound busin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s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these data to effectively manage a software-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nsiv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 not ask for these data, you will not get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Following are some example data that a TSP team could provid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9280"/>
            <a:ext cx="77565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is exercise is to show how to use TSP data to manage a software-intensiv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shows h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performance impacts projec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can use TSP data to improve project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s can use TSP data to make business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s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 a business situ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a project recommenda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 for your appro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ask for any information you need and then make your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370400" y="5297400"/>
            <a:ext cx="20937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39536b"/>
              </a:buClr>
              <a:buFont typeface="Arial"/>
              <a:buChar char=" 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60 minutes</a:t>
            </a:r>
            <a:endParaRPr b="0" lang="en-US" sz="27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3565440" y="5005440"/>
            <a:ext cx="66060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Roles and Proced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09280"/>
            <a:ext cx="77565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1:  Chris is project manager of a major software product and will chair the ses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2:  Pat is the WebInc quality assurance manager who has assessed this project and reported to the CE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ees:  You are a management committee that the CE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asked to review this project and make a recommend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ris will present the proposal and invit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ask for any information you need to make a sound business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ris and Pat will answer to the best of their abi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ris and Pat will not volunteer information other than what they initially present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 not ask for additional information, they will not furnish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have asked all of your questions, make your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state your decision out lou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your name and decision on the form we will prov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specific.  Give the week number when you feel the project will be ready to 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on the form the main one or two reasons for selecting this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discuss your answers as well as other ways you could have used the data to make your d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it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bWiz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a new WWW product, is scheduled to ship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20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tu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bInc is a new company that has not yet made a prof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EO has promised the investors that it will make a profit this ye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it does not, the investors will not provide further fun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duct ships in 30 weeks, finance believes that WebInc can meet its pro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7:09:41Z</dcterms:created>
  <dc:creator>dburton</dc:creator>
  <dc:description/>
  <cp:keywords/>
  <dc:language>en-US</dc:language>
  <cp:lastModifiedBy>wrn_loc_adm</cp:lastModifiedBy>
  <cp:lastPrinted>2001-07-23T13:49:01Z</cp:lastPrinted>
  <dcterms:modified xsi:type="dcterms:W3CDTF">2018-09-06T00:17:55Z</dcterms:modified>
  <cp:revision>8</cp:revision>
  <dc:subject>24 July 2001 / 3:30pm</dc:subject>
  <dc:title>Slide 1</dc:title>
</cp:coreProperties>
</file>